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E14-2037-4D75-9497-295018AF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F94-AC3B-4184-A6CF-2C4E72B0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631-9E0E-4E5D-96D7-3A846184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0AA-842B-4823-9F62-4797FF4E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09A-14EE-4D9A-8E50-21277D3A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96B-22F1-4339-97B1-160C1B79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C64-8E56-4843-8EBB-29D9AA8D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7DF-671D-4371-9FA4-F718B211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9B8-26CF-47C9-B4A9-754A5A33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5A6-B4CC-43EA-BBAC-B6202D23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F95-8DE6-478B-8B21-53C7D14F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DFC-8107-4355-B918-2544C3D1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271440" y="6552720"/>
            <a:ext cx="5410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3th World AIDS Conference, Durba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D00D-ABC2-4BFD-BE49-191CF418E50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712360" y="6583320"/>
          <a:ext cx="458640" cy="2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2360" y="6583320"/>
                    <a:ext cx="45864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9400" y="2384280"/>
            <a:ext cx="8078760" cy="362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APPORT DES ENQUÊTES SOCIO-COMPORTEMENTALES POUR LA PRISE EN CHARGE CLINIQUE DU PATIENT VIH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uno SP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NSERM U379/ORS-P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315200" y="5791320"/>
          <a:ext cx="1828800" cy="109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5791320"/>
                    <a:ext cx="18288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rcRect l="0" t="0" r="0" b="2552"/>
          <a:stretch/>
        </p:blipFill>
        <p:spPr>
          <a:xfrm>
            <a:off x="76320" y="5781600"/>
            <a:ext cx="18288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0880" y="154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uccès virologique après 3 ans</a:t>
            </a:r>
            <a:br>
              <a:rPr sz="3200"/>
            </a:b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de traitement et observanc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3040" y="5616720"/>
            <a:ext cx="78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r 360 patients toujours répondants aux question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195880" y="4824000"/>
            <a:ext cx="14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79920" y="3567240"/>
            <a:ext cx="644760" cy="125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94560" y="3076560"/>
            <a:ext cx="657000" cy="1747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83360" y="3060720"/>
            <a:ext cx="642960" cy="1763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02200" y="2754360"/>
            <a:ext cx="1440" cy="2070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41720" y="4824360"/>
            <a:ext cx="60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41720" y="4532400"/>
            <a:ext cx="604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41720" y="4226040"/>
            <a:ext cx="604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41720" y="3933720"/>
            <a:ext cx="604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41720" y="3645000"/>
            <a:ext cx="604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41720" y="3352680"/>
            <a:ext cx="604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41720" y="3046320"/>
            <a:ext cx="604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41720" y="2754360"/>
            <a:ext cx="604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002200" y="4795560"/>
            <a:ext cx="3633840" cy="28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002200" y="4824360"/>
            <a:ext cx="1440" cy="60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535800" y="4824360"/>
            <a:ext cx="0" cy="60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721640" y="4824360"/>
            <a:ext cx="0" cy="60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0160" y="273852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59,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16720" y="32446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42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27760" y="275436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59,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49480" y="4700520"/>
            <a:ext cx="10728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2560" y="4410000"/>
            <a:ext cx="21420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2560" y="4103640"/>
            <a:ext cx="21420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2560" y="3811680"/>
            <a:ext cx="21420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2560" y="3521160"/>
            <a:ext cx="21420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2560" y="3230640"/>
            <a:ext cx="21420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2560" y="2924280"/>
            <a:ext cx="21420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2560" y="2631960"/>
            <a:ext cx="21420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48320" y="4815000"/>
            <a:ext cx="2022480" cy="63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Au moins un épiso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e non-observ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=5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1600" y="4834080"/>
            <a:ext cx="1535040" cy="8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Observance modérée à élevé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=16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43880" y="4815000"/>
            <a:ext cx="1536480" cy="63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Observance toujours élevé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=12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92720" y="1557360"/>
            <a:ext cx="3478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M12             M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64240" y="1650960"/>
            <a:ext cx="868320" cy="485640"/>
          </a:xfrm>
          <a:prstGeom prst="rightArrow">
            <a:avLst>
              <a:gd name="adj1" fmla="val 50000"/>
              <a:gd name="adj2" fmla="val 447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3440" y="2338560"/>
            <a:ext cx="129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</a:rPr>
              <a:t>p=0.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79360" y="3776760"/>
            <a:ext cx="582840" cy="1023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98680" y="3570120"/>
            <a:ext cx="598680" cy="1230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18000" y="2916360"/>
            <a:ext cx="582480" cy="1884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42840" y="2768760"/>
            <a:ext cx="1800" cy="2031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80920" y="4800600"/>
            <a:ext cx="61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80920" y="4503600"/>
            <a:ext cx="61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" y="4222800"/>
            <a:ext cx="61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0920" y="3925800"/>
            <a:ext cx="61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80920" y="3643200"/>
            <a:ext cx="61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80920" y="3346560"/>
            <a:ext cx="61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80920" y="3065400"/>
            <a:ext cx="61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80920" y="2768760"/>
            <a:ext cx="61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42840" y="4800600"/>
            <a:ext cx="35560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42840" y="4800600"/>
            <a:ext cx="1800" cy="60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49480" y="4800600"/>
            <a:ext cx="1440" cy="60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19640" y="4800600"/>
            <a:ext cx="1440" cy="60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87360" y="3465360"/>
            <a:ext cx="444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5,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06680" y="3257640"/>
            <a:ext cx="444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42,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10160" y="2604960"/>
            <a:ext cx="444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64,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2200" y="4681440"/>
            <a:ext cx="99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3840" y="438624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840" y="410364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3840" y="380700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3840" y="352584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3840" y="322884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3840" y="294624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3840" y="264960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-653760" y="3588840"/>
            <a:ext cx="191016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% succès virologi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4834080"/>
            <a:ext cx="854280" cy="45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on-ob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=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93760" y="4834080"/>
            <a:ext cx="1261080" cy="45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Obs modéré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=1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32240" y="4834080"/>
            <a:ext cx="1084320" cy="45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Obs élevé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=2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13000" y="1557360"/>
            <a:ext cx="744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M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58880" y="2330280"/>
            <a:ext cx="129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</a:rPr>
              <a:t>p=0.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uccès immunologique à M36 et</a:t>
            </a:r>
            <a:br>
              <a:rPr sz="3200"/>
            </a:b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observance initiale à M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4560" y="3438360"/>
            <a:ext cx="1023840" cy="1872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2649600"/>
            <a:ext cx="1022400" cy="2660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29440" y="2403360"/>
            <a:ext cx="1022400" cy="2907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58920" y="1935000"/>
            <a:ext cx="1440" cy="3375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70000" y="5310360"/>
            <a:ext cx="88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70000" y="4816440"/>
            <a:ext cx="88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70000" y="4349880"/>
            <a:ext cx="88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70000" y="3855960"/>
            <a:ext cx="88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70000" y="3389400"/>
            <a:ext cx="88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70000" y="2895480"/>
            <a:ext cx="88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70000" y="2428920"/>
            <a:ext cx="88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70000" y="1935000"/>
            <a:ext cx="88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5310360"/>
            <a:ext cx="76708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258920" y="5310000"/>
            <a:ext cx="1440" cy="98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816360" y="5310000"/>
            <a:ext cx="1440" cy="98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373800" y="5310000"/>
            <a:ext cx="1440" cy="98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929800" y="5310000"/>
            <a:ext cx="1440" cy="98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34880" y="2921040"/>
            <a:ext cx="570600" cy="35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ffff"/>
                </a:solidFill>
                <a:latin typeface="Arial"/>
              </a:rPr>
              <a:t>38.7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14640" y="2131920"/>
            <a:ext cx="570600" cy="35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ffff"/>
                </a:solidFill>
                <a:latin typeface="Arial"/>
              </a:rPr>
              <a:t>55.2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49760" y="1886040"/>
            <a:ext cx="570600" cy="35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ffff"/>
                </a:solidFill>
                <a:latin typeface="Arial"/>
              </a:rPr>
              <a:t>60.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80920" y="5113440"/>
            <a:ext cx="13500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5760" y="4619520"/>
            <a:ext cx="26892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5760" y="4152960"/>
            <a:ext cx="26892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5760" y="3659040"/>
            <a:ext cx="26892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5760" y="3192480"/>
            <a:ext cx="26892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5760" y="2698920"/>
            <a:ext cx="26892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5760" y="2232000"/>
            <a:ext cx="26892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5760" y="1738440"/>
            <a:ext cx="26892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33200" y="5380200"/>
            <a:ext cx="11455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on-ob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=3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21080" y="5380200"/>
            <a:ext cx="17244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bs modér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=1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5880" y="5380200"/>
            <a:ext cx="13694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bs 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=2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74360" y="1547640"/>
            <a:ext cx="1477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p=0.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-1243080" y="3476880"/>
            <a:ext cx="3243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% gain de CD4&gt;200 à M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9160" y="6102360"/>
            <a:ext cx="78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r 360 patients toujours répondants aux question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9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Faut-il toujours rester 100% observant ?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03040" y="12682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observance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initial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joue un rôle majeur sur la réponse virologique et immunologique à 3 an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niveau requis d’observance au cours du suivi sembl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oins strict que celui de la période init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programmes de soutien doivent être renforcé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u début du trai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éanmoins, une observance modérée c’est &gt; 80 % !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P, 3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78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Approche de l’observanc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14200" y="1197000"/>
            <a:ext cx="914400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pproche « prédictive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cherche de facteurs individuels associés à une bonn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u à une mauvaise obser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iblage de populations éligibles pour le trai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erventions pour « corriger » le comportement avant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mise sous traitement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pproche « empathique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études prédictives sont basées sur des analyses transversales et ignorent l’aspect dynam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entrage sur l’ensemble des problèmes du 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4480" y="5911920"/>
            <a:ext cx="8399520" cy="86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acteurs associés à l’observance à M4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horte APROCO, n=4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85680" y="1538280"/>
            <a:ext cx="1800" cy="3936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71560" y="5475240"/>
            <a:ext cx="2286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71560" y="3506760"/>
            <a:ext cx="2286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71560" y="1538280"/>
            <a:ext cx="2286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85680" y="3506760"/>
            <a:ext cx="74581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28760" y="3605040"/>
            <a:ext cx="1440" cy="427320"/>
          </a:xfrm>
          <a:prstGeom prst="line">
            <a:avLst/>
          </a:prstGeom>
          <a:ln w="96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4560" y="1965240"/>
            <a:ext cx="1440" cy="1378080"/>
          </a:xfrm>
          <a:prstGeom prst="line">
            <a:avLst/>
          </a:prstGeom>
          <a:ln w="96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73360" y="2195640"/>
            <a:ext cx="0" cy="1279440"/>
          </a:xfrm>
          <a:prstGeom prst="line">
            <a:avLst/>
          </a:prstGeom>
          <a:ln w="96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9160" y="2227320"/>
            <a:ext cx="0" cy="1116000"/>
          </a:xfrm>
          <a:prstGeom prst="line">
            <a:avLst/>
          </a:prstGeom>
          <a:ln w="96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28760" y="3736800"/>
            <a:ext cx="58680" cy="3348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14560" y="2620800"/>
            <a:ext cx="58680" cy="3348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73360" y="2817720"/>
            <a:ext cx="55440" cy="3348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59160" y="2752560"/>
            <a:ext cx="55440" cy="3348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3840" y="5203800"/>
            <a:ext cx="496080" cy="46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0,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1480" y="3244680"/>
            <a:ext cx="198720" cy="46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9880" y="1266840"/>
            <a:ext cx="397080" cy="46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1640" y="4095720"/>
            <a:ext cx="666720" cy="5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ge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10a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06160" y="1328760"/>
            <a:ext cx="119412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o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éc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98640" y="3505320"/>
            <a:ext cx="1557360" cy="8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tien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38280" y="1370160"/>
            <a:ext cx="1897200" cy="8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blè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’ob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ntérie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55960" y="304920"/>
            <a:ext cx="2326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62400" y="5151600"/>
            <a:ext cx="2326680" cy="4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00" y="1722600"/>
            <a:ext cx="637920" cy="4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27640" y="287280"/>
            <a:ext cx="561600" cy="5508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05280" y="5172120"/>
            <a:ext cx="511560" cy="4899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95640" y="4906800"/>
            <a:ext cx="487692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ffff"/>
                </a:solidFill>
                <a:latin typeface="Arial"/>
              </a:rPr>
              <a:t>SPIRE </a:t>
            </a:r>
            <a:r>
              <a:rPr b="0" lang="en-GB" sz="1400" spc="-1" strike="noStrike">
                <a:solidFill>
                  <a:srgbClr val="00ffff"/>
                </a:solidFill>
                <a:latin typeface="Arial"/>
              </a:rPr>
              <a:t>Soc Sci Med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85680" y="1538280"/>
            <a:ext cx="1800" cy="3936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71560" y="5475240"/>
            <a:ext cx="2286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71560" y="3506760"/>
            <a:ext cx="2286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71560" y="1538280"/>
            <a:ext cx="2286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85680" y="3506760"/>
            <a:ext cx="74581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28760" y="3605040"/>
            <a:ext cx="1440" cy="427320"/>
          </a:xfrm>
          <a:prstGeom prst="line">
            <a:avLst/>
          </a:prstGeom>
          <a:ln w="96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14560" y="1965240"/>
            <a:ext cx="1440" cy="1378080"/>
          </a:xfrm>
          <a:prstGeom prst="line">
            <a:avLst/>
          </a:prstGeom>
          <a:ln w="96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73360" y="2195640"/>
            <a:ext cx="0" cy="1279440"/>
          </a:xfrm>
          <a:prstGeom prst="line">
            <a:avLst/>
          </a:prstGeom>
          <a:ln w="96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9160" y="2227320"/>
            <a:ext cx="0" cy="1116000"/>
          </a:xfrm>
          <a:prstGeom prst="line">
            <a:avLst/>
          </a:prstGeom>
          <a:ln w="96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28760" y="3736800"/>
            <a:ext cx="58680" cy="3348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14560" y="2620800"/>
            <a:ext cx="58680" cy="3348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73360" y="2817720"/>
            <a:ext cx="55440" cy="3348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9160" y="2752560"/>
            <a:ext cx="55440" cy="3348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3840" y="5203800"/>
            <a:ext cx="496080" cy="46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0,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480" y="3244680"/>
            <a:ext cx="198720" cy="46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9880" y="1266840"/>
            <a:ext cx="397080" cy="46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4095720"/>
            <a:ext cx="666720" cy="5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ge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10a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06160" y="1328760"/>
            <a:ext cx="119412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o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éc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98640" y="3505320"/>
            <a:ext cx="1557360" cy="8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tien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38280" y="1370160"/>
            <a:ext cx="1897200" cy="8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blè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’ob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ntérie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55960" y="304920"/>
            <a:ext cx="2326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62400" y="5151600"/>
            <a:ext cx="2326680" cy="4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00" y="1722600"/>
            <a:ext cx="637920" cy="4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1800" y="5805360"/>
            <a:ext cx="83995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acteurs associés à l’observance à M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horte APROCO, n=4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95640" y="4906800"/>
            <a:ext cx="487692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ffff"/>
                </a:solidFill>
                <a:latin typeface="Arial"/>
              </a:rPr>
              <a:t>SPIRE </a:t>
            </a:r>
            <a:r>
              <a:rPr b="0" lang="en-GB" sz="1400" spc="-1" strike="noStrike">
                <a:solidFill>
                  <a:srgbClr val="00ffff"/>
                </a:solidFill>
                <a:latin typeface="Arial"/>
              </a:rPr>
              <a:t>Soc Sci Med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27640" y="287280"/>
            <a:ext cx="561600" cy="5508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05280" y="5172120"/>
            <a:ext cx="511560" cy="4899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44960" y="1636560"/>
            <a:ext cx="0" cy="160812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30760" y="2392200"/>
            <a:ext cx="0" cy="85248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92720" y="2982960"/>
            <a:ext cx="1440" cy="49212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12000" y="1735200"/>
            <a:ext cx="1440" cy="173988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3920" y="2424240"/>
            <a:ext cx="1800" cy="91908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415280" y="2424240"/>
            <a:ext cx="1440" cy="91908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01080" y="2620800"/>
            <a:ext cx="1440" cy="65736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44960" y="2424240"/>
            <a:ext cx="55440" cy="3312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30760" y="2786040"/>
            <a:ext cx="55440" cy="3168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292720" y="3179880"/>
            <a:ext cx="55440" cy="3168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2589120"/>
            <a:ext cx="55440" cy="3168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3920" y="2851200"/>
            <a:ext cx="55800" cy="3312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15280" y="2851200"/>
            <a:ext cx="58680" cy="3312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01080" y="2786040"/>
            <a:ext cx="58680" cy="3168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0000" y="20257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lco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38520" y="3505320"/>
            <a:ext cx="1489320" cy="8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pre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19560" y="1119240"/>
            <a:ext cx="1895760" cy="8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erception état de sant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2000" y="3500280"/>
            <a:ext cx="1422360" cy="8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ercep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fficacité du trait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1824120"/>
            <a:ext cx="142236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ercep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toxicit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51640" y="3573360"/>
            <a:ext cx="1530360" cy="10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e parle pas du traitement à un autre médec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89160" y="3500280"/>
            <a:ext cx="18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Tab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30400" y="3833640"/>
            <a:ext cx="4352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87880" y="3843360"/>
            <a:ext cx="4352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11520" y="1635120"/>
            <a:ext cx="4352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760" y="700200"/>
            <a:ext cx="459720" cy="42912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513840" y="4311720"/>
            <a:ext cx="459720" cy="42912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175520" y="1425600"/>
            <a:ext cx="4352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440" y="1854360"/>
            <a:ext cx="523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-203040" y="115920"/>
            <a:ext cx="93470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Observance et effets second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5040" y="6095880"/>
            <a:ext cx="379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DURAN, </a:t>
            </a:r>
            <a:r>
              <a:rPr b="0" lang="en-GB" sz="1400" spc="-1" strike="noStrike">
                <a:solidFill>
                  <a:srgbClr val="00ffff"/>
                </a:solidFill>
                <a:latin typeface="Arial"/>
              </a:rPr>
              <a:t>HIV clinical trials,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78600" y="4037040"/>
            <a:ext cx="3965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8480" y="2311560"/>
            <a:ext cx="1800" cy="3456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8360" y="5767560"/>
            <a:ext cx="122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2680" y="565452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4041720"/>
            <a:ext cx="122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8360" y="2311560"/>
            <a:ext cx="12204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49720" y="3129120"/>
            <a:ext cx="0" cy="830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14440" y="4024080"/>
            <a:ext cx="368460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440" y="3925800"/>
            <a:ext cx="1270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3440" y="2195640"/>
            <a:ext cx="2538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0320" y="4046400"/>
            <a:ext cx="0" cy="541440"/>
          </a:xfrm>
          <a:prstGeom prst="line">
            <a:avLst/>
          </a:prstGeom>
          <a:ln w="34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4091040"/>
            <a:ext cx="1440" cy="900000"/>
          </a:xfrm>
          <a:prstGeom prst="line">
            <a:avLst/>
          </a:prstGeom>
          <a:ln w="34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0320" y="4113360"/>
            <a:ext cx="9720" cy="4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58920" y="4538520"/>
            <a:ext cx="93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9560" y="3500280"/>
            <a:ext cx="6667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Ag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10a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3772080"/>
            <a:ext cx="598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aïf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62160" y="2627280"/>
            <a:ext cx="1440" cy="1284480"/>
          </a:xfrm>
          <a:prstGeom prst="line">
            <a:avLst/>
          </a:prstGeom>
          <a:ln w="34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0760" y="3098880"/>
            <a:ext cx="0" cy="826920"/>
          </a:xfrm>
          <a:prstGeom prst="line">
            <a:avLst/>
          </a:prstGeom>
          <a:ln w="34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52920" y="3255840"/>
            <a:ext cx="1440" cy="561960"/>
          </a:xfrm>
          <a:prstGeom prst="line">
            <a:avLst/>
          </a:prstGeom>
          <a:ln w="34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62160" y="3260880"/>
            <a:ext cx="9720" cy="4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55720" y="3468600"/>
            <a:ext cx="9720" cy="4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52920" y="3813120"/>
            <a:ext cx="11160" cy="4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48280" y="3540240"/>
            <a:ext cx="10800" cy="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91640" y="2103480"/>
            <a:ext cx="973080" cy="47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o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ca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49640" y="2598840"/>
            <a:ext cx="882360" cy="47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as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out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7440" y="2976480"/>
            <a:ext cx="666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Alco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49800" y="2492280"/>
            <a:ext cx="1558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99cc"/>
                </a:solidFill>
                <a:uFillTx/>
                <a:latin typeface="Arial"/>
              </a:rPr>
              <a:t>&gt;4 symptô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99cc"/>
                </a:solidFill>
                <a:uFillTx/>
                <a:latin typeface="Arial"/>
              </a:rPr>
              <a:t>à M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1000" y="2665440"/>
            <a:ext cx="1485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r>
              <a:rPr b="1" lang="fr-FR" sz="1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1000" y="5299200"/>
            <a:ext cx="1485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r>
              <a:rPr b="1" lang="fr-FR" sz="1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78600" y="2563920"/>
            <a:ext cx="1440" cy="2884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08400" y="5448240"/>
            <a:ext cx="140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08400" y="2563920"/>
            <a:ext cx="14004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08440" y="528012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83040" y="3848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61000" y="23940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18080" y="4395960"/>
            <a:ext cx="0" cy="27432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18080" y="4438800"/>
            <a:ext cx="34920" cy="205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27920" y="4702320"/>
            <a:ext cx="5677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Ag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5a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48440" y="3341520"/>
            <a:ext cx="0" cy="69552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48440" y="3679920"/>
            <a:ext cx="33120" cy="205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50920" y="4132440"/>
            <a:ext cx="9730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o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99200" y="3637080"/>
            <a:ext cx="1800" cy="315720"/>
          </a:xfrm>
          <a:prstGeom prst="line">
            <a:avLst/>
          </a:prstGeom>
          <a:ln w="316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99200" y="3720960"/>
            <a:ext cx="34920" cy="20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00720" y="3173400"/>
            <a:ext cx="1541520" cy="47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onsommation d’alcool à M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021520" y="3132000"/>
            <a:ext cx="1800" cy="75888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21520" y="3468600"/>
            <a:ext cx="34920" cy="20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82480" y="2511360"/>
            <a:ext cx="230976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99cc"/>
                </a:solidFill>
                <a:uFillTx/>
                <a:latin typeface="Arial"/>
              </a:rPr>
              <a:t>Modific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99cc"/>
                </a:solidFill>
                <a:uFillTx/>
                <a:latin typeface="Arial"/>
              </a:rPr>
              <a:t>de l ’aspect phys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562800" y="4957920"/>
            <a:ext cx="245916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99cc"/>
                </a:solidFill>
                <a:latin typeface="Arial"/>
              </a:rPr>
              <a:t>Risque ajusté =1.13 p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99cc"/>
                </a:solidFill>
                <a:latin typeface="Arial"/>
              </a:rPr>
              <a:t>symptôme LD [1.02-1.26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4000" y="1260360"/>
            <a:ext cx="7095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cc00"/>
                </a:solidFill>
                <a:latin typeface="Arial"/>
              </a:rPr>
              <a:t>M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45080" y="1303200"/>
            <a:ext cx="9212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cc00"/>
                </a:solidFill>
                <a:latin typeface="Arial"/>
              </a:rPr>
              <a:t>M2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41920" y="6095880"/>
            <a:ext cx="487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ffff"/>
                </a:solidFill>
                <a:latin typeface="Arial"/>
              </a:rPr>
              <a:t>DURAN, AIDS,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32440" y="3505320"/>
            <a:ext cx="9360" cy="4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79200" y="5624640"/>
            <a:ext cx="4352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67320" y="2962440"/>
            <a:ext cx="459720" cy="42912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La cohorte MANIF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2760" y="1225440"/>
            <a:ext cx="8915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horte de sujets infectés par le VIH par usage de drogue IV, avec  des CD4&gt;300 et pas d’infection opportuniste à l’i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5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itiée en juillet 19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5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ivi médical biologique et socio-comportemental tous les 6m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5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467 patients inc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673280" y="1870200"/>
            <a:ext cx="1440" cy="4054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71760" y="5924520"/>
            <a:ext cx="203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71760" y="4583160"/>
            <a:ext cx="203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71760" y="3211560"/>
            <a:ext cx="203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71760" y="1870200"/>
            <a:ext cx="203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73280" y="4583160"/>
            <a:ext cx="6591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36840" y="4705200"/>
            <a:ext cx="1440" cy="97488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91040" y="3486240"/>
            <a:ext cx="1440" cy="118908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64080" y="4125960"/>
            <a:ext cx="1800" cy="36504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73840" y="2052720"/>
            <a:ext cx="1440" cy="234792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59640" y="3181320"/>
            <a:ext cx="1440" cy="100476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6840" y="5100480"/>
            <a:ext cx="50760" cy="320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91040" y="4033800"/>
            <a:ext cx="50760" cy="316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2571840"/>
            <a:ext cx="1440" cy="176688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99000" y="3486240"/>
            <a:ext cx="50760" cy="302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64080" y="4278240"/>
            <a:ext cx="50760" cy="302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73840" y="3363840"/>
            <a:ext cx="50760" cy="302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59640" y="3638520"/>
            <a:ext cx="50760" cy="302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84960" y="5680080"/>
            <a:ext cx="44280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0,1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50280" y="4338720"/>
            <a:ext cx="177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73880" y="2967120"/>
            <a:ext cx="35424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97480" y="1627200"/>
            <a:ext cx="53100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2360" y="2933640"/>
            <a:ext cx="637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30400" y="1406520"/>
            <a:ext cx="234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34720" y="6102360"/>
            <a:ext cx="2292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884600" y="5732640"/>
            <a:ext cx="109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ge/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10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78000" y="2814480"/>
            <a:ext cx="1800" cy="161640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78000" y="3576600"/>
            <a:ext cx="51120" cy="316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75080" y="2171880"/>
            <a:ext cx="105696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D act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s Sub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70480" y="4768920"/>
            <a:ext cx="1018800" cy="61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 U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s sub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69080" y="1976400"/>
            <a:ext cx="1105920" cy="55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lcool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20 U-mo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96520" y="4691160"/>
            <a:ext cx="773640" cy="61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 ev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22240" y="1125360"/>
            <a:ext cx="1334520" cy="86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blè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inanc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89320" y="2505240"/>
            <a:ext cx="161316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Troubles av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a pol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-9360" y="1252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Cohorte MANIF : facteurs associés à l’observance à court terme (n=1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259240" y="6113520"/>
            <a:ext cx="52167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ffff"/>
                </a:solidFill>
                <a:latin typeface="Arial"/>
              </a:rPr>
              <a:t>Moatti  AIDS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66760" y="1979640"/>
            <a:ext cx="2303640" cy="350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356000" y="6165720"/>
            <a:ext cx="4352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45560" y="1447920"/>
            <a:ext cx="459720" cy="42912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Usage de drogue et observance à long ter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17440" y="1239840"/>
            <a:ext cx="8647200" cy="456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 moins observants au plus observ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D actifs non substitu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-UD sev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D substitués toujours « injecteurs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D substitués non-injecte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observance aux ARV est liée au succès de la substit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29040" y="6203880"/>
            <a:ext cx="521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ffff"/>
                </a:solidFill>
                <a:latin typeface="Arial"/>
              </a:rPr>
              <a:t>Carrieri  Int J Behav Med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63080" y="1852560"/>
            <a:ext cx="0" cy="2895480"/>
          </a:xfrm>
          <a:prstGeom prst="line">
            <a:avLst/>
          </a:prstGeom>
          <a:ln w="63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453160" y="1341360"/>
            <a:ext cx="39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ffcc00"/>
                </a:solidFill>
                <a:latin typeface="Arial"/>
              </a:rPr>
              <a:t>-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467920" y="4086360"/>
            <a:ext cx="522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Context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multithérapies (HAART) ont radicalement modifié le pronostic de l ’infection à VIH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mélioration clinique et biologique des patients traités sous HAART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es traitements présentent des limit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bsence de guérison, traitement à durée indétermin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oxicité, effets indésir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bservance élevée requise pour le succès thérapeu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52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Enquêtes socio-comportementales</a:t>
            </a:r>
            <a:br>
              <a:rPr sz="3200"/>
            </a:b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et prise en charge cliniqu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33280" y="144612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Enquêtes longitudinales sur l’obser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mesure et impact sur la ré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facteurs associés à l’observance</a:t>
            </a:r>
            <a:br>
              <a:rPr sz="2400"/>
            </a:b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Évaluation d’intervention psycho-sociale pour améliorer l’observanc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Enquêtes sur l’impact du traitement sur la qualité de vie</a:t>
            </a:r>
            <a:br>
              <a:rPr sz="2400"/>
            </a:b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Enquêtes au delà du traitement : l’étude VES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778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Essai d’intervent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3920" y="122544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atients éligibles : patients traités par multithérapie depuis au moins 1 mois, non hospitalisés, non inclus dans un autre protoc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ervention randomisée contrôlée : counseling infirmier sur les aspects cognitifs, émotionnels, sociaux et comportementaux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Personnel spécifique formé et supervis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Évaluation du succès virologique et de l’observance 6 mois après la random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471960" y="393840"/>
            <a:ext cx="22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Caractéris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à l’i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80440" y="393840"/>
            <a:ext cx="17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696280" y="39384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Contrô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3160" y="1279440"/>
            <a:ext cx="2373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Age médi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Sexe (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Infection par 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Bac ou 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Emplo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Stade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D4 Médi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V lo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V indétec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Naïfs d’ARV à M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Durée médiane Tr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antérieure (mo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258400" y="39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80760" y="1300320"/>
            <a:ext cx="75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3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2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5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2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1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8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23880" y="1300320"/>
            <a:ext cx="7599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5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4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61920" y="1300320"/>
            <a:ext cx="6760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5400" y="304920"/>
            <a:ext cx="8820000" cy="6095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6680" y="1219320"/>
            <a:ext cx="8610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058200" y="320760"/>
            <a:ext cx="17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35960" y="320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Contrô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190360" y="25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0200" y="1230480"/>
            <a:ext cx="3319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Baisse moyenne de charge vira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% de pati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CV  indétect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à M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01920" y="1154160"/>
            <a:ext cx="56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0.22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+0.12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0.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p=0.01 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64 %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54 %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0.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36520" y="3821040"/>
            <a:ext cx="8686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2280" y="3963960"/>
            <a:ext cx="30481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6600"/>
                </a:solidFill>
                <a:latin typeface="Arial"/>
              </a:rPr>
              <a:t>Sous groupe des patients détectables  à l’inclu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% de pati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CV  indétect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à M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63120" y="4051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=7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92200" y="4051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=7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63120" y="5214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4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4040" y="5214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858800" y="5214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0.0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95720" y="6477120"/>
            <a:ext cx="3157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ffff"/>
                </a:solidFill>
                <a:latin typeface="Arial"/>
              </a:rPr>
              <a:t>Pradier, Hiv Clin Trials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5400" y="304920"/>
            <a:ext cx="8820000" cy="6095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52280" y="1109520"/>
            <a:ext cx="8686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762280" y="368280"/>
            <a:ext cx="16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5000" y="0"/>
            <a:ext cx="887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Évolution de l'observance entre M0 et M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27720" y="1484280"/>
            <a:ext cx="1043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=0.0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823360" y="1484280"/>
            <a:ext cx="1043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=0.5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20600" y="5842080"/>
            <a:ext cx="26359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roupe interven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73280" y="5842080"/>
            <a:ext cx="21848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roupe contrô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49360" y="2944800"/>
            <a:ext cx="895320" cy="238284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62640" y="2732040"/>
            <a:ext cx="896760" cy="259560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244680" y="2236680"/>
            <a:ext cx="897120" cy="3090960"/>
            <a:chOff x="3244680" y="2236680"/>
            <a:chExt cx="897120" cy="3090960"/>
          </a:xfrm>
        </p:grpSpPr>
        <p:sp>
          <p:nvSpPr>
            <p:cNvPr id="539" name=""/>
            <p:cNvSpPr/>
            <p:nvPr/>
          </p:nvSpPr>
          <p:spPr>
            <a:xfrm>
              <a:off x="3244680" y="2236680"/>
              <a:ext cx="89712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44680" y="2307960"/>
              <a:ext cx="897120" cy="9360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44680" y="2401560"/>
              <a:ext cx="897120" cy="7164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44680" y="2473200"/>
              <a:ext cx="897120" cy="7128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4680" y="2544480"/>
              <a:ext cx="897120" cy="6984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44680" y="2614320"/>
              <a:ext cx="897120" cy="95400"/>
            </a:xfrm>
            <a:prstGeom prst="rect">
              <a:avLst/>
            </a:prstGeom>
            <a:solidFill>
              <a:srgbClr val="da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44680" y="2709720"/>
              <a:ext cx="897120" cy="69840"/>
            </a:xfrm>
            <a:prstGeom prst="rect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44680" y="2779560"/>
              <a:ext cx="897120" cy="7128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44680" y="2850840"/>
              <a:ext cx="897120" cy="69840"/>
            </a:xfrm>
            <a:prstGeom prst="rect">
              <a:avLst/>
            </a:prstGeom>
            <a:solidFill>
              <a:srgbClr val="dc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44680" y="2920680"/>
              <a:ext cx="897120" cy="95400"/>
            </a:xfrm>
            <a:prstGeom prst="rect">
              <a:avLst/>
            </a:prstGeom>
            <a:solidFill>
              <a:srgbClr val="dd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44680" y="3016080"/>
              <a:ext cx="897120" cy="69840"/>
            </a:xfrm>
            <a:prstGeom prst="rect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44680" y="3085920"/>
              <a:ext cx="897120" cy="71640"/>
            </a:xfrm>
            <a:prstGeom prst="rect">
              <a:avLst/>
            </a:prstGeom>
            <a:solidFill>
              <a:srgbClr val="df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44680" y="3157560"/>
              <a:ext cx="897120" cy="9360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44680" y="3251160"/>
              <a:ext cx="897120" cy="71280"/>
            </a:xfrm>
            <a:prstGeom prst="rect">
              <a:avLst/>
            </a:prstGeom>
            <a:solidFill>
              <a:srgbClr val="e2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44680" y="3322440"/>
              <a:ext cx="897120" cy="71640"/>
            </a:xfrm>
            <a:prstGeom prst="rect">
              <a:avLst/>
            </a:prstGeom>
            <a:solidFill>
              <a:srgbClr val="e3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44680" y="3394080"/>
              <a:ext cx="897120" cy="69840"/>
            </a:xfrm>
            <a:prstGeom prst="rect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44680" y="3463920"/>
              <a:ext cx="897120" cy="9504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44680" y="3558960"/>
              <a:ext cx="897120" cy="6984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44680" y="3628800"/>
              <a:ext cx="897120" cy="7164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44680" y="3700440"/>
              <a:ext cx="897120" cy="93600"/>
            </a:xfrm>
            <a:prstGeom prst="rect">
              <a:avLst/>
            </a:prstGeom>
            <a:solidFill>
              <a:srgbClr val="eb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44680" y="3794040"/>
              <a:ext cx="897120" cy="71280"/>
            </a:xfrm>
            <a:prstGeom prst="rect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44680" y="3865320"/>
              <a:ext cx="897120" cy="71640"/>
            </a:xfrm>
            <a:prstGeom prst="rect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44680" y="3936960"/>
              <a:ext cx="897120" cy="6984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44680" y="4006800"/>
              <a:ext cx="897120" cy="9504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44680" y="4101840"/>
              <a:ext cx="897120" cy="6984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44680" y="4171680"/>
              <a:ext cx="897120" cy="71640"/>
            </a:xfrm>
            <a:prstGeom prst="rect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44680" y="4243320"/>
              <a:ext cx="897120" cy="6984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44680" y="4313160"/>
              <a:ext cx="897120" cy="9504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44680" y="4408200"/>
              <a:ext cx="897120" cy="69840"/>
            </a:xfrm>
            <a:prstGeom prst="rect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44680" y="4478040"/>
              <a:ext cx="897120" cy="71640"/>
            </a:xfrm>
            <a:prstGeom prst="rect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44680" y="4549680"/>
              <a:ext cx="897120" cy="9360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44680" y="4643280"/>
              <a:ext cx="897120" cy="7128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44680" y="4714560"/>
              <a:ext cx="897120" cy="7164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44680" y="4786200"/>
              <a:ext cx="897120" cy="69840"/>
            </a:xfrm>
            <a:prstGeom prst="rect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44680" y="4856040"/>
              <a:ext cx="897120" cy="9540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244680" y="4951440"/>
              <a:ext cx="897120" cy="6984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44680" y="5021280"/>
              <a:ext cx="897120" cy="7128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44680" y="5092560"/>
              <a:ext cx="897120" cy="6984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44680" y="5162400"/>
              <a:ext cx="897120" cy="9540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44680" y="5257800"/>
              <a:ext cx="897120" cy="69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3244680" y="2236680"/>
            <a:ext cx="897120" cy="30909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6359400" y="2803680"/>
            <a:ext cx="873000" cy="2523600"/>
            <a:chOff x="6359400" y="2803680"/>
            <a:chExt cx="873000" cy="2523600"/>
          </a:xfrm>
        </p:grpSpPr>
        <p:sp>
          <p:nvSpPr>
            <p:cNvPr id="581" name=""/>
            <p:cNvSpPr/>
            <p:nvPr/>
          </p:nvSpPr>
          <p:spPr>
            <a:xfrm>
              <a:off x="6359400" y="2803680"/>
              <a:ext cx="87300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59400" y="2874960"/>
              <a:ext cx="873000" cy="4536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59400" y="2920680"/>
              <a:ext cx="87300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359400" y="2992320"/>
              <a:ext cx="873000" cy="7092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59400" y="3063600"/>
              <a:ext cx="873000" cy="4572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59400" y="3109680"/>
              <a:ext cx="873000" cy="71280"/>
            </a:xfrm>
            <a:prstGeom prst="rect">
              <a:avLst/>
            </a:prstGeom>
            <a:solidFill>
              <a:srgbClr val="da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59400" y="3181320"/>
              <a:ext cx="873000" cy="69480"/>
            </a:xfrm>
            <a:prstGeom prst="rect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59400" y="3251160"/>
              <a:ext cx="873000" cy="4716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59400" y="3298680"/>
              <a:ext cx="873000" cy="70920"/>
            </a:xfrm>
            <a:prstGeom prst="rect">
              <a:avLst/>
            </a:prstGeom>
            <a:solidFill>
              <a:srgbClr val="dc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59400" y="3369960"/>
              <a:ext cx="873000" cy="69480"/>
            </a:xfrm>
            <a:prstGeom prst="rect">
              <a:avLst/>
            </a:prstGeom>
            <a:solidFill>
              <a:srgbClr val="dd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59400" y="3439800"/>
              <a:ext cx="873000" cy="47520"/>
            </a:xfrm>
            <a:prstGeom prst="rect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59400" y="3487680"/>
              <a:ext cx="873000" cy="70920"/>
            </a:xfrm>
            <a:prstGeom prst="rect">
              <a:avLst/>
            </a:prstGeom>
            <a:solidFill>
              <a:srgbClr val="df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59400" y="3558960"/>
              <a:ext cx="873000" cy="6948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59400" y="3628800"/>
              <a:ext cx="873000" cy="47160"/>
            </a:xfrm>
            <a:prstGeom prst="rect">
              <a:avLst/>
            </a:prstGeom>
            <a:solidFill>
              <a:srgbClr val="e2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359400" y="3676320"/>
              <a:ext cx="873000" cy="71280"/>
            </a:xfrm>
            <a:prstGeom prst="rect">
              <a:avLst/>
            </a:prstGeom>
            <a:solidFill>
              <a:srgbClr val="e3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59400" y="3747960"/>
              <a:ext cx="873000" cy="69480"/>
            </a:xfrm>
            <a:prstGeom prst="rect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59400" y="3817800"/>
              <a:ext cx="873000" cy="4716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59400" y="3865320"/>
              <a:ext cx="873000" cy="7128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59400" y="3936960"/>
              <a:ext cx="873000" cy="6948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59400" y="4006800"/>
              <a:ext cx="873000" cy="70920"/>
            </a:xfrm>
            <a:prstGeom prst="rect">
              <a:avLst/>
            </a:prstGeom>
            <a:solidFill>
              <a:srgbClr val="eb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59400" y="4078080"/>
              <a:ext cx="873000" cy="45720"/>
            </a:xfrm>
            <a:prstGeom prst="rect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59400" y="4124160"/>
              <a:ext cx="873000" cy="70920"/>
            </a:xfrm>
            <a:prstGeom prst="rect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59400" y="4195440"/>
              <a:ext cx="873000" cy="7128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59400" y="4267080"/>
              <a:ext cx="873000" cy="4572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59400" y="4313160"/>
              <a:ext cx="873000" cy="7092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59400" y="4384440"/>
              <a:ext cx="873000" cy="69480"/>
            </a:xfrm>
            <a:prstGeom prst="rect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59400" y="4454280"/>
              <a:ext cx="873000" cy="4752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59400" y="4502160"/>
              <a:ext cx="873000" cy="7092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59400" y="4573440"/>
              <a:ext cx="873000" cy="69480"/>
            </a:xfrm>
            <a:prstGeom prst="rect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59400" y="4643280"/>
              <a:ext cx="873000" cy="47160"/>
            </a:xfrm>
            <a:prstGeom prst="rect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59400" y="4690800"/>
              <a:ext cx="873000" cy="7128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59400" y="4762440"/>
              <a:ext cx="873000" cy="6948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59400" y="4832280"/>
              <a:ext cx="873000" cy="4716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59400" y="4879800"/>
              <a:ext cx="873000" cy="71280"/>
            </a:xfrm>
            <a:prstGeom prst="rect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59400" y="4951440"/>
              <a:ext cx="873000" cy="6948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59400" y="5021280"/>
              <a:ext cx="873000" cy="4716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59400" y="5068800"/>
              <a:ext cx="873000" cy="7092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59400" y="5140080"/>
              <a:ext cx="873000" cy="6948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59400" y="5209920"/>
              <a:ext cx="873000" cy="4752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59400" y="5257800"/>
              <a:ext cx="873000" cy="69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6359400" y="2803680"/>
            <a:ext cx="873360" cy="25239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87680" y="2025720"/>
            <a:ext cx="1440" cy="330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17840" y="532764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17840" y="492768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17840" y="450216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17840" y="410220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17840" y="367668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17840" y="3274920"/>
            <a:ext cx="69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17840" y="285120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17840" y="2449440"/>
            <a:ext cx="69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7840" y="202572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87680" y="5327640"/>
            <a:ext cx="62053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687680" y="5327280"/>
            <a:ext cx="144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802040" y="5327280"/>
            <a:ext cx="180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7893000" y="5327280"/>
            <a:ext cx="180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21760" y="5162400"/>
            <a:ext cx="36792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80280" y="47624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980280" y="433692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80280" y="39369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80280" y="35114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80280" y="31100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80280" y="26859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980280" y="22845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980280" y="186048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79800" y="5397480"/>
            <a:ext cx="34956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I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9840" y="5397480"/>
            <a:ext cx="4975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C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6200000">
            <a:off x="-724320" y="3572640"/>
            <a:ext cx="2752920" cy="33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% patients observa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885080" y="3322800"/>
            <a:ext cx="189000" cy="18864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190720" y="3228840"/>
            <a:ext cx="4608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7885080" y="3841920"/>
            <a:ext cx="189000" cy="188280"/>
            <a:chOff x="7885080" y="3841920"/>
            <a:chExt cx="189000" cy="188280"/>
          </a:xfrm>
        </p:grpSpPr>
        <p:sp>
          <p:nvSpPr>
            <p:cNvPr id="651" name=""/>
            <p:cNvSpPr/>
            <p:nvPr/>
          </p:nvSpPr>
          <p:spPr>
            <a:xfrm>
              <a:off x="7885080" y="3841920"/>
              <a:ext cx="189000" cy="2340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85080" y="3865320"/>
              <a:ext cx="189000" cy="2340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885080" y="3889080"/>
              <a:ext cx="189000" cy="2376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85080" y="3913200"/>
              <a:ext cx="189000" cy="2340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885080" y="3936960"/>
              <a:ext cx="189000" cy="2160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85080" y="3958920"/>
              <a:ext cx="189000" cy="2376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885080" y="3983040"/>
              <a:ext cx="189000" cy="2340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85080" y="4006800"/>
              <a:ext cx="189000" cy="23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7885080" y="3841920"/>
            <a:ext cx="189000" cy="18864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190720" y="3747960"/>
            <a:ext cx="4608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154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Enquêtes socio-comportementales</a:t>
            </a:r>
            <a:br>
              <a:rPr sz="3200"/>
            </a:b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et prise en charge cliniqu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33280" y="141300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Enquêtes longitudinales sur l’obser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mesure et impact sur la ré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facteurs associés à l’observance</a:t>
            </a:r>
            <a:br>
              <a:rPr sz="2400"/>
            </a:b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Évaluation d’intervention psycho-sociale pour améliorer l’observance</a:t>
            </a:r>
            <a:br>
              <a:rPr sz="2400"/>
            </a:b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quêtes sur l’impact du traitement sur la qualité de vi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Enquêtes au delà du traitement : l’étude VESPA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Objectif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12760" y="1239480"/>
            <a:ext cx="914400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esurer l’impact de la mise sous HAART sur la qualité de vie (QDV) des patients traités après un an de trai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chercher les déterminants associés à une « bonne » ou à une « mauvaise » qualité de vie  après  un an de trai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778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Méthod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22120" y="122544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esure de la qualité de vie par l’échelle MOS-SF36 qu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plore 8 dimensions (4 physiques, 4 ment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tandardisation par rapport aux scores de la population générale Française : une qualité de vie normale = 3 échelles physiques et 3 échelles mentales dans les 3 quartiles supérieurs des valeurs de la population généra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Évolution de la qualité de vi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933000" y="1657440"/>
            <a:ext cx="1846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QDV normale</a:t>
            </a:r>
            <a:br>
              <a:rPr sz="2400"/>
            </a:b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à M1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47600" y="1657440"/>
            <a:ext cx="2049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QDV mauvaise</a:t>
            </a:r>
            <a:br>
              <a:rPr sz="2400"/>
            </a:b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à M1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160" y="3400560"/>
            <a:ext cx="269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QDV normale à M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27880" y="383688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75680" y="340056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65080" y="34005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48680" y="34005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1520" y="4518000"/>
            <a:ext cx="289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QDV mauvaise à M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05680" y="538812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018760" y="451800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75680" y="451800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65080" y="49514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233120" y="451800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922520" y="49514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200" y="58244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4200" y="58388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67560" y="1943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13480" y="6553080"/>
            <a:ext cx="2844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Carrieri, </a:t>
            </a:r>
            <a:r>
              <a:rPr b="0" lang="en-GB" sz="1400" spc="-1" strike="noStrike">
                <a:solidFill>
                  <a:srgbClr val="00ffff"/>
                </a:solidFill>
                <a:latin typeface="Arial"/>
              </a:rPr>
              <a:t>Jaids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6960" y="1268280"/>
            <a:ext cx="8305920" cy="46483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08200" y="2792520"/>
            <a:ext cx="76960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6249960" y="8398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cc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922800" y="83988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cc00"/>
                </a:solidFill>
                <a:latin typeface="Arial"/>
              </a:rPr>
              <a:t>*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318800" y="2247840"/>
            <a:ext cx="134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</a:rPr>
              <a:t>*  t-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</a:rPr>
              <a:t>** Mc-Nem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15200" y="4334040"/>
            <a:ext cx="2249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</a:rPr>
              <a:t>Normal = dan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</a:rPr>
              <a:t>les 3 quartil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</a:rPr>
              <a:t>supérieu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cc00"/>
                </a:solidFill>
                <a:latin typeface="Arial"/>
              </a:rPr>
              <a:t>§ = 3 échell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</a:rPr>
              <a:t>physiques et 3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</a:rPr>
              <a:t>échelles mental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</a:rPr>
              <a:t>norm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830600" y="6067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§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928440" y="0"/>
            <a:ext cx="728568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cc00"/>
                </a:solidFill>
                <a:latin typeface="Arial"/>
              </a:rPr>
              <a:t>Comparaison des échelles SF-36 à M0 et à M12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Arial"/>
              </a:rPr>
              <a:t>(Cohorte APROCO; n=654 patient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-351000" y="3031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7280" y="5097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54040" y="76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64560" y="95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75960" y="103968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Arial"/>
              </a:rPr>
              <a:t>A M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014080" y="95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267880" y="103968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Arial"/>
              </a:rPr>
              <a:t>A M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06080" y="95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79760" y="10206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816240" y="10206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925320" y="95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60360" y="1028880"/>
            <a:ext cx="154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Échelles SF- 36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151800" y="1160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00240" y="1163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43280" y="1163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35560" y="1163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72040" y="1163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280" y="1370160"/>
            <a:ext cx="194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Fonction physique m(S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11360" y="1370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37440" y="137016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84 (2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63760" y="1370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80480" y="137016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86 (19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05360" y="1370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75360" y="13701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0.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92520" y="1370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72040" y="1370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49000" y="1576440"/>
            <a:ext cx="145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Fonction physi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12040" y="1581120"/>
            <a:ext cx="61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Times New Roman"/>
              </a:rPr>
              <a:t>norm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33040" y="157644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N (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54320" y="1576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492440" y="157644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372 (5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8400" y="1576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233680" y="157644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371 (5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51440" y="1576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235560" y="1576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711840" y="1576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1.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029360" y="1576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53680" y="1784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00240" y="1784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543280" y="1784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235560" y="1784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872040" y="1784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9360" y="1990800"/>
            <a:ext cx="20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Douleurs physiques m (S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46000" y="1990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37440" y="199080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77 (2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063760" y="1990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80480" y="199080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75 (2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805360" y="1990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75360" y="199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392520" y="1990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872040" y="1990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50080" y="21985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Douleurs physiqu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00960" y="2201760"/>
            <a:ext cx="68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793240" y="219852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N (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311280" y="2198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492440" y="219852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447 (6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08400" y="2198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233680" y="219852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431 (6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51440" y="2198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235560" y="2198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12920" y="2198520"/>
            <a:ext cx="13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47200" y="21985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29360" y="2198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53680" y="2405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800240" y="2405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543280" y="2405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35560" y="2405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72040" y="2405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4320" y="2612880"/>
            <a:ext cx="3166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Limitations dues à l’état physique m (S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740040" y="2612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37440" y="261288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68 (39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63760" y="2612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280480" y="261288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75 (3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05360" y="2612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979240" y="261288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89360" y="2612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72040" y="2612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5040" y="2819520"/>
            <a:ext cx="262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Limitations dues à l’état physi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94640" y="2822400"/>
            <a:ext cx="68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86920" y="2819520"/>
            <a:ext cx="47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N(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62120" y="2819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92440" y="281952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334 (5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108400" y="2819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233680" y="281952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396 (6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851440" y="2819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35560" y="2819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616080" y="281952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126200" y="2819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53680" y="3025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00240" y="3025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543280" y="3025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235560" y="3025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2040" y="3025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50800" y="3233880"/>
            <a:ext cx="110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Vitalité m(S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65000" y="3233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537440" y="323388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54 (2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63760" y="3233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280480" y="323388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59 (2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805360" y="3233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79240" y="323388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89360" y="3233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872040" y="3233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51520" y="3440160"/>
            <a:ext cx="61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Vitalité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164240" y="3444840"/>
            <a:ext cx="61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Times New Roman"/>
              </a:rPr>
              <a:t>norm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788480" y="3440160"/>
            <a:ext cx="47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N(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63680" y="3440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92440" y="34401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359 (5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08400" y="3440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233680" y="34401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427 (6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851440" y="3440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35560" y="3440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16080" y="34401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126200" y="3440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53680" y="3648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800240" y="3648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543280" y="3648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35560" y="3648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72040" y="3648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53680" y="3854520"/>
            <a:ext cx="18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36920" y="3854520"/>
            <a:ext cx="25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rception de l’état de santé m (S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308040" y="3854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37440" y="385452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58 (2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063760" y="3854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280480" y="385452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65 (2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805360" y="3854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979240" y="385452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489360" y="3854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872040" y="3854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48640" y="4062240"/>
            <a:ext cx="219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Perception de l’état de santé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63000" y="4065480"/>
            <a:ext cx="61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Times New Roman"/>
              </a:rPr>
              <a:t>norm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85440" y="406224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N (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904920" y="4062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92440" y="406224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277 (4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108400" y="4062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233680" y="406224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349 (5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851440" y="4062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235560" y="4062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616080" y="40622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126200" y="4062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3680" y="4268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00240" y="4268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543280" y="4268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235560" y="4268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72040" y="4268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47560" y="4475160"/>
            <a:ext cx="229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Fonctionnement social m (S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63800" y="4475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37440" y="447516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72 (2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063760" y="4475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280480" y="447516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77 (2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805360" y="4475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79240" y="44751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489360" y="4475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72040" y="44751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48280" y="4683240"/>
            <a:ext cx="175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Fonctionnement soci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318400" y="4686480"/>
            <a:ext cx="58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Times New Roman"/>
              </a:rPr>
              <a:t>norm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07360" y="4683240"/>
            <a:ext cx="47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N (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382920" y="468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492440" y="468324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390 (6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108400" y="468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233680" y="468324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444 (6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51440" y="468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235560" y="468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16080" y="46832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126200" y="468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53680" y="4889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00240" y="4889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543280" y="4889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235560" y="4889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72040" y="4889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45040" y="5097600"/>
            <a:ext cx="3006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Limitations dues à l’état mental m (S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578040" y="5097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37440" y="509760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65 (4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063760" y="5097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280480" y="509760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71 (4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805360" y="5097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979240" y="509760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489360" y="5097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872040" y="5097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45760" y="5303880"/>
            <a:ext cx="246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Limitations dues à l’état ment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032640" y="5307120"/>
            <a:ext cx="68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26720" y="530388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N (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244760" y="5303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492440" y="530388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330 (5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108400" y="5303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233680" y="530388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391 (6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851440" y="5303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35560" y="5303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616080" y="530388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126200" y="5303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53680" y="5511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800240" y="5511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543280" y="5511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235560" y="5511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72040" y="5511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50080" y="5718240"/>
            <a:ext cx="16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Santé mentale m (S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23720" y="5718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537440" y="571824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61 (2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63760" y="5718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280480" y="571824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66 (2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805360" y="5718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79240" y="57182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489360" y="5718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72040" y="5718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0800" y="5925960"/>
            <a:ext cx="112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Santé mental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678680" y="5929200"/>
            <a:ext cx="61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Times New Roman"/>
              </a:rPr>
              <a:t>norm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302920" y="592596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N (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820960" y="5925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92440" y="59259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354 (5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108400" y="5925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33680" y="59259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415 (6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851440" y="5925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235560" y="5925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616080" y="59259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126200" y="5925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53680" y="6132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00240" y="6132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543280" y="6132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235560" y="6132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72040" y="6132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50440" y="633888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Times New Roman"/>
              </a:rPr>
              <a:t>Qualité de v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10280" y="6343560"/>
            <a:ext cx="66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fr-FR" sz="1400" spc="-1" strike="noStrike">
                <a:solidFill>
                  <a:srgbClr val="ffcc00"/>
                </a:solidFill>
                <a:latin typeface="Times New Roman"/>
              </a:rPr>
              <a:t>norm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277360" y="6338880"/>
            <a:ext cx="55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fr-FR" sz="1400" spc="-1" strike="noStrike">
                <a:solidFill>
                  <a:srgbClr val="ffcc00"/>
                </a:solidFill>
                <a:latin typeface="Times New Roman"/>
              </a:rPr>
              <a:t>N (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841480" y="6338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92440" y="633888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Times New Roman"/>
              </a:rPr>
              <a:t>233 (3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108400" y="6338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233680" y="633888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Times New Roman"/>
              </a:rPr>
              <a:t>291 (4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851440" y="6338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235560" y="6338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616080" y="633888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126200" y="63388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-351000" y="6546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7280" y="675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Enquêtes socio-comportementales</a:t>
            </a:r>
            <a:br>
              <a:rPr sz="3200"/>
            </a:b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et prise en charge cliniqu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1840" y="146520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quêtes longitudinales sur l’obser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esure et impact sur la ré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acteurs associés à l’observanc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Évaluation d’intervention psycho-sociale pour améliorer l’observance</a:t>
            </a:r>
            <a:br>
              <a:rPr sz="2400"/>
            </a:b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Enquêtes sur l’impact du traitement sur la qualité de vie</a:t>
            </a:r>
            <a:br>
              <a:rPr sz="2400"/>
            </a:b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Enquêtes au delà du traitement : l’étude VES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Facteurs associés à une QDV normale à M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-42840" y="1182600"/>
          <a:ext cx="8427960" cy="6292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2840" y="1182600"/>
                    <a:ext cx="842796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9" name=""/>
          <p:cNvSpPr/>
          <p:nvPr/>
        </p:nvSpPr>
        <p:spPr>
          <a:xfrm>
            <a:off x="457200" y="1143000"/>
            <a:ext cx="807732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800" y="2514600"/>
            <a:ext cx="76960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Qualité de vie et Observanc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10600" y="1225440"/>
            <a:ext cx="88059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29 % des patients sont observants tout du long du sui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l existe une relation significative entre épisodes de non-observance entre M0 et M12 et mauvaise qualité de 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R [IC95%] = 1.63 [1.17-2.30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1520" y="-360"/>
            <a:ext cx="8940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Remarqu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31840" y="123984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QDV est associée à l’observance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perception des effets indésirables est un facteur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à prendre en compt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enir compte de la QDV dans les stratégies thérapeutique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st nécessaire pour garantir l’efficacité long-terme des trai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Enquêtes socio-comportementales</a:t>
            </a:r>
            <a:br>
              <a:rPr sz="3200"/>
            </a:b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et prise en charge cliniqu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23920" y="12682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Enquêtes longitudinales sur l’obser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mesure et impact sur la ré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facteurs associés à l’observance</a:t>
            </a:r>
            <a:br>
              <a:rPr sz="2400"/>
            </a:b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Évaluation d’intervention psycho-sociale pour améliorer l’observance</a:t>
            </a:r>
            <a:br>
              <a:rPr sz="2400"/>
            </a:b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Enquêtes sur l’impact du traitement sur la qualité de vie</a:t>
            </a:r>
            <a:br>
              <a:rPr sz="2400"/>
            </a:br>
            <a:r>
              <a:rPr b="0" lang="fr-FR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quêtes au delà du traitement : l’étude VESP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040" y="151920"/>
            <a:ext cx="89406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L’enquête VESP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00160" y="125892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quête transversale, représentative, basée sur un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échantillon de 3000 patient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vestit des domaines du vécu du patient peu explorés,en particulier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ssources, conditions de 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vie affective, sexuelle, iso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ésir d’enf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sertion professionnell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otocole rigoure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obilisation des cen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érêt des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3192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Le groupe d’étude APROCO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0" y="10429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ffffff"/>
                </a:solidFill>
                <a:uFillTx/>
                <a:latin typeface="Arial"/>
              </a:rPr>
              <a:t>Conseil scientifique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  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ffffff"/>
                </a:solidFill>
                <a:uFillTx/>
                <a:latin typeface="Arial"/>
              </a:rPr>
              <a:t>Comité de pilotage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Investigateurs principaux : C. Leport, F. Raff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Méthodologistes  : G. Chêne, R. Salamo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o- investigateurs : J-P. Moatti, J. Pierret, F. Brun-Vézinet, H. Fleury, G. Peytav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ffffff"/>
                </a:solidFill>
                <a:uFillTx/>
                <a:latin typeface="Arial"/>
              </a:rPr>
              <a:t>Autres membr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: D. Costagliola, P. Dellamonica, C. Katlama, L. Meyer, M. Morin, D. Sicard, A. Sobel, F. Vincent-Ballerea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ffffff"/>
                </a:solidFill>
                <a:uFillTx/>
                <a:latin typeface="Arial"/>
              </a:rPr>
              <a:t>Comité de validation des évènements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: M. Dupon, V. Le Moing, B. Marchou, T. May, P. Morlat, A. Waldner-Combernou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ffffff"/>
                </a:solidFill>
                <a:uFillTx/>
                <a:latin typeface="Arial"/>
              </a:rPr>
              <a:t>Groupe d ’études des complications métaboliques :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M Bard, A. Basdevant, J. Capeau, G. Chêne, C. Coussieu, M. Krempf, C. Leport, F. Raffi, W. Rozenbaum, M. Savè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ffffff"/>
                </a:solidFill>
                <a:uFillTx/>
                <a:latin typeface="Arial"/>
              </a:rPr>
              <a:t>Observateurs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 : F. Agid, F. Bourdillon, JF. Delfraissy, J. Dormont, JY. Lacut,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Y. Souteyrand, JL. Vild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ffffff"/>
                </a:solidFill>
                <a:uFillTx/>
                <a:latin typeface="Arial"/>
              </a:rPr>
              <a:t>Monitoring et analyse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:C. Alfaro, C. Barennes, V. Cailleton, C. Deveaud, C. Droz, G. Dupouy, S. Duran, S. Dutoit, JL. Ecobichon, C. Egouy, S. Gautier, C. Germain, C. Jadand, V. Journot, R. Lassalle, S. Lawson-Ayayi, L. Latour, V. Le Moing, C. Lewden, B. Masquelier, W. Nouioua, G. Palmer, E. Pereira, C. Petit, M. Préau, S. Roloff, V. Rondé-Oustau, A. Sangue, M. Savès, M. Souville, B. Spire, R. Winu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ffffff"/>
                </a:solidFill>
                <a:uFillTx/>
                <a:latin typeface="Arial"/>
              </a:rPr>
              <a:t>Promotion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: Agence Nationale de Recherches sur le Sida (ANRS, Action Coordonnée n°7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ffffff"/>
                </a:solidFill>
                <a:uFillTx/>
                <a:latin typeface="Arial"/>
              </a:rPr>
              <a:t>Financement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: APPIT and  laboratoires  Boerhinger-Ingelheim, Roche, Bristol Myers Squib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Merck Dohm Chibret, Glaxo-Welcom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7918560" y="5791320"/>
            <a:ext cx="1287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71440" y="418680"/>
            <a:ext cx="887256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Le groupe d’étude APROCO </a:t>
            </a:r>
            <a:br>
              <a:rPr sz="3200"/>
            </a:b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Centre cliniques (investigateurs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80520" y="163800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AMIENS (Pr Schmi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ANGERS (Dr Chennebau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BELFORT (Dr Fall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BESANCON (Dr Estavoyer, Pr Laurent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 Vuitt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BORDEAUX (Pr Beylot, Pr Lacut, Pr Le Bras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 Ragnau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BOURG-EN-BRESSE (Dr Grani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BREST (Pr Garré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AEN (Pr Bazi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OMPIEGNE (Dr Veyssi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ORBEIL ESSONNES (Dr Devid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RETEIL (Pr Sobe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IJON (Pr Porti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GARCHES (Pr Perronn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AGNY (Dr Lagar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IBOURNE (Dr Ceccald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YON (Pr Peyramon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836600" y="162864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MEAUX (Dr Allar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MONTPELLIER (Pr Reyn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ANCY (Pr Cant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ANTES (Pr Raff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ICE (Pr Cassuto, Pr Dellamonic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ORLEANS (Dr Arsa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ARIS (Pr Bricaire, Pr Caulin, Pr Frottier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 Herson, Pr Imbert, Dr Malkin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 Rozenbaum, Pr Sicard, Pr Vachon, Pr Vildé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OITIERS (Pr Becq-Giraud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IMS (Pr Rém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NNES (Pr Carti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AINT-ETIENNE (Pr Luch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AINT MANDE (Pr Roué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TRASBOURG (Pr La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TOULON (Dr Jaureguiberr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TOULOUSE (Pr Massi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TOURS (Pr Choute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7918560" y="5799240"/>
            <a:ext cx="1287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11000" y="-43200"/>
            <a:ext cx="775476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Le groupe MANIF 200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041480" y="1566360"/>
            <a:ext cx="46735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 Boir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D Bouhn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P Carrie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JP Cass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 Dellamo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 Dujard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 Escaff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 Gall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JA Gasta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 Lep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 Lound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 Marimout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257440" y="1566360"/>
            <a:ext cx="426708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 Mech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JP Moat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J More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Y Oba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 Prad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 R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 Reynaud-Mo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 Schae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 S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 Tama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 Trémoliè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 Vlah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8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La cohorte APROCO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2120" y="123948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horte APROCO multidisciplinaire pour étudier le suivi des patients VIH</a:t>
            </a:r>
            <a:r>
              <a:rPr b="0" lang="fr-FR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initiant une multi-thérapie avec anti-proté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horte nationale, multicentrique (47 centres, 1281 patients incl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uto-questionnaire à l’inclusion (M0), à M1, M4 et tous les 8 mois comprenant la mesure de l’observance, des effets indésirables perçus et de la qualité de 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ore d’observanc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3920" y="12682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asé sur plusieurs questions relatives à l’observance sur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4 derniers jours et des questions supplémentaires sur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4 dernières semaine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uto-administré  de façon anonym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ermet de distinguer 3 catégories de pati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sujets « hautement observants » (100 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sujets modérément observants (80 à 99.9 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sujets non-observants (&lt; 80 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971280" y="3349800"/>
            <a:ext cx="235440" cy="2696040"/>
            <a:chOff x="971280" y="3349800"/>
            <a:chExt cx="235440" cy="2696040"/>
          </a:xfrm>
        </p:grpSpPr>
        <p:sp>
          <p:nvSpPr>
            <p:cNvPr id="56" name=""/>
            <p:cNvSpPr/>
            <p:nvPr/>
          </p:nvSpPr>
          <p:spPr>
            <a:xfrm>
              <a:off x="1067760" y="5802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7760" y="5457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71280" y="5088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71280" y="4749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71280" y="440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71280" y="4057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80280" y="369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71280" y="3349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73320" y="3819600"/>
            <a:ext cx="430200" cy="22413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54400" y="5294160"/>
            <a:ext cx="442800" cy="766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49520" y="5638680"/>
            <a:ext cx="42876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55800" y="3608280"/>
            <a:ext cx="0" cy="245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8560" y="6060960"/>
            <a:ext cx="5724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893880" y="5716440"/>
            <a:ext cx="61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98560" y="5351400"/>
            <a:ext cx="57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8560" y="5006880"/>
            <a:ext cx="57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98560" y="4662360"/>
            <a:ext cx="57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98560" y="4316400"/>
            <a:ext cx="57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98560" y="3952800"/>
            <a:ext cx="57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8560" y="3608280"/>
            <a:ext cx="5724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55800" y="6048360"/>
            <a:ext cx="32544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955800" y="6048360"/>
            <a:ext cx="0" cy="76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36880" y="6048360"/>
            <a:ext cx="0" cy="76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130560" y="6048360"/>
            <a:ext cx="0" cy="76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210200" y="6048360"/>
            <a:ext cx="1440" cy="76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43520" y="34196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21360" y="48909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37000" y="527688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63720" y="358920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6800" y="2795760"/>
            <a:ext cx="153396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% antiprotéas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ndétec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42200" y="3348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p&lt;0.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33640" y="38862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</a:rPr>
              <a:t>N=64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3720" y="3489480"/>
            <a:ext cx="16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7680" y="3348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p=0.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26960" y="45705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57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23320" y="388620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28560" y="4352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73720" y="38862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</a:rPr>
              <a:t>N=8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87360"/>
            <a:ext cx="8602560" cy="123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score d’observance en 3 catégories est associé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u succès virologiqu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à la présence de concentrations plasmatiques de l’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1844640"/>
            <a:ext cx="34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Carrieri, </a:t>
            </a:r>
            <a:r>
              <a:rPr b="0" lang="en-GB" sz="1400" spc="-1" strike="noStrike">
                <a:solidFill>
                  <a:srgbClr val="00ffff"/>
                </a:solidFill>
                <a:latin typeface="Arial"/>
              </a:rPr>
              <a:t>Jaids,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2546280"/>
            <a:ext cx="379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Duran, </a:t>
            </a:r>
            <a:r>
              <a:rPr b="0" lang="en-GB" sz="1400" spc="-1" strike="noStrike">
                <a:solidFill>
                  <a:srgbClr val="00ffff"/>
                </a:solidFill>
                <a:latin typeface="Arial"/>
              </a:rPr>
              <a:t>Aids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ore d’observanc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29160" y="4064040"/>
            <a:ext cx="365040" cy="1977840"/>
          </a:xfrm>
          <a:custGeom>
            <a:avLst/>
            <a:gdLst/>
            <a:ahLst/>
            <a:rect l="l" t="t" r="r" b="b"/>
            <a:pathLst>
              <a:path w="230" h="1246">
                <a:moveTo>
                  <a:pt x="0" y="1246"/>
                </a:moveTo>
                <a:lnTo>
                  <a:pt x="0" y="239"/>
                </a:lnTo>
                <a:lnTo>
                  <a:pt x="230" y="0"/>
                </a:lnTo>
                <a:lnTo>
                  <a:pt x="230" y="1007"/>
                </a:lnTo>
                <a:lnTo>
                  <a:pt x="0" y="124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29160" y="4064040"/>
            <a:ext cx="365040" cy="1977840"/>
          </a:xfrm>
          <a:custGeom>
            <a:avLst/>
            <a:gdLst/>
            <a:ahLst/>
            <a:rect l="l" t="t" r="r" b="b"/>
            <a:pathLst>
              <a:path w="230" h="1246">
                <a:moveTo>
                  <a:pt x="0" y="1246"/>
                </a:moveTo>
                <a:lnTo>
                  <a:pt x="0" y="239"/>
                </a:lnTo>
                <a:lnTo>
                  <a:pt x="230" y="0"/>
                </a:lnTo>
                <a:lnTo>
                  <a:pt x="230" y="1007"/>
                </a:lnTo>
                <a:lnTo>
                  <a:pt x="0" y="124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70520" y="5072040"/>
            <a:ext cx="442800" cy="973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67440" y="4827600"/>
            <a:ext cx="422280" cy="12175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62920" y="4406760"/>
            <a:ext cx="423720" cy="163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29160" y="4443480"/>
            <a:ext cx="1800" cy="1598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72280" y="6041880"/>
            <a:ext cx="56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72280" y="5510160"/>
            <a:ext cx="56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372280" y="4976640"/>
            <a:ext cx="56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372280" y="4443480"/>
            <a:ext cx="56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1920" y="5865840"/>
            <a:ext cx="2264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1920" y="5332320"/>
            <a:ext cx="2264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1920" y="4799160"/>
            <a:ext cx="2264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1920" y="4267080"/>
            <a:ext cx="2264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56320" y="3789360"/>
            <a:ext cx="139968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% charge viral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ndétectab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29160" y="6041880"/>
            <a:ext cx="3287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29160" y="604188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24640" y="604188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560" y="604188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17040" y="604188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4200" y="6194520"/>
            <a:ext cx="3938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B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56840" y="6194520"/>
            <a:ext cx="6850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y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48440" y="6194520"/>
            <a:ext cx="4824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a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6194520"/>
            <a:ext cx="3938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B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21200" y="6194520"/>
            <a:ext cx="6850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y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3160" y="6194520"/>
            <a:ext cx="4824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a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187280" y="1628640"/>
            <a:ext cx="6418440" cy="3766320"/>
            <a:chOff x="1187280" y="1628640"/>
            <a:chExt cx="6418440" cy="3766320"/>
          </a:xfrm>
        </p:grpSpPr>
        <p:sp>
          <p:nvSpPr>
            <p:cNvPr id="125" name=""/>
            <p:cNvSpPr/>
            <p:nvPr/>
          </p:nvSpPr>
          <p:spPr>
            <a:xfrm>
              <a:off x="2641680" y="2462040"/>
              <a:ext cx="426960" cy="2349720"/>
            </a:xfrm>
            <a:prstGeom prst="rect">
              <a:avLst/>
            </a:prstGeom>
            <a:gradFill rotWithShape="0">
              <a:gsLst>
                <a:gs pos="0">
                  <a:srgbClr val="b146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10160" y="2413080"/>
              <a:ext cx="404640" cy="2398680"/>
            </a:xfrm>
            <a:prstGeom prst="rect">
              <a:avLst/>
            </a:prstGeom>
            <a:gradFill rotWithShape="0">
              <a:gsLst>
                <a:gs pos="0">
                  <a:srgbClr val="b146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97280" y="2589120"/>
              <a:ext cx="427320" cy="2222640"/>
            </a:xfrm>
            <a:prstGeom prst="rect">
              <a:avLst/>
            </a:prstGeom>
            <a:gradFill rotWithShape="0">
              <a:gsLst>
                <a:gs pos="0">
                  <a:srgbClr val="b146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86280" y="2438280"/>
              <a:ext cx="403560" cy="2373480"/>
            </a:xfrm>
            <a:prstGeom prst="rect">
              <a:avLst/>
            </a:prstGeom>
            <a:gradFill rotWithShape="0">
              <a:gsLst>
                <a:gs pos="0">
                  <a:srgbClr val="b146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31000" y="2765520"/>
              <a:ext cx="425520" cy="2046240"/>
            </a:xfrm>
            <a:prstGeom prst="rect">
              <a:avLst/>
            </a:prstGeom>
            <a:gradFill rotWithShape="0">
              <a:gsLst>
                <a:gs pos="0">
                  <a:srgbClr val="b146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87520" y="1832040"/>
              <a:ext cx="1800" cy="297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4560" y="4811760"/>
              <a:ext cx="88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4560" y="4205160"/>
              <a:ext cx="88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4560" y="3624120"/>
              <a:ext cx="88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4560" y="3017880"/>
              <a:ext cx="88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4560" y="2438280"/>
              <a:ext cx="88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4560" y="1832040"/>
              <a:ext cx="88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73480" y="4811760"/>
              <a:ext cx="52322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387520" y="4811760"/>
              <a:ext cx="180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429000" y="4811760"/>
              <a:ext cx="144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460760" y="4811760"/>
              <a:ext cx="180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530680" y="4811760"/>
              <a:ext cx="180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550200" y="4811760"/>
              <a:ext cx="144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605720" y="4811760"/>
              <a:ext cx="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93280" y="1679400"/>
              <a:ext cx="33912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6600"/>
                  </a:solidFill>
                  <a:latin typeface="Arial"/>
                </a:rPr>
                <a:t>5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75480" y="1679400"/>
              <a:ext cx="33912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66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03600" y="1687680"/>
              <a:ext cx="33912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6600"/>
                  </a:solidFill>
                  <a:latin typeface="Arial"/>
                </a:rPr>
                <a:t>5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60920" y="1679400"/>
              <a:ext cx="33912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66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59560" y="1679400"/>
              <a:ext cx="33912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6600"/>
                  </a:solidFill>
                  <a:latin typeface="Arial"/>
                </a:rPr>
                <a:t>5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34560" y="4610160"/>
              <a:ext cx="28404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34560" y="4003560"/>
              <a:ext cx="28404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34560" y="3422520"/>
              <a:ext cx="28404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34560" y="2816280"/>
              <a:ext cx="28404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34560" y="2235240"/>
              <a:ext cx="28404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34560" y="1628640"/>
              <a:ext cx="28404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10800" y="5089680"/>
              <a:ext cx="35424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M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75600" y="5089680"/>
              <a:ext cx="49608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M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9680" y="5089680"/>
              <a:ext cx="49608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M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63240" y="5089680"/>
              <a:ext cx="49608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M2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17320" y="5089680"/>
              <a:ext cx="49608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M3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178200" y="3137040"/>
              <a:ext cx="232344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% observance hau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28600" y="-7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Proportion de patients hautement observ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3040" y="5616720"/>
            <a:ext cx="78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r 360 patients toujours répondants aux question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768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L’observance se modifie au cours du temp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330200"/>
          <a:ext cx="815328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330200"/>
                    <a:ext cx="8153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207440" y="2959200"/>
            <a:ext cx="167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Parf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hautement</a:t>
            </a:r>
            <a:br>
              <a:rPr sz="2400"/>
            </a:b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observ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6160" y="1735200"/>
            <a:ext cx="167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Arial"/>
              </a:rPr>
              <a:t>Toujou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Arial"/>
              </a:rPr>
              <a:t>hautement</a:t>
            </a:r>
            <a:br>
              <a:rPr sz="2400"/>
            </a:br>
            <a:r>
              <a:rPr b="0" lang="fr-FR" sz="2400" spc="-1" strike="noStrike">
                <a:solidFill>
                  <a:srgbClr val="00ff00"/>
                </a:solidFill>
                <a:latin typeface="Arial"/>
              </a:rPr>
              <a:t>observ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00000" y="3535200"/>
            <a:ext cx="167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</a:rPr>
              <a:t>Jama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</a:rPr>
              <a:t>hau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</a:rPr>
              <a:t>observ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92560" y="31734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64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0000" y="3463920"/>
            <a:ext cx="12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0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40480" y="25495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6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3040" y="5616720"/>
            <a:ext cx="78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r 360 patients toujours répondants aux question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79360" y="3776760"/>
            <a:ext cx="582840" cy="1023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98680" y="3570120"/>
            <a:ext cx="598680" cy="1230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18000" y="2916360"/>
            <a:ext cx="582480" cy="1884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2840" y="2768760"/>
            <a:ext cx="1800" cy="2031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80920" y="4800600"/>
            <a:ext cx="61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80920" y="4503600"/>
            <a:ext cx="61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80920" y="4222800"/>
            <a:ext cx="61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80920" y="3925800"/>
            <a:ext cx="61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80920" y="3643200"/>
            <a:ext cx="61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80920" y="3346560"/>
            <a:ext cx="61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80920" y="3065400"/>
            <a:ext cx="61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80920" y="2768760"/>
            <a:ext cx="61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42840" y="4800600"/>
            <a:ext cx="35560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42840" y="4800600"/>
            <a:ext cx="1800" cy="60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384280" y="4800600"/>
            <a:ext cx="1800" cy="60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843360" y="4800600"/>
            <a:ext cx="1440" cy="60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87360" y="3465360"/>
            <a:ext cx="444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5,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06680" y="3257640"/>
            <a:ext cx="444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42,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10160" y="2604960"/>
            <a:ext cx="444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64,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2200" y="4681440"/>
            <a:ext cx="99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3840" y="438624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3840" y="410364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3840" y="380700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3840" y="352584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3840" y="322884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3840" y="294624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3840" y="2649600"/>
            <a:ext cx="19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-653760" y="3588840"/>
            <a:ext cx="191016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% succès virologi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0880" y="201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uccès virologique après 3 ans</a:t>
            </a:r>
            <a:br>
              <a:rPr sz="3200"/>
            </a:b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de traitement et observanc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040" y="5616720"/>
            <a:ext cx="78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r 360 patients toujours répondants aux question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4834080"/>
            <a:ext cx="854280" cy="45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on-ob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=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93760" y="4834080"/>
            <a:ext cx="1261080" cy="45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Obs modéré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=1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32240" y="4834080"/>
            <a:ext cx="1084320" cy="45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Obs élevé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=2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3440" y="2338560"/>
            <a:ext cx="129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</a:rPr>
              <a:t>p=0.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13000" y="1557360"/>
            <a:ext cx="744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M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8:36:46Z</dcterms:created>
  <dc:creator>Bruno SPIRE</dc:creator>
  <dc:description/>
  <dc:language>en-US</dc:language>
  <cp:lastModifiedBy>Maryline</cp:lastModifiedBy>
  <cp:lastPrinted>2001-08-30T09:41:07Z</cp:lastPrinted>
  <dcterms:modified xsi:type="dcterms:W3CDTF">2003-11-06T21:45:48Z</dcterms:modified>
  <cp:revision>236</cp:revision>
  <dc:subject/>
  <dc:title>APPORT DES ENQUÊTES SOCIO-COMPORTEMENTALES POUR LA PRISE EN CHARGE CLINIQUE DU PATIENT VIH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76541995</vt:r8>
  </property>
  <property fmtid="{D5CDD505-2E9C-101B-9397-08002B2CF9AE}" pid="3" name="_AuthorEmail">
    <vt:lpwstr>amartin@aei.fr</vt:lpwstr>
  </property>
  <property fmtid="{D5CDD505-2E9C-101B-9397-08002B2CF9AE}" pid="4" name="_AuthorEmailDisplayName">
    <vt:lpwstr>Alexis Martin</vt:lpwstr>
  </property>
  <property fmtid="{D5CDD505-2E9C-101B-9397-08002B2CF9AE}" pid="5" name="_EmailSubject">
    <vt:lpwstr>Avancées VIH 2003 - Dr SPIRE</vt:lpwstr>
  </property>
</Properties>
</file>