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6.wmf" ContentType="image/x-wmf"/>
  <Override PartName="/ppt/media/image8.png" ContentType="image/png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20840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900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40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900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40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d0c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6520" y="250200"/>
            <a:ext cx="849096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d0c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d0c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240" y="420840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5900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89400" y="167616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24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5900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89400" y="4208400"/>
            <a:ext cx="2790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520" y="250200"/>
            <a:ext cx="849096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d0c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20840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76160"/>
            <a:ext cx="422964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208400"/>
            <a:ext cx="8667720" cy="23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2819520"/>
              <a:ext cx="9144000" cy="4038480"/>
            </a:xfrm>
            <a:prstGeom prst="rect">
              <a:avLst/>
            </a:prstGeom>
            <a:solidFill>
              <a:srgbClr val="003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3048120"/>
            </a:xfrm>
            <a:prstGeom prst="rect">
              <a:avLst/>
            </a:prstGeom>
            <a:gradFill rotWithShape="0">
              <a:gsLst>
                <a:gs pos="0">
                  <a:srgbClr val="285c68"/>
                </a:gs>
                <a:gs pos="100000">
                  <a:srgbClr val="003d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6520" y="250200"/>
            <a:ext cx="849096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240" y="1676160"/>
            <a:ext cx="86677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876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Aft>
                <a:spcPts val="876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9080"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06640" indent="-289080">
              <a:spcAft>
                <a:spcPts val="876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568600" indent="-289080">
              <a:spcAft>
                <a:spcPts val="876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568600" indent="-289080"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568600" indent="-289080"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2819520"/>
              <a:ext cx="9144000" cy="4038480"/>
            </a:xfrm>
            <a:prstGeom prst="rect">
              <a:avLst/>
            </a:prstGeom>
            <a:solidFill>
              <a:srgbClr val="003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3048120"/>
            </a:xfrm>
            <a:prstGeom prst="rect">
              <a:avLst/>
            </a:prstGeom>
            <a:gradFill rotWithShape="0">
              <a:gsLst>
                <a:gs pos="0">
                  <a:srgbClr val="285c68"/>
                </a:gs>
                <a:gs pos="100000">
                  <a:srgbClr val="003d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2240" y="1102320"/>
            <a:ext cx="7139520" cy="161352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marL="19224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82080" y="6284880"/>
            <a:ext cx="780840" cy="420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6124680"/>
            <a:ext cx="476280" cy="5810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289320" y="152280"/>
            <a:ext cx="2565000" cy="579600"/>
            <a:chOff x="3289320" y="152280"/>
            <a:chExt cx="2565000" cy="579600"/>
          </a:xfrm>
        </p:grpSpPr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3777480" y="233280"/>
              <a:ext cx="2076840" cy="49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" name=""/>
            <p:cNvGrpSpPr/>
            <p:nvPr/>
          </p:nvGrpSpPr>
          <p:grpSpPr>
            <a:xfrm>
              <a:off x="3289320" y="152280"/>
              <a:ext cx="436320" cy="465840"/>
              <a:chOff x="3289320" y="152280"/>
              <a:chExt cx="436320" cy="465840"/>
            </a:xfrm>
          </p:grpSpPr>
          <p:sp>
            <p:nvSpPr>
              <p:cNvPr id="50" name=""/>
              <p:cNvSpPr/>
              <p:nvPr/>
            </p:nvSpPr>
            <p:spPr>
              <a:xfrm>
                <a:off x="3301560" y="347400"/>
                <a:ext cx="424080" cy="64080"/>
              </a:xfrm>
              <a:custGeom>
                <a:avLst/>
                <a:gdLst/>
                <a:ahLst/>
                <a:rect l="l" t="t" r="r" b="b"/>
                <a:pathLst>
                  <a:path w="2993" h="436">
                    <a:moveTo>
                      <a:pt x="0" y="0"/>
                    </a:moveTo>
                    <a:lnTo>
                      <a:pt x="255" y="74"/>
                    </a:lnTo>
                    <a:lnTo>
                      <a:pt x="805" y="138"/>
                    </a:lnTo>
                    <a:lnTo>
                      <a:pt x="873" y="149"/>
                    </a:lnTo>
                    <a:lnTo>
                      <a:pt x="969" y="159"/>
                    </a:lnTo>
                    <a:lnTo>
                      <a:pt x="1009" y="165"/>
                    </a:lnTo>
                    <a:lnTo>
                      <a:pt x="1048" y="165"/>
                    </a:lnTo>
                    <a:lnTo>
                      <a:pt x="1077" y="159"/>
                    </a:lnTo>
                    <a:lnTo>
                      <a:pt x="1088" y="154"/>
                    </a:lnTo>
                    <a:lnTo>
                      <a:pt x="1094" y="149"/>
                    </a:lnTo>
                    <a:lnTo>
                      <a:pt x="1139" y="159"/>
                    </a:lnTo>
                    <a:lnTo>
                      <a:pt x="1156" y="165"/>
                    </a:lnTo>
                    <a:lnTo>
                      <a:pt x="1173" y="165"/>
                    </a:lnTo>
                    <a:lnTo>
                      <a:pt x="1219" y="165"/>
                    </a:lnTo>
                    <a:lnTo>
                      <a:pt x="1258" y="154"/>
                    </a:lnTo>
                    <a:lnTo>
                      <a:pt x="1281" y="149"/>
                    </a:lnTo>
                    <a:lnTo>
                      <a:pt x="1292" y="143"/>
                    </a:lnTo>
                    <a:lnTo>
                      <a:pt x="1321" y="149"/>
                    </a:lnTo>
                    <a:lnTo>
                      <a:pt x="1394" y="154"/>
                    </a:lnTo>
                    <a:lnTo>
                      <a:pt x="1474" y="165"/>
                    </a:lnTo>
                    <a:lnTo>
                      <a:pt x="1513" y="175"/>
                    </a:lnTo>
                    <a:lnTo>
                      <a:pt x="1536" y="180"/>
                    </a:lnTo>
                    <a:lnTo>
                      <a:pt x="1559" y="186"/>
                    </a:lnTo>
                    <a:lnTo>
                      <a:pt x="1581" y="186"/>
                    </a:lnTo>
                    <a:lnTo>
                      <a:pt x="1598" y="186"/>
                    </a:lnTo>
                    <a:lnTo>
                      <a:pt x="1621" y="186"/>
                    </a:lnTo>
                    <a:lnTo>
                      <a:pt x="1644" y="180"/>
                    </a:lnTo>
                    <a:lnTo>
                      <a:pt x="1683" y="170"/>
                    </a:lnTo>
                    <a:lnTo>
                      <a:pt x="1763" y="143"/>
                    </a:lnTo>
                    <a:lnTo>
                      <a:pt x="1797" y="133"/>
                    </a:lnTo>
                    <a:lnTo>
                      <a:pt x="1831" y="122"/>
                    </a:lnTo>
                    <a:lnTo>
                      <a:pt x="1853" y="117"/>
                    </a:lnTo>
                    <a:lnTo>
                      <a:pt x="1882" y="117"/>
                    </a:lnTo>
                    <a:lnTo>
                      <a:pt x="1904" y="122"/>
                    </a:lnTo>
                    <a:lnTo>
                      <a:pt x="1927" y="133"/>
                    </a:lnTo>
                    <a:lnTo>
                      <a:pt x="1950" y="138"/>
                    </a:lnTo>
                    <a:lnTo>
                      <a:pt x="1973" y="143"/>
                    </a:lnTo>
                    <a:lnTo>
                      <a:pt x="1995" y="138"/>
                    </a:lnTo>
                    <a:lnTo>
                      <a:pt x="2024" y="127"/>
                    </a:lnTo>
                    <a:lnTo>
                      <a:pt x="2012" y="101"/>
                    </a:lnTo>
                    <a:lnTo>
                      <a:pt x="2409" y="154"/>
                    </a:lnTo>
                    <a:lnTo>
                      <a:pt x="2505" y="133"/>
                    </a:lnTo>
                    <a:lnTo>
                      <a:pt x="2539" y="133"/>
                    </a:lnTo>
                    <a:lnTo>
                      <a:pt x="2573" y="138"/>
                    </a:lnTo>
                    <a:lnTo>
                      <a:pt x="2607" y="138"/>
                    </a:lnTo>
                    <a:lnTo>
                      <a:pt x="2647" y="143"/>
                    </a:lnTo>
                    <a:lnTo>
                      <a:pt x="2709" y="159"/>
                    </a:lnTo>
                    <a:lnTo>
                      <a:pt x="2772" y="175"/>
                    </a:lnTo>
                    <a:lnTo>
                      <a:pt x="2800" y="180"/>
                    </a:lnTo>
                    <a:lnTo>
                      <a:pt x="2829" y="180"/>
                    </a:lnTo>
                    <a:lnTo>
                      <a:pt x="2885" y="186"/>
                    </a:lnTo>
                    <a:lnTo>
                      <a:pt x="2919" y="191"/>
                    </a:lnTo>
                    <a:lnTo>
                      <a:pt x="2942" y="196"/>
                    </a:lnTo>
                    <a:lnTo>
                      <a:pt x="2970" y="207"/>
                    </a:lnTo>
                    <a:lnTo>
                      <a:pt x="2976" y="212"/>
                    </a:lnTo>
                    <a:lnTo>
                      <a:pt x="2987" y="223"/>
                    </a:lnTo>
                    <a:lnTo>
                      <a:pt x="2993" y="228"/>
                    </a:lnTo>
                    <a:lnTo>
                      <a:pt x="2965" y="271"/>
                    </a:lnTo>
                    <a:lnTo>
                      <a:pt x="2976" y="271"/>
                    </a:lnTo>
                    <a:lnTo>
                      <a:pt x="2982" y="281"/>
                    </a:lnTo>
                    <a:lnTo>
                      <a:pt x="2965" y="287"/>
                    </a:lnTo>
                    <a:lnTo>
                      <a:pt x="2953" y="303"/>
                    </a:lnTo>
                    <a:lnTo>
                      <a:pt x="2976" y="303"/>
                    </a:lnTo>
                    <a:lnTo>
                      <a:pt x="2965" y="324"/>
                    </a:lnTo>
                    <a:lnTo>
                      <a:pt x="2216" y="409"/>
                    </a:lnTo>
                    <a:lnTo>
                      <a:pt x="2182" y="414"/>
                    </a:lnTo>
                    <a:lnTo>
                      <a:pt x="2154" y="414"/>
                    </a:lnTo>
                    <a:lnTo>
                      <a:pt x="2120" y="409"/>
                    </a:lnTo>
                    <a:lnTo>
                      <a:pt x="2086" y="404"/>
                    </a:lnTo>
                    <a:lnTo>
                      <a:pt x="2046" y="404"/>
                    </a:lnTo>
                    <a:lnTo>
                      <a:pt x="2012" y="404"/>
                    </a:lnTo>
                    <a:lnTo>
                      <a:pt x="1995" y="404"/>
                    </a:lnTo>
                    <a:lnTo>
                      <a:pt x="1978" y="409"/>
                    </a:lnTo>
                    <a:lnTo>
                      <a:pt x="1961" y="414"/>
                    </a:lnTo>
                    <a:lnTo>
                      <a:pt x="1944" y="425"/>
                    </a:lnTo>
                    <a:lnTo>
                      <a:pt x="1967" y="430"/>
                    </a:lnTo>
                    <a:lnTo>
                      <a:pt x="1967" y="436"/>
                    </a:lnTo>
                    <a:lnTo>
                      <a:pt x="1876" y="425"/>
                    </a:lnTo>
                    <a:lnTo>
                      <a:pt x="1763" y="372"/>
                    </a:lnTo>
                    <a:lnTo>
                      <a:pt x="1774" y="404"/>
                    </a:lnTo>
                    <a:lnTo>
                      <a:pt x="1689" y="404"/>
                    </a:lnTo>
                    <a:lnTo>
                      <a:pt x="1610" y="398"/>
                    </a:lnTo>
                    <a:lnTo>
                      <a:pt x="1530" y="393"/>
                    </a:lnTo>
                    <a:lnTo>
                      <a:pt x="1451" y="388"/>
                    </a:lnTo>
                    <a:lnTo>
                      <a:pt x="1372" y="382"/>
                    </a:lnTo>
                    <a:lnTo>
                      <a:pt x="1287" y="382"/>
                    </a:lnTo>
                    <a:lnTo>
                      <a:pt x="1207" y="382"/>
                    </a:lnTo>
                    <a:lnTo>
                      <a:pt x="1122" y="388"/>
                    </a:lnTo>
                    <a:lnTo>
                      <a:pt x="1122" y="398"/>
                    </a:lnTo>
                    <a:lnTo>
                      <a:pt x="1207" y="420"/>
                    </a:lnTo>
                    <a:lnTo>
                      <a:pt x="975" y="409"/>
                    </a:lnTo>
                    <a:lnTo>
                      <a:pt x="1077" y="382"/>
                    </a:lnTo>
                    <a:lnTo>
                      <a:pt x="918" y="361"/>
                    </a:lnTo>
                    <a:lnTo>
                      <a:pt x="890" y="372"/>
                    </a:lnTo>
                    <a:lnTo>
                      <a:pt x="844" y="377"/>
                    </a:lnTo>
                    <a:lnTo>
                      <a:pt x="782" y="388"/>
                    </a:lnTo>
                    <a:lnTo>
                      <a:pt x="714" y="398"/>
                    </a:lnTo>
                    <a:lnTo>
                      <a:pt x="652" y="404"/>
                    </a:lnTo>
                    <a:lnTo>
                      <a:pt x="618" y="404"/>
                    </a:lnTo>
                    <a:lnTo>
                      <a:pt x="589" y="404"/>
                    </a:lnTo>
                    <a:lnTo>
                      <a:pt x="561" y="404"/>
                    </a:lnTo>
                    <a:lnTo>
                      <a:pt x="538" y="398"/>
                    </a:lnTo>
                    <a:lnTo>
                      <a:pt x="516" y="398"/>
                    </a:lnTo>
                    <a:lnTo>
                      <a:pt x="504" y="388"/>
                    </a:lnTo>
                    <a:lnTo>
                      <a:pt x="476" y="356"/>
                    </a:lnTo>
                    <a:lnTo>
                      <a:pt x="362" y="361"/>
                    </a:lnTo>
                    <a:lnTo>
                      <a:pt x="272" y="361"/>
                    </a:lnTo>
                    <a:lnTo>
                      <a:pt x="221" y="356"/>
                    </a:lnTo>
                    <a:lnTo>
                      <a:pt x="175" y="345"/>
                    </a:lnTo>
                    <a:lnTo>
                      <a:pt x="136" y="329"/>
                    </a:lnTo>
                    <a:lnTo>
                      <a:pt x="96" y="313"/>
                    </a:lnTo>
                    <a:lnTo>
                      <a:pt x="62" y="292"/>
                    </a:lnTo>
                    <a:lnTo>
                      <a:pt x="45" y="276"/>
                    </a:lnTo>
                    <a:lnTo>
                      <a:pt x="34" y="260"/>
                    </a:lnTo>
                    <a:lnTo>
                      <a:pt x="22" y="239"/>
                    </a:lnTo>
                    <a:lnTo>
                      <a:pt x="11" y="212"/>
                    </a:lnTo>
                    <a:lnTo>
                      <a:pt x="5" y="186"/>
                    </a:lnTo>
                    <a:lnTo>
                      <a:pt x="5" y="149"/>
                    </a:lnTo>
                    <a:lnTo>
                      <a:pt x="0" y="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426480" y="458640"/>
                <a:ext cx="156960" cy="159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424680" y="174600"/>
                <a:ext cx="156600" cy="157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289320" y="336240"/>
                <a:ext cx="424080" cy="64080"/>
              </a:xfrm>
              <a:custGeom>
                <a:avLst/>
                <a:gdLst/>
                <a:ahLst/>
                <a:rect l="l" t="t" r="r" b="b"/>
                <a:pathLst>
                  <a:path w="2993" h="436">
                    <a:moveTo>
                      <a:pt x="0" y="0"/>
                    </a:moveTo>
                    <a:lnTo>
                      <a:pt x="255" y="74"/>
                    </a:lnTo>
                    <a:lnTo>
                      <a:pt x="805" y="138"/>
                    </a:lnTo>
                    <a:lnTo>
                      <a:pt x="873" y="149"/>
                    </a:lnTo>
                    <a:lnTo>
                      <a:pt x="969" y="159"/>
                    </a:lnTo>
                    <a:lnTo>
                      <a:pt x="1009" y="165"/>
                    </a:lnTo>
                    <a:lnTo>
                      <a:pt x="1048" y="165"/>
                    </a:lnTo>
                    <a:lnTo>
                      <a:pt x="1077" y="159"/>
                    </a:lnTo>
                    <a:lnTo>
                      <a:pt x="1088" y="154"/>
                    </a:lnTo>
                    <a:lnTo>
                      <a:pt x="1094" y="149"/>
                    </a:lnTo>
                    <a:lnTo>
                      <a:pt x="1139" y="159"/>
                    </a:lnTo>
                    <a:lnTo>
                      <a:pt x="1156" y="165"/>
                    </a:lnTo>
                    <a:lnTo>
                      <a:pt x="1173" y="165"/>
                    </a:lnTo>
                    <a:lnTo>
                      <a:pt x="1219" y="165"/>
                    </a:lnTo>
                    <a:lnTo>
                      <a:pt x="1258" y="154"/>
                    </a:lnTo>
                    <a:lnTo>
                      <a:pt x="1281" y="149"/>
                    </a:lnTo>
                    <a:lnTo>
                      <a:pt x="1292" y="143"/>
                    </a:lnTo>
                    <a:lnTo>
                      <a:pt x="1321" y="149"/>
                    </a:lnTo>
                    <a:lnTo>
                      <a:pt x="1394" y="154"/>
                    </a:lnTo>
                    <a:lnTo>
                      <a:pt x="1474" y="165"/>
                    </a:lnTo>
                    <a:lnTo>
                      <a:pt x="1513" y="175"/>
                    </a:lnTo>
                    <a:lnTo>
                      <a:pt x="1536" y="180"/>
                    </a:lnTo>
                    <a:lnTo>
                      <a:pt x="1559" y="186"/>
                    </a:lnTo>
                    <a:lnTo>
                      <a:pt x="1581" y="186"/>
                    </a:lnTo>
                    <a:lnTo>
                      <a:pt x="1598" y="186"/>
                    </a:lnTo>
                    <a:lnTo>
                      <a:pt x="1621" y="186"/>
                    </a:lnTo>
                    <a:lnTo>
                      <a:pt x="1644" y="180"/>
                    </a:lnTo>
                    <a:lnTo>
                      <a:pt x="1683" y="170"/>
                    </a:lnTo>
                    <a:lnTo>
                      <a:pt x="1763" y="143"/>
                    </a:lnTo>
                    <a:lnTo>
                      <a:pt x="1797" y="133"/>
                    </a:lnTo>
                    <a:lnTo>
                      <a:pt x="1831" y="122"/>
                    </a:lnTo>
                    <a:lnTo>
                      <a:pt x="1853" y="117"/>
                    </a:lnTo>
                    <a:lnTo>
                      <a:pt x="1882" y="117"/>
                    </a:lnTo>
                    <a:lnTo>
                      <a:pt x="1904" y="122"/>
                    </a:lnTo>
                    <a:lnTo>
                      <a:pt x="1927" y="133"/>
                    </a:lnTo>
                    <a:lnTo>
                      <a:pt x="1950" y="138"/>
                    </a:lnTo>
                    <a:lnTo>
                      <a:pt x="1973" y="143"/>
                    </a:lnTo>
                    <a:lnTo>
                      <a:pt x="1995" y="138"/>
                    </a:lnTo>
                    <a:lnTo>
                      <a:pt x="2024" y="127"/>
                    </a:lnTo>
                    <a:lnTo>
                      <a:pt x="2012" y="101"/>
                    </a:lnTo>
                    <a:lnTo>
                      <a:pt x="2409" y="154"/>
                    </a:lnTo>
                    <a:lnTo>
                      <a:pt x="2505" y="133"/>
                    </a:lnTo>
                    <a:lnTo>
                      <a:pt x="2539" y="133"/>
                    </a:lnTo>
                    <a:lnTo>
                      <a:pt x="2573" y="138"/>
                    </a:lnTo>
                    <a:lnTo>
                      <a:pt x="2607" y="138"/>
                    </a:lnTo>
                    <a:lnTo>
                      <a:pt x="2647" y="143"/>
                    </a:lnTo>
                    <a:lnTo>
                      <a:pt x="2709" y="159"/>
                    </a:lnTo>
                    <a:lnTo>
                      <a:pt x="2772" y="175"/>
                    </a:lnTo>
                    <a:lnTo>
                      <a:pt x="2800" y="180"/>
                    </a:lnTo>
                    <a:lnTo>
                      <a:pt x="2829" y="180"/>
                    </a:lnTo>
                    <a:lnTo>
                      <a:pt x="2885" y="186"/>
                    </a:lnTo>
                    <a:lnTo>
                      <a:pt x="2919" y="191"/>
                    </a:lnTo>
                    <a:lnTo>
                      <a:pt x="2942" y="196"/>
                    </a:lnTo>
                    <a:lnTo>
                      <a:pt x="2970" y="207"/>
                    </a:lnTo>
                    <a:lnTo>
                      <a:pt x="2976" y="212"/>
                    </a:lnTo>
                    <a:lnTo>
                      <a:pt x="2987" y="223"/>
                    </a:lnTo>
                    <a:lnTo>
                      <a:pt x="2993" y="228"/>
                    </a:lnTo>
                    <a:lnTo>
                      <a:pt x="2965" y="271"/>
                    </a:lnTo>
                    <a:lnTo>
                      <a:pt x="2976" y="271"/>
                    </a:lnTo>
                    <a:lnTo>
                      <a:pt x="2982" y="281"/>
                    </a:lnTo>
                    <a:lnTo>
                      <a:pt x="2965" y="287"/>
                    </a:lnTo>
                    <a:lnTo>
                      <a:pt x="2953" y="303"/>
                    </a:lnTo>
                    <a:lnTo>
                      <a:pt x="2976" y="303"/>
                    </a:lnTo>
                    <a:lnTo>
                      <a:pt x="2965" y="324"/>
                    </a:lnTo>
                    <a:lnTo>
                      <a:pt x="2216" y="409"/>
                    </a:lnTo>
                    <a:lnTo>
                      <a:pt x="2182" y="414"/>
                    </a:lnTo>
                    <a:lnTo>
                      <a:pt x="2154" y="414"/>
                    </a:lnTo>
                    <a:lnTo>
                      <a:pt x="2120" y="409"/>
                    </a:lnTo>
                    <a:lnTo>
                      <a:pt x="2086" y="404"/>
                    </a:lnTo>
                    <a:lnTo>
                      <a:pt x="2046" y="404"/>
                    </a:lnTo>
                    <a:lnTo>
                      <a:pt x="2012" y="404"/>
                    </a:lnTo>
                    <a:lnTo>
                      <a:pt x="1995" y="404"/>
                    </a:lnTo>
                    <a:lnTo>
                      <a:pt x="1978" y="409"/>
                    </a:lnTo>
                    <a:lnTo>
                      <a:pt x="1961" y="414"/>
                    </a:lnTo>
                    <a:lnTo>
                      <a:pt x="1944" y="425"/>
                    </a:lnTo>
                    <a:lnTo>
                      <a:pt x="1967" y="430"/>
                    </a:lnTo>
                    <a:lnTo>
                      <a:pt x="1967" y="436"/>
                    </a:lnTo>
                    <a:lnTo>
                      <a:pt x="1876" y="425"/>
                    </a:lnTo>
                    <a:lnTo>
                      <a:pt x="1763" y="372"/>
                    </a:lnTo>
                    <a:lnTo>
                      <a:pt x="1774" y="404"/>
                    </a:lnTo>
                    <a:lnTo>
                      <a:pt x="1689" y="404"/>
                    </a:lnTo>
                    <a:lnTo>
                      <a:pt x="1610" y="398"/>
                    </a:lnTo>
                    <a:lnTo>
                      <a:pt x="1530" y="393"/>
                    </a:lnTo>
                    <a:lnTo>
                      <a:pt x="1451" y="388"/>
                    </a:lnTo>
                    <a:lnTo>
                      <a:pt x="1372" y="382"/>
                    </a:lnTo>
                    <a:lnTo>
                      <a:pt x="1287" y="382"/>
                    </a:lnTo>
                    <a:lnTo>
                      <a:pt x="1207" y="382"/>
                    </a:lnTo>
                    <a:lnTo>
                      <a:pt x="1122" y="388"/>
                    </a:lnTo>
                    <a:lnTo>
                      <a:pt x="1122" y="398"/>
                    </a:lnTo>
                    <a:lnTo>
                      <a:pt x="1207" y="420"/>
                    </a:lnTo>
                    <a:lnTo>
                      <a:pt x="975" y="409"/>
                    </a:lnTo>
                    <a:lnTo>
                      <a:pt x="1077" y="382"/>
                    </a:lnTo>
                    <a:lnTo>
                      <a:pt x="918" y="361"/>
                    </a:lnTo>
                    <a:lnTo>
                      <a:pt x="890" y="372"/>
                    </a:lnTo>
                    <a:lnTo>
                      <a:pt x="844" y="377"/>
                    </a:lnTo>
                    <a:lnTo>
                      <a:pt x="782" y="388"/>
                    </a:lnTo>
                    <a:lnTo>
                      <a:pt x="714" y="398"/>
                    </a:lnTo>
                    <a:lnTo>
                      <a:pt x="652" y="404"/>
                    </a:lnTo>
                    <a:lnTo>
                      <a:pt x="618" y="404"/>
                    </a:lnTo>
                    <a:lnTo>
                      <a:pt x="589" y="404"/>
                    </a:lnTo>
                    <a:lnTo>
                      <a:pt x="561" y="404"/>
                    </a:lnTo>
                    <a:lnTo>
                      <a:pt x="538" y="398"/>
                    </a:lnTo>
                    <a:lnTo>
                      <a:pt x="516" y="398"/>
                    </a:lnTo>
                    <a:lnTo>
                      <a:pt x="504" y="388"/>
                    </a:lnTo>
                    <a:lnTo>
                      <a:pt x="476" y="356"/>
                    </a:lnTo>
                    <a:lnTo>
                      <a:pt x="362" y="361"/>
                    </a:lnTo>
                    <a:lnTo>
                      <a:pt x="272" y="361"/>
                    </a:lnTo>
                    <a:lnTo>
                      <a:pt x="221" y="356"/>
                    </a:lnTo>
                    <a:lnTo>
                      <a:pt x="175" y="345"/>
                    </a:lnTo>
                    <a:lnTo>
                      <a:pt x="136" y="329"/>
                    </a:lnTo>
                    <a:lnTo>
                      <a:pt x="96" y="313"/>
                    </a:lnTo>
                    <a:lnTo>
                      <a:pt x="62" y="292"/>
                    </a:lnTo>
                    <a:lnTo>
                      <a:pt x="45" y="276"/>
                    </a:lnTo>
                    <a:lnTo>
                      <a:pt x="34" y="260"/>
                    </a:lnTo>
                    <a:lnTo>
                      <a:pt x="22" y="239"/>
                    </a:lnTo>
                    <a:lnTo>
                      <a:pt x="11" y="212"/>
                    </a:lnTo>
                    <a:lnTo>
                      <a:pt x="5" y="186"/>
                    </a:lnTo>
                    <a:lnTo>
                      <a:pt x="5" y="149"/>
                    </a:lnTo>
                    <a:lnTo>
                      <a:pt x="0" y="7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b6c6d7"/>
                  </a:gs>
                  <a:gs pos="100000">
                    <a:srgbClr val="3160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98040" y="152280"/>
                <a:ext cx="187920" cy="460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14640" y="5661000"/>
            <a:ext cx="1295640" cy="965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97160" y="1133640"/>
            <a:ext cx="7399080" cy="1752480"/>
          </a:xfrm>
          <a:prstGeom prst="roundRect">
            <a:avLst>
              <a:gd name="adj" fmla="val 26722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Descriçao de um modelo e de três programas</a:t>
            </a:r>
            <a:br>
              <a:rPr sz="24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i="1" lang="fr-FR" sz="2400" spc="-1" strike="noStrike">
                <a:solidFill>
                  <a:srgbClr val="33ccff"/>
                </a:solidFill>
                <a:latin typeface="Arial"/>
              </a:rPr>
              <a:t>de adesão aos tratamentos antiretrovirais</a:t>
            </a: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 :</a:t>
            </a:r>
            <a:r>
              <a:rPr b="0" lang="fr-FR" sz="3200" spc="-1" strike="noStrike">
                <a:solidFill>
                  <a:srgbClr val="33ccff"/>
                </a:solidFill>
                <a:latin typeface="Arial"/>
              </a:rPr>
              <a:t> </a:t>
            </a:r>
            <a:br>
              <a:rPr sz="32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O modelo MOTHIV*</a:t>
            </a:r>
            <a:br>
              <a:rPr sz="24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conceito, strategias,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560" y="3495600"/>
            <a:ext cx="866772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atherine Tourette-Turg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Maître de conférences des universités en psychologie de la sant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ryline Rébill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sychologue, Directrice de Comment D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48800" y="638496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488600" y="345600"/>
            <a:ext cx="704160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ccff"/>
                </a:solidFill>
                <a:latin typeface="Arial"/>
              </a:rPr>
              <a:t>MOTHIV :</a:t>
            </a:r>
            <a:br>
              <a:rPr sz="2800"/>
            </a:br>
            <a:r>
              <a:rPr b="1" lang="fr-FR" sz="2800" spc="-1" strike="noStrike">
                <a:solidFill>
                  <a:srgbClr val="33ccff"/>
                </a:solidFill>
                <a:latin typeface="Arial"/>
              </a:rPr>
              <a:t>Exemples d’applications et résultat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81040" y="2525760"/>
            <a:ext cx="7337520" cy="18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La consultation observance de N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La consultation de Fort de F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La consultation de Saint Martin des Caraï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17680" y="250560"/>
            <a:ext cx="7562880" cy="114300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La consultation de Nice :</a:t>
            </a: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un essai clinique randomisé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63400" y="2222640"/>
            <a:ext cx="7265880" cy="31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atients éligibles : patients traités par multithérapie depuis au moins 1 mois, non hospitalisés, non inclus dans un autre protoc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tervention randomisée contrôlée : Programme MOTHIV de counseling infirmier.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</a:rPr>
              <a:t>Personnel spécifique formé et supervis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Évaluation du succès virologique et de l’observance 6 mois après la randomis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72320" y="393840"/>
            <a:ext cx="23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Caractéris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à l’i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0440" y="393840"/>
            <a:ext cx="17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n=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96280" y="39384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n=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3160" y="1279440"/>
            <a:ext cx="2373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Age mé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Sexe 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Infection par 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Bac ou 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Non emplo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Stad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CD4 Mé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CV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CV indétec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Naïfs d’ARV à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Durée médiane T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antérieure (mo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58400" y="39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80760" y="1300320"/>
            <a:ext cx="75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9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2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2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1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8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23880" y="1300320"/>
            <a:ext cx="7599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4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9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61920" y="1300320"/>
            <a:ext cx="6760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5400" y="304920"/>
            <a:ext cx="8820000" cy="6095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6680" y="1219320"/>
            <a:ext cx="8610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58200" y="320760"/>
            <a:ext cx="17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n=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35960" y="3207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n=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90360" y="25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200" y="1230480"/>
            <a:ext cx="33195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Baisse moyenne de charge vi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% de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CV  indétec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à M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01920" y="1154160"/>
            <a:ext cx="56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0.22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+0.1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0.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p=0.01 </a:t>
            </a: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64 %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54 %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0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520" y="3821040"/>
            <a:ext cx="8686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3963960"/>
            <a:ext cx="30481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6600"/>
                </a:solidFill>
                <a:latin typeface="Arial"/>
              </a:rPr>
              <a:t>Sous groupe des patients détectables  à l’inclu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% de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CV  indétec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cc00"/>
                </a:solidFill>
                <a:latin typeface="Arial"/>
              </a:rPr>
              <a:t>à M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63120" y="40514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=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92200" y="40514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=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63120" y="5214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4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54040" y="5214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58800" y="5214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99"/>
                </a:solidFill>
                <a:latin typeface="Arial"/>
              </a:rPr>
              <a:t>0.0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95720" y="6477120"/>
            <a:ext cx="3157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cc99"/>
                </a:solidFill>
                <a:latin typeface="Arial"/>
              </a:rPr>
              <a:t>Pradier, Hiv Clin Trials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5400" y="304920"/>
            <a:ext cx="8820000" cy="6095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109520"/>
            <a:ext cx="86868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762280" y="368280"/>
            <a:ext cx="16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5000" y="0"/>
            <a:ext cx="887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Évolution de l'observance entre M0 et M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7720" y="1484280"/>
            <a:ext cx="10432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=0.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23360" y="1484280"/>
            <a:ext cx="10432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=0.5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20600" y="5842080"/>
            <a:ext cx="26359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Groupe interven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73280" y="5842080"/>
            <a:ext cx="21848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Groupe contrô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49360" y="2944800"/>
            <a:ext cx="895320" cy="2382840"/>
          </a:xfrm>
          <a:prstGeom prst="rect">
            <a:avLst/>
          </a:prstGeom>
          <a:solidFill>
            <a:srgbClr val="ffcc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62640" y="2732040"/>
            <a:ext cx="896760" cy="2595600"/>
          </a:xfrm>
          <a:prstGeom prst="rect">
            <a:avLst/>
          </a:prstGeom>
          <a:solidFill>
            <a:srgbClr val="ffcc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44680" y="2236680"/>
            <a:ext cx="897120" cy="3090960"/>
            <a:chOff x="3244680" y="2236680"/>
            <a:chExt cx="897120" cy="3090960"/>
          </a:xfrm>
        </p:grpSpPr>
        <p:sp>
          <p:nvSpPr>
            <p:cNvPr id="184" name=""/>
            <p:cNvSpPr/>
            <p:nvPr/>
          </p:nvSpPr>
          <p:spPr>
            <a:xfrm>
              <a:off x="3244680" y="2236680"/>
              <a:ext cx="897120" cy="7128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44680" y="2307960"/>
              <a:ext cx="897120" cy="9360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44680" y="2401560"/>
              <a:ext cx="897120" cy="7164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44680" y="2473200"/>
              <a:ext cx="897120" cy="7128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4680" y="2544480"/>
              <a:ext cx="897120" cy="6984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44680" y="2614320"/>
              <a:ext cx="897120" cy="95400"/>
            </a:xfrm>
            <a:prstGeom prst="rect">
              <a:avLst/>
            </a:prstGeom>
            <a:solidFill>
              <a:srgbClr val="da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4680" y="2709720"/>
              <a:ext cx="897120" cy="69840"/>
            </a:xfrm>
            <a:prstGeom prst="rect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4680" y="2779560"/>
              <a:ext cx="897120" cy="7128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4680" y="2850840"/>
              <a:ext cx="897120" cy="69840"/>
            </a:xfrm>
            <a:prstGeom prst="rect">
              <a:avLst/>
            </a:prstGeom>
            <a:solidFill>
              <a:srgbClr val="dc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4680" y="2920680"/>
              <a:ext cx="897120" cy="95400"/>
            </a:xfrm>
            <a:prstGeom prst="rect">
              <a:avLst/>
            </a:prstGeom>
            <a:solidFill>
              <a:srgbClr val="dd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44680" y="3016080"/>
              <a:ext cx="897120" cy="69840"/>
            </a:xfrm>
            <a:prstGeom prst="rect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44680" y="3085920"/>
              <a:ext cx="897120" cy="71640"/>
            </a:xfrm>
            <a:prstGeom prst="rect">
              <a:avLst/>
            </a:prstGeom>
            <a:solidFill>
              <a:srgbClr val="df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4680" y="3157560"/>
              <a:ext cx="897120" cy="9360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44680" y="3251160"/>
              <a:ext cx="897120" cy="71280"/>
            </a:xfrm>
            <a:prstGeom prst="rect">
              <a:avLst/>
            </a:prstGeom>
            <a:solidFill>
              <a:srgbClr val="e2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4680" y="3322440"/>
              <a:ext cx="897120" cy="71640"/>
            </a:xfrm>
            <a:prstGeom prst="rect">
              <a:avLst/>
            </a:prstGeom>
            <a:solidFill>
              <a:srgbClr val="e3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44680" y="3394080"/>
              <a:ext cx="897120" cy="69840"/>
            </a:xfrm>
            <a:prstGeom prst="rect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44680" y="3463920"/>
              <a:ext cx="897120" cy="95040"/>
            </a:xfrm>
            <a:prstGeom prst="rect">
              <a:avLst/>
            </a:prstGeom>
            <a:solidFill>
              <a:srgbClr val="e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4680" y="3558960"/>
              <a:ext cx="897120" cy="69840"/>
            </a:xfrm>
            <a:prstGeom prst="rect">
              <a:avLst/>
            </a:prstGeom>
            <a:solidFill>
              <a:srgbClr val="e8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4680" y="3628800"/>
              <a:ext cx="897120" cy="71640"/>
            </a:xfrm>
            <a:prstGeom prst="rect">
              <a:avLst/>
            </a:prstGeom>
            <a:solidFill>
              <a:srgbClr val="e9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44680" y="3700440"/>
              <a:ext cx="897120" cy="93600"/>
            </a:xfrm>
            <a:prstGeom prst="rect">
              <a:avLst/>
            </a:prstGeom>
            <a:solidFill>
              <a:srgbClr val="eb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44680" y="3794040"/>
              <a:ext cx="897120" cy="71280"/>
            </a:xfrm>
            <a:prstGeom prst="rect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44680" y="3865320"/>
              <a:ext cx="897120" cy="71640"/>
            </a:xfrm>
            <a:prstGeom prst="rect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4680" y="3936960"/>
              <a:ext cx="897120" cy="69840"/>
            </a:xfrm>
            <a:prstGeom prst="rect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44680" y="4006800"/>
              <a:ext cx="897120" cy="95040"/>
            </a:xfrm>
            <a:prstGeom prst="rect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44680" y="4101840"/>
              <a:ext cx="897120" cy="69840"/>
            </a:xfrm>
            <a:prstGeom prst="rect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4680" y="4171680"/>
              <a:ext cx="897120" cy="71640"/>
            </a:xfrm>
            <a:prstGeom prst="rect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44680" y="4243320"/>
              <a:ext cx="897120" cy="69840"/>
            </a:xfrm>
            <a:prstGeom prst="rect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44680" y="4313160"/>
              <a:ext cx="897120" cy="95040"/>
            </a:xfrm>
            <a:prstGeom prst="rect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44680" y="4408200"/>
              <a:ext cx="897120" cy="69840"/>
            </a:xfrm>
            <a:prstGeom prst="rect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4680" y="4478040"/>
              <a:ext cx="897120" cy="71640"/>
            </a:xfrm>
            <a:prstGeom prst="rect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4549680"/>
              <a:ext cx="897120" cy="93600"/>
            </a:xfrm>
            <a:prstGeom prst="rect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44680" y="4643280"/>
              <a:ext cx="897120" cy="7128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44680" y="4714560"/>
              <a:ext cx="897120" cy="7164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4680" y="4786200"/>
              <a:ext cx="897120" cy="69840"/>
            </a:xfrm>
            <a:prstGeom prst="rect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4680" y="4856040"/>
              <a:ext cx="897120" cy="9540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680" y="4951440"/>
              <a:ext cx="897120" cy="6984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4680" y="5021280"/>
              <a:ext cx="897120" cy="7128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44680" y="5092560"/>
              <a:ext cx="897120" cy="6984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4680" y="5162400"/>
              <a:ext cx="897120" cy="9540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4680" y="5257800"/>
              <a:ext cx="897120" cy="69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244680" y="2236680"/>
            <a:ext cx="897120" cy="309096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359400" y="2803680"/>
            <a:ext cx="873000" cy="2523600"/>
            <a:chOff x="6359400" y="2803680"/>
            <a:chExt cx="873000" cy="2523600"/>
          </a:xfrm>
        </p:grpSpPr>
        <p:sp>
          <p:nvSpPr>
            <p:cNvPr id="226" name=""/>
            <p:cNvSpPr/>
            <p:nvPr/>
          </p:nvSpPr>
          <p:spPr>
            <a:xfrm>
              <a:off x="6359400" y="2803680"/>
              <a:ext cx="873000" cy="7128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59400" y="2874960"/>
              <a:ext cx="873000" cy="4536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59400" y="2920680"/>
              <a:ext cx="873000" cy="7128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59400" y="2992320"/>
              <a:ext cx="873000" cy="7092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59400" y="3063600"/>
              <a:ext cx="873000" cy="45720"/>
            </a:xfrm>
            <a:prstGeom prst="rect">
              <a:avLst/>
            </a:prstGeom>
            <a:solidFill>
              <a:srgbClr val="d9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59400" y="3109680"/>
              <a:ext cx="873000" cy="71280"/>
            </a:xfrm>
            <a:prstGeom prst="rect">
              <a:avLst/>
            </a:prstGeom>
            <a:solidFill>
              <a:srgbClr val="da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59400" y="3181320"/>
              <a:ext cx="873000" cy="69480"/>
            </a:xfrm>
            <a:prstGeom prst="rect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59400" y="3251160"/>
              <a:ext cx="873000" cy="4716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59400" y="3298680"/>
              <a:ext cx="873000" cy="70920"/>
            </a:xfrm>
            <a:prstGeom prst="rect">
              <a:avLst/>
            </a:prstGeom>
            <a:solidFill>
              <a:srgbClr val="dc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59400" y="3369960"/>
              <a:ext cx="873000" cy="69480"/>
            </a:xfrm>
            <a:prstGeom prst="rect">
              <a:avLst/>
            </a:prstGeom>
            <a:solidFill>
              <a:srgbClr val="dd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59400" y="3439800"/>
              <a:ext cx="873000" cy="47520"/>
            </a:xfrm>
            <a:prstGeom prst="rect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59400" y="3487680"/>
              <a:ext cx="873000" cy="70920"/>
            </a:xfrm>
            <a:prstGeom prst="rect">
              <a:avLst/>
            </a:prstGeom>
            <a:solidFill>
              <a:srgbClr val="df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59400" y="3558960"/>
              <a:ext cx="873000" cy="6948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59400" y="3628800"/>
              <a:ext cx="873000" cy="47160"/>
            </a:xfrm>
            <a:prstGeom prst="rect">
              <a:avLst/>
            </a:prstGeom>
            <a:solidFill>
              <a:srgbClr val="e2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9400" y="3676320"/>
              <a:ext cx="873000" cy="71280"/>
            </a:xfrm>
            <a:prstGeom prst="rect">
              <a:avLst/>
            </a:prstGeom>
            <a:solidFill>
              <a:srgbClr val="e3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59400" y="3747960"/>
              <a:ext cx="873000" cy="69480"/>
            </a:xfrm>
            <a:prstGeom prst="rect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59400" y="3817800"/>
              <a:ext cx="873000" cy="47160"/>
            </a:xfrm>
            <a:prstGeom prst="rect">
              <a:avLst/>
            </a:prstGeom>
            <a:solidFill>
              <a:srgbClr val="e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59400" y="3865320"/>
              <a:ext cx="873000" cy="71280"/>
            </a:xfrm>
            <a:prstGeom prst="rect">
              <a:avLst/>
            </a:prstGeom>
            <a:solidFill>
              <a:srgbClr val="e8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59400" y="3936960"/>
              <a:ext cx="873000" cy="69480"/>
            </a:xfrm>
            <a:prstGeom prst="rect">
              <a:avLst/>
            </a:prstGeom>
            <a:solidFill>
              <a:srgbClr val="e9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59400" y="4006800"/>
              <a:ext cx="873000" cy="70920"/>
            </a:xfrm>
            <a:prstGeom prst="rect">
              <a:avLst/>
            </a:prstGeom>
            <a:solidFill>
              <a:srgbClr val="eb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59400" y="4078080"/>
              <a:ext cx="873000" cy="45720"/>
            </a:xfrm>
            <a:prstGeom prst="rect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59400" y="4124160"/>
              <a:ext cx="873000" cy="70920"/>
            </a:xfrm>
            <a:prstGeom prst="rect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59400" y="4195440"/>
              <a:ext cx="873000" cy="71280"/>
            </a:xfrm>
            <a:prstGeom prst="rect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59400" y="4267080"/>
              <a:ext cx="873000" cy="45720"/>
            </a:xfrm>
            <a:prstGeom prst="rect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59400" y="4313160"/>
              <a:ext cx="873000" cy="70920"/>
            </a:xfrm>
            <a:prstGeom prst="rect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59400" y="4384440"/>
              <a:ext cx="873000" cy="69480"/>
            </a:xfrm>
            <a:prstGeom prst="rect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59400" y="4454280"/>
              <a:ext cx="873000" cy="47520"/>
            </a:xfrm>
            <a:prstGeom prst="rect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59400" y="4502160"/>
              <a:ext cx="873000" cy="70920"/>
            </a:xfrm>
            <a:prstGeom prst="rect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59400" y="4573440"/>
              <a:ext cx="873000" cy="69480"/>
            </a:xfrm>
            <a:prstGeom prst="rect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59400" y="4643280"/>
              <a:ext cx="873000" cy="47160"/>
            </a:xfrm>
            <a:prstGeom prst="rect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59400" y="4690800"/>
              <a:ext cx="873000" cy="71280"/>
            </a:xfrm>
            <a:prstGeom prst="rect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59400" y="4762440"/>
              <a:ext cx="873000" cy="6948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59400" y="4832280"/>
              <a:ext cx="873000" cy="4716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59400" y="4879800"/>
              <a:ext cx="873000" cy="71280"/>
            </a:xfrm>
            <a:prstGeom prst="rect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59400" y="4951440"/>
              <a:ext cx="873000" cy="6948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59400" y="5021280"/>
              <a:ext cx="873000" cy="47160"/>
            </a:xfrm>
            <a:prstGeom prst="rect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59400" y="5068800"/>
              <a:ext cx="873000" cy="7092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59400" y="5140080"/>
              <a:ext cx="873000" cy="6948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59400" y="5209920"/>
              <a:ext cx="873000" cy="47520"/>
            </a:xfrm>
            <a:prstGeom prst="rect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59400" y="5257800"/>
              <a:ext cx="873000" cy="69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359400" y="2803680"/>
            <a:ext cx="873360" cy="252396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87680" y="2025720"/>
            <a:ext cx="1440" cy="330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17840" y="532764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17840" y="492768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17840" y="450216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17840" y="410220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17840" y="367668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17840" y="3274920"/>
            <a:ext cx="69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17840" y="285120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17840" y="2449440"/>
            <a:ext cx="69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17840" y="2025720"/>
            <a:ext cx="698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87680" y="5327640"/>
            <a:ext cx="62053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687680" y="5327280"/>
            <a:ext cx="1440" cy="95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802040" y="5327280"/>
            <a:ext cx="1800" cy="95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893000" y="5327280"/>
            <a:ext cx="1800" cy="95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1760" y="5162400"/>
            <a:ext cx="36792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80280" y="476244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80280" y="433692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80280" y="39369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80280" y="351144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80280" y="311004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80280" y="26859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80280" y="22845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80280" y="186048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79800" y="5397480"/>
            <a:ext cx="34956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9840" y="5397480"/>
            <a:ext cx="49752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C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-724320" y="3572640"/>
            <a:ext cx="2752920" cy="33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daf5a3"/>
                </a:solidFill>
                <a:latin typeface="Arial"/>
              </a:rPr>
              <a:t>% patients observ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85080" y="3322800"/>
            <a:ext cx="189000" cy="188640"/>
          </a:xfrm>
          <a:prstGeom prst="rect">
            <a:avLst/>
          </a:prstGeom>
          <a:solidFill>
            <a:srgbClr val="ffcc00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190720" y="3228840"/>
            <a:ext cx="4608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M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885080" y="3841920"/>
            <a:ext cx="189000" cy="188280"/>
            <a:chOff x="7885080" y="3841920"/>
            <a:chExt cx="189000" cy="188280"/>
          </a:xfrm>
        </p:grpSpPr>
        <p:sp>
          <p:nvSpPr>
            <p:cNvPr id="296" name=""/>
            <p:cNvSpPr/>
            <p:nvPr/>
          </p:nvSpPr>
          <p:spPr>
            <a:xfrm>
              <a:off x="7885080" y="3841920"/>
              <a:ext cx="189000" cy="23400"/>
            </a:xfrm>
            <a:prstGeom prst="rect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85080" y="3865320"/>
              <a:ext cx="189000" cy="23400"/>
            </a:xfrm>
            <a:prstGeom prst="rect">
              <a:avLst/>
            </a:prstGeom>
            <a:solidFill>
              <a:srgbClr val="db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85080" y="3889080"/>
              <a:ext cx="189000" cy="23760"/>
            </a:xfrm>
            <a:prstGeom prst="rect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85080" y="3913200"/>
              <a:ext cx="189000" cy="23400"/>
            </a:xfrm>
            <a:prstGeom prst="rect">
              <a:avLst/>
            </a:prstGeom>
            <a:solidFill>
              <a:srgbClr val="e8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85080" y="3936960"/>
              <a:ext cx="189000" cy="21600"/>
            </a:xfrm>
            <a:prstGeom prst="rect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85080" y="3958920"/>
              <a:ext cx="189000" cy="23760"/>
            </a:xfrm>
            <a:prstGeom prst="rect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85080" y="3983040"/>
              <a:ext cx="189000" cy="23400"/>
            </a:xfrm>
            <a:prstGeom prst="rect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85080" y="4006800"/>
              <a:ext cx="189000" cy="23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7885080" y="3841920"/>
            <a:ext cx="189000" cy="18864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190720" y="3747960"/>
            <a:ext cx="4608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M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95080" y="152280"/>
            <a:ext cx="7419960" cy="123192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La consultation du CHU de Fort de France :</a:t>
            </a: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la préparation au traitement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19000" y="2139840"/>
            <a:ext cx="26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Médecin </a:t>
            </a:r>
            <a:br>
              <a:rPr sz="2400"/>
            </a:b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-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08000" y="4052880"/>
            <a:ext cx="22352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cation thérapeu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hangement de 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position de la consultation d ’obser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73560" y="2022480"/>
            <a:ext cx="2641320" cy="19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Staff multidiscipli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(Médecins, pharmacien, virologues, assistante sociale, conseiller thérapeut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30880" y="2209680"/>
            <a:ext cx="26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Conseillère thérapeu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41600" y="476568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hoix du 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26280" y="4081320"/>
            <a:ext cx="22352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éparation au traitement (MOTH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&gt;&gt;&gt;Entret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&gt;&gt;&gt;Simulation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67120" y="2327400"/>
            <a:ext cx="339480" cy="304560"/>
          </a:xfrm>
          <a:prstGeom prst="rightArrow">
            <a:avLst>
              <a:gd name="adj1" fmla="val 50000"/>
              <a:gd name="adj2" fmla="val 27866"/>
            </a:avLst>
          </a:prstGeom>
          <a:solidFill>
            <a:srgbClr val="daf5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14880" y="2327400"/>
            <a:ext cx="339840" cy="304560"/>
          </a:xfrm>
          <a:prstGeom prst="rightArrow">
            <a:avLst>
              <a:gd name="adj1" fmla="val 50000"/>
              <a:gd name="adj2" fmla="val 27896"/>
            </a:avLst>
          </a:prstGeom>
          <a:solidFill>
            <a:srgbClr val="daf5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148800" y="638496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593720" y="3087720"/>
            <a:ext cx="0" cy="13716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53240" y="3086280"/>
            <a:ext cx="0" cy="13716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76640" y="254376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Comic Sans MS"/>
              </a:rPr>
              <a:t>Entretien n°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89200" y="254376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Comic Sans MS"/>
              </a:rPr>
              <a:t>Entretien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66120" y="25437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Comic Sans MS"/>
              </a:rPr>
              <a:t>Entretien n°3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19000" y="37198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63200" y="335160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Traitement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29120" y="3720960"/>
            <a:ext cx="4575240" cy="457200"/>
          </a:xfrm>
          <a:prstGeom prst="rightArrow">
            <a:avLst>
              <a:gd name="adj1" fmla="val 66667"/>
              <a:gd name="adj2" fmla="val 6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17960" y="3084480"/>
            <a:ext cx="0" cy="13716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6440" y="45867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J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47320" y="44805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J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32120" y="449460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J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25760" y="3463920"/>
            <a:ext cx="236196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00840" y="250200"/>
            <a:ext cx="731628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La consultation du CHU de Fort de France :</a:t>
            </a: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la préparation au traitement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154240" y="2924280"/>
            <a:ext cx="5586480" cy="3551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4680" y="152280"/>
            <a:ext cx="7380360" cy="123192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La simulation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334" name="161-6103_IMG" descr=""/>
          <p:cNvPicPr/>
          <p:nvPr/>
        </p:nvPicPr>
        <p:blipFill>
          <a:blip r:embed="rId1"/>
          <a:stretch/>
        </p:blipFill>
        <p:spPr>
          <a:xfrm>
            <a:off x="2187720" y="2946240"/>
            <a:ext cx="5527440" cy="34801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7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1371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1905120"/>
            <a:ext cx="3409920" cy="17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daf5a3"/>
                </a:solidFill>
                <a:uFillTx/>
                <a:latin typeface="Comic Sans MS"/>
              </a:rPr>
              <a:t>Entretien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Diagnostic des besoins pour pouvoir prendre son trai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Mesure du degré d’adhé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Capacité de l ’environ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30600" y="2166840"/>
            <a:ext cx="3409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daf5a3"/>
                </a:solidFill>
                <a:uFillTx/>
                <a:latin typeface="Comic Sans MS"/>
              </a:rPr>
              <a:t>Entretien n°3b </a:t>
            </a:r>
            <a:r>
              <a:rPr b="0" lang="fr-FR" sz="2000" spc="-1" strike="noStrike">
                <a:solidFill>
                  <a:srgbClr val="daf5a3"/>
                </a:solidFill>
                <a:latin typeface="Comic Sans MS"/>
              </a:rPr>
              <a:t>(J</a:t>
            </a:r>
            <a:r>
              <a:rPr b="0" lang="fr-FR" sz="2000" spc="-1" strike="noStrike" baseline="-25000">
                <a:solidFill>
                  <a:srgbClr val="daf5a3"/>
                </a:solidFill>
                <a:latin typeface="Comic Sans MS"/>
              </a:rPr>
              <a:t>15</a:t>
            </a:r>
            <a:r>
              <a:rPr b="0" lang="fr-FR" sz="2000" spc="-1" strike="noStrike">
                <a:solidFill>
                  <a:srgbClr val="daf5a3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Impact du traitement sur la vie quotidi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Exploration des rout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nticipation des événements de non-obser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45080" y="3938760"/>
            <a:ext cx="27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ccff"/>
                </a:solidFill>
                <a:latin typeface="Tahoma"/>
              </a:rPr>
              <a:t>Début du 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 rot="18900000">
            <a:off x="5973840" y="5024520"/>
            <a:ext cx="419040" cy="438120"/>
          </a:xfrm>
          <a:prstGeom prst="downArrow">
            <a:avLst>
              <a:gd name="adj1" fmla="val 50000"/>
              <a:gd name="adj2" fmla="val 26138"/>
            </a:avLst>
          </a:pr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545080" y="47102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ccff"/>
                </a:solidFill>
                <a:latin typeface="Comic Sans MS"/>
              </a:rPr>
              <a:t>O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 rot="18900000">
            <a:off x="5230800" y="4405320"/>
            <a:ext cx="419040" cy="438120"/>
          </a:xfrm>
          <a:prstGeom prst="downArrow">
            <a:avLst>
              <a:gd name="adj1" fmla="val 50000"/>
              <a:gd name="adj2" fmla="val 26138"/>
            </a:avLst>
          </a:pr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3065400"/>
            <a:ext cx="2057400" cy="14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daf5a3"/>
                </a:solidFill>
                <a:uFillTx/>
                <a:latin typeface="Comic Sans MS"/>
              </a:rPr>
              <a:t>Entretien n°3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Evaluation du plan d ’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utre plan d ’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 rot="2700000">
            <a:off x="6934320" y="5018040"/>
            <a:ext cx="419040" cy="438120"/>
          </a:xfrm>
          <a:prstGeom prst="downArrow">
            <a:avLst>
              <a:gd name="adj1" fmla="val 50000"/>
              <a:gd name="adj2" fmla="val 26138"/>
            </a:avLst>
          </a:pr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05680" y="46371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979d9"/>
                </a:solidFill>
                <a:latin typeface="Comic Sans MS"/>
              </a:rPr>
              <a:t>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0800000">
            <a:off x="7791120" y="4741920"/>
            <a:ext cx="723960" cy="838080"/>
          </a:xfrm>
          <a:custGeom>
            <a:avLst/>
            <a:gdLst>
              <a:gd name="textAreaLeft" fmla="*/ 0 w 723960"/>
              <a:gd name="textAreaRight" fmla="*/ 724320 w 723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4629240"/>
            <a:ext cx="34099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daf5a3"/>
                </a:solidFill>
                <a:uFillTx/>
                <a:latin typeface="Comic Sans MS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Reproduction du déroulement du trai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Une sem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2600" y="4191120"/>
            <a:ext cx="419040" cy="438120"/>
          </a:xfrm>
          <a:prstGeom prst="downArrow">
            <a:avLst>
              <a:gd name="adj1" fmla="val 50000"/>
              <a:gd name="adj2" fmla="val 26138"/>
            </a:avLst>
          </a:pr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4480" y="4741920"/>
            <a:ext cx="246672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daf5a3"/>
                </a:solidFill>
                <a:uFillTx/>
                <a:latin typeface="Comic Sans MS"/>
              </a:rPr>
              <a:t>Entretien n°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Vécu de la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Identifier et résoudre les difficul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Plan d ’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646360" y="5302080"/>
            <a:ext cx="419040" cy="438120"/>
          </a:xfrm>
          <a:prstGeom prst="downArrow">
            <a:avLst>
              <a:gd name="adj1" fmla="val 50000"/>
              <a:gd name="adj2" fmla="val 26138"/>
            </a:avLst>
          </a:prstGeom>
          <a:solidFill>
            <a:srgbClr val="daf5a3"/>
          </a:solidFill>
          <a:ln w="12600">
            <a:solidFill>
              <a:srgbClr val="daf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03800" y="5508720"/>
            <a:ext cx="131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ccff"/>
                </a:solidFill>
                <a:latin typeface="Tahoma"/>
              </a:rPr>
              <a:t>Patient prê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152280"/>
            <a:ext cx="8686800" cy="1231920"/>
          </a:xfrm>
          <a:prstGeom prst="roundRect">
            <a:avLst>
              <a:gd name="adj" fmla="val 27144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La prescription du traitement par le médecin</a:t>
            </a: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 et la consultation avec la conseillère thérapeutique</a:t>
            </a: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73320" y="152280"/>
            <a:ext cx="7642080" cy="10828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La consultation d’observance </a:t>
            </a: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de l’hôpital de Saint Martin des Caraïbe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20400" y="1801800"/>
            <a:ext cx="76280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Construction et définition du projet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18 mois.</a:t>
            </a:r>
            <a:r>
              <a:rPr b="0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Intervenants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 infirmières hospitalières consultantes à mi-temps, 1 médecin hospitalier prescripteu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Type d’intervention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Entretiens individuels (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ounseling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) prescrits par des médeci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Supports d’intervention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Utilisation de guides d’entretien MOTHIV, fiches de suivi et d’éval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Formation initiale des IDE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4 jours de formation aux techniques d’entretien et à la relation d’aid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5 jours de formation au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ounseling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observance pour le VIH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4 jours de formation à la méthodologie des consultations (écriture des guides)                                                         …/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85560" y="138240"/>
            <a:ext cx="7629480" cy="1000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ccff"/>
                </a:solidFill>
                <a:latin typeface="Arial"/>
              </a:rPr>
              <a:t>MOTHIV : </a:t>
            </a:r>
            <a:br>
              <a:rPr sz="2800"/>
            </a:br>
            <a:r>
              <a:rPr b="1" lang="fr-FR" sz="2800" spc="-1" strike="noStrike">
                <a:solidFill>
                  <a:srgbClr val="33ccff"/>
                </a:solidFill>
                <a:latin typeface="Arial"/>
              </a:rPr>
              <a:t>conceito e strategia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9000" y="1893600"/>
            <a:ext cx="6948360" cy="29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90720" indent="-533520">
              <a:spcAft>
                <a:spcPts val="901"/>
              </a:spcAft>
              <a:buClr>
                <a:srgbClr val="bbd0c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ma </a:t>
            </a: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definição operacioal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a adesão terapêu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Aft>
                <a:spcPts val="901"/>
              </a:spcAft>
              <a:buClr>
                <a:srgbClr val="bbd0c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ma </a:t>
            </a: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abordagem centralizada na pes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Aft>
                <a:spcPts val="901"/>
              </a:spcAft>
              <a:buClr>
                <a:srgbClr val="bbd0c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ma </a:t>
            </a: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intervenção breve et estrutur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Aft>
                <a:spcPts val="901"/>
              </a:spcAft>
              <a:buClr>
                <a:srgbClr val="bbd0c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af5a3"/>
                </a:solidFill>
                <a:latin typeface="Arial"/>
              </a:rPr>
              <a:t>Treinamento e acompanhamento das equi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5248440"/>
            <a:ext cx="863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2888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ccff"/>
                </a:solidFill>
                <a:latin typeface="Arial"/>
              </a:rPr>
              <a:t>M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odèle de counseling appliqué à l’</a:t>
            </a:r>
            <a:r>
              <a:rPr b="1" lang="fr-FR" sz="2000" spc="-1" strike="noStrike">
                <a:solidFill>
                  <a:srgbClr val="33ccff"/>
                </a:solidFill>
                <a:latin typeface="Arial"/>
              </a:rPr>
              <a:t>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servance </a:t>
            </a:r>
            <a:r>
              <a:rPr b="1" lang="fr-FR" sz="2000" spc="-1" strike="noStrike">
                <a:solidFill>
                  <a:srgbClr val="33ccff"/>
                </a:solidFill>
                <a:latin typeface="Arial"/>
              </a:rPr>
              <a:t>Th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érapeutique</a:t>
            </a:r>
            <a:r>
              <a:rPr b="1" lang="fr-F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ux traitements de  l’</a:t>
            </a:r>
            <a:r>
              <a:rPr b="1" lang="fr-FR" sz="2000" spc="-1" strike="noStrike">
                <a:solidFill>
                  <a:srgbClr val="33ccff"/>
                </a:solidFill>
                <a:latin typeface="Arial"/>
              </a:rPr>
              <a:t>I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nfection  </a:t>
            </a:r>
            <a:r>
              <a:rPr b="1" lang="fr-FR" sz="2000" spc="-1" strike="noStrike">
                <a:solidFill>
                  <a:srgbClr val="33ccff"/>
                </a:solidFill>
                <a:latin typeface="Arial"/>
              </a:rPr>
              <a:t>V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48800" y="638496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37760" y="829800"/>
            <a:ext cx="7473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Formation continue et suivi de l’intervention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Supervision sur site des IDE, et analyse 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tenus des entretiens (Assurance Qualité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Evaluation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d0c9"/>
                </a:solidFill>
                <a:latin typeface="Arial"/>
              </a:rPr>
              <a:t>Impact sur la santé viro-clinique des pati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cateurs : charge virale, CD4, renouvellement des ordonnances.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d0c9"/>
                </a:solidFill>
                <a:latin typeface="Arial"/>
              </a:rPr>
              <a:t>Impact sur l’amélioration du comportement d’observance 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d0c9"/>
                </a:solidFill>
                <a:latin typeface="Arial"/>
              </a:rPr>
              <a:t>son maint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cateurs : planning thérapeutique, suivi des rendez-vous.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Analyse des entretien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iches d’éval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9360" y="219240"/>
            <a:ext cx="7748640" cy="121896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Données socio-démographiques </a:t>
            </a:r>
            <a:br>
              <a:rPr sz="2800"/>
            </a:b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et cliniques à l’inclusion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77480" y="1601280"/>
            <a:ext cx="7520040" cy="46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5a3"/>
                </a:solidFill>
                <a:latin typeface="Arial"/>
              </a:rPr>
              <a:t>Nombre de personnes incluses dans la consultation à la date du 1er octobre :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 personne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5a3"/>
                </a:solidFill>
                <a:latin typeface="Arial"/>
              </a:rPr>
              <a:t>Sexe 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28 femmes (dont  8 femmes enceintes vues à la 30ème semaine),et 12 hommes.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5a3"/>
                </a:solidFill>
                <a:latin typeface="Arial"/>
              </a:rPr>
              <a:t>Age moyen 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40 an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5a3"/>
                </a:solidFill>
                <a:latin typeface="Arial"/>
              </a:rPr>
              <a:t>Origine géographique :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ïti (28 personnes soit 70 % de la file active observance), France (4 pers. dont  3 de St Martin), Saint Domingue (3), Ste Lucie (3), Guyanna (1), Jamaïque (1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Statut professionnel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68 % sont sans profession ou exercent des «jobs 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615080" cy="4762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Arial"/>
              </a:rPr>
              <a:t>Données socio-démographiques et cliniques à l’inclusion (suit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1720" y="1802880"/>
            <a:ext cx="691668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354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Mode de transmission :</a:t>
            </a:r>
            <a:r>
              <a:rPr b="0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étérosexuelle pour 39 patients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Charge virale à l’inclusion : </a:t>
            </a:r>
            <a:br>
              <a:rPr sz="2000"/>
            </a:br>
            <a:r>
              <a:rPr b="0" lang="fr-FR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V &gt; 50000 cop. : 21 patient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50000 à 10000 cop. : 8 patient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10000 à 1000 cop. : 5 patient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1000 à 200 cop. : 2 patient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&lt; 200 cop. : 2 patient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Langue de la consultation :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réole, Haïtien, Français, Angla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22120" y="304560"/>
            <a:ext cx="7792920" cy="10666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Résultats intermédiaires sur 6 moi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85560" y="2176560"/>
            <a:ext cx="7645320" cy="32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af5a3"/>
                </a:solidFill>
                <a:latin typeface="Arial"/>
              </a:rPr>
              <a:t>1- Nombre total d’entretiens MOTHIV :</a:t>
            </a:r>
            <a:r>
              <a:rPr b="1" lang="fr-FR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ans le cadre de la consultation d’observance (suivi) :</a:t>
            </a:r>
            <a:r>
              <a:rPr b="1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1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ans le cadre d’une réinitialisation de traitement :</a:t>
            </a:r>
            <a:r>
              <a:rPr b="1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ans le cadre d’une initialisation de traitement :</a:t>
            </a:r>
            <a:r>
              <a:rPr b="1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ans le cadre de consultations PTME :</a:t>
            </a:r>
            <a:r>
              <a:rPr b="1" lang="fr-FR" sz="20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ans le cadre de visites et/ou entretiens au cours de l’hospitalisation :</a:t>
            </a:r>
            <a:r>
              <a:rPr b="1" lang="fr-FR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Aft>
                <a:spcPts val="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04920" y="245880"/>
            <a:ext cx="7763040" cy="99036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Résultats intermédiaires sur 6 moi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5840" y="1653840"/>
            <a:ext cx="7755120" cy="16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2 – Comparatif du renouvellement des ordonnances (Pharmacie du CH de St Martin) :</a:t>
            </a:r>
            <a:r>
              <a:rPr b="1" lang="fr-FR" sz="2000" spc="-1" strike="noStrike">
                <a:solidFill>
                  <a:srgbClr val="daf5a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échantillon de 10 patients en échec virologique (Cv &gt; 50000), suivis depuis plus d’un an avec traitement antirétroviral et dont le traitement est fourni par la pharmacie de l’hô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320920" y="3325680"/>
          <a:ext cx="5715000" cy="325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3325680"/>
                    <a:ext cx="571500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17720" y="257040"/>
            <a:ext cx="7921440" cy="99072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ff"/>
                </a:solidFill>
                <a:latin typeface="Arial"/>
              </a:rPr>
              <a:t>Résultats intermédiaires sur 6 moi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55320" y="1828800"/>
            <a:ext cx="7583400" cy="30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3 - Impact sur le partenariat pluridisciplinaire :</a:t>
            </a: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ugmentation des recours des consultations spécialisées ainsi qu’auprès du service social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eilleure connaissance partagée entre les IDE de l’observance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t les services de soins et de consul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8360" y="138240"/>
            <a:ext cx="7578720" cy="130176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MOTHIV :</a:t>
            </a:r>
            <a:br>
              <a:rPr sz="24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una definição operacional </a:t>
            </a:r>
            <a:br>
              <a:rPr sz="24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da adesão terapêutica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55920" y="1916280"/>
            <a:ext cx="675288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 algn="just">
              <a:lnSpc>
                <a:spcPct val="110000"/>
              </a:lnSpc>
              <a:spcAft>
                <a:spcPts val="624"/>
              </a:spcAft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 Adesão terapêutica designa as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capacidades de uma pesso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em tomar uma medicação  segundo a prescriçã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 algn="just">
              <a:lnSpc>
                <a:spcPct val="11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stas capacidades são influenciadas positivamente ou negativamente por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co-fato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que se interagem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 algn="just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503520" y="5289480"/>
            <a:ext cx="3349800" cy="649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 Narrow"/>
              </a:rPr>
              <a:t>comport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208160" y="4755960"/>
            <a:ext cx="2687400" cy="649800"/>
          </a:xfrm>
          <a:prstGeom prst="ellipse">
            <a:avLst/>
          </a:prstGeom>
          <a:gradFill rotWithShape="0">
            <a:gsLst>
              <a:gs pos="0">
                <a:srgbClr val="1e1e7b"/>
              </a:gs>
              <a:gs pos="50000">
                <a:srgbClr val="3333cc"/>
              </a:gs>
              <a:gs pos="100000">
                <a:srgbClr val="1e1e7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emo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108840" y="4754520"/>
            <a:ext cx="2536560" cy="649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 Narrow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552840" y="4222800"/>
            <a:ext cx="3197160" cy="649800"/>
          </a:xfrm>
          <a:prstGeom prst="ellipse">
            <a:avLst/>
          </a:prstGeom>
          <a:gradFill rotWithShape="0">
            <a:gsLst>
              <a:gs pos="0">
                <a:srgbClr val="1e1e7b"/>
              </a:gs>
              <a:gs pos="50000">
                <a:srgbClr val="3333cc"/>
              </a:gs>
              <a:gs pos="100000">
                <a:srgbClr val="1e1e7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ogn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48800" y="638496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937520" y="437040"/>
            <a:ext cx="6927840" cy="5302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ccff"/>
                </a:solidFill>
                <a:latin typeface="Arial"/>
              </a:rPr>
              <a:t>Exploraçao dos co-fatores de adesã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9280" y="5535720"/>
            <a:ext cx="2590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06480" y="500220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60520" y="4329000"/>
            <a:ext cx="28702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 Narrow"/>
              </a:rPr>
              <a:t>Comportement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Rout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Compét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Savoirs f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8920" y="1598760"/>
            <a:ext cx="3047760" cy="1974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 Narrow"/>
              </a:rPr>
              <a:t>Soci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Conditions de vie</a:t>
            </a:r>
            <a:br>
              <a:rPr sz="1800"/>
            </a:b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Degré de soutien</a:t>
            </a:r>
            <a:br>
              <a:rPr sz="1800"/>
            </a:b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Stigmatisation</a:t>
            </a:r>
            <a:br>
              <a:rPr sz="1800"/>
            </a:br>
            <a:r>
              <a:rPr b="0" lang="fr-FR" sz="1800" spc="-1" strike="noStrike">
                <a:solidFill>
                  <a:srgbClr val="3333cc"/>
                </a:solidFill>
                <a:latin typeface="Arial Narrow"/>
              </a:rPr>
              <a:t>Qualité de la prise en charge sanitaire et soc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13520" y="4237200"/>
            <a:ext cx="2743200" cy="16714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Émotio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Anxié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St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Vie aff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État émotionnel néga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04920" y="1649520"/>
            <a:ext cx="3276720" cy="16786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ogni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Motiv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Esp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Inform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Crenç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694000">
            <a:off x="4500360" y="3244680"/>
            <a:ext cx="1563480" cy="146556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1465560"/>
              <a:gd name="textAreaBottom" fmla="*/ 1465920 h 1465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48800" y="638496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55320" y="261360"/>
            <a:ext cx="757656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MOTHIV</a:t>
            </a:r>
            <a:br>
              <a:rPr sz="24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une approche fondée sur 4 postulat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90320" y="2068560"/>
            <a:ext cx="734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personne ne doit pas disparaître derrière son traitement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motivati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est un processus dynamique qui se génère et se maintient sous certaines conditions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’observance dépend des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stratégies d’ajusteme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a personne au traitement mais aussi à sa séropositivité et à son histoire thérapeutique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l faut anticiper avec la personne un ensemble </a:t>
            </a: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d’incidents critiqu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et la doter de compétences pour y faire 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48800" y="638496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334520" y="250200"/>
            <a:ext cx="748296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MOTHIV</a:t>
            </a:r>
            <a:br>
              <a:rPr sz="24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une intervention brève et structuré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95200" y="2173320"/>
            <a:ext cx="7700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4 entretien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af5a3"/>
                </a:solidFill>
                <a:latin typeface="Arial"/>
              </a:rPr>
              <a:t>Des outil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planning thérapeutiqu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manuel d’entret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e fiche d’évaluation observ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317520">
              <a:spcBef>
                <a:spcPts val="499"/>
              </a:spcBef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e fiche de suivi et d’é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48800" y="638496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92440" y="1847880"/>
            <a:ext cx="2527200" cy="3701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64200" y="1940040"/>
            <a:ext cx="290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Exemple du guide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de l’entret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406680" y="2422440"/>
            <a:ext cx="2524320" cy="3687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952880" y="3108240"/>
            <a:ext cx="2330640" cy="3407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90800" y="262080"/>
            <a:ext cx="6924600" cy="479160"/>
          </a:xfrm>
          <a:prstGeom prst="roundRect">
            <a:avLst>
              <a:gd name="adj" fmla="val 27144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ccff"/>
                </a:solidFill>
                <a:latin typeface="Arial"/>
              </a:rPr>
              <a:t>Exemples d’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467320" y="1168560"/>
            <a:ext cx="3130560" cy="4408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427040" y="1138320"/>
            <a:ext cx="2943360" cy="4089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378160" y="2211480"/>
            <a:ext cx="2900160" cy="3800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25480" y="5983200"/>
            <a:ext cx="29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 Narrow"/>
              </a:rPr>
              <a:t>Diagnostic obser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27520" y="5864400"/>
            <a:ext cx="290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 Narrow"/>
              </a:rPr>
              <a:t>Evaluation des co-fact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 Narrow"/>
              </a:rPr>
              <a:t>de non observ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95560" y="152280"/>
            <a:ext cx="6819840" cy="592200"/>
          </a:xfrm>
          <a:prstGeom prst="roundRect">
            <a:avLst>
              <a:gd name="adj" fmla="val 27144"/>
            </a:avLst>
          </a:prstGeom>
          <a:noFill/>
          <a:ln w="38160">
            <a:solidFill>
              <a:srgbClr val="bbd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ccff"/>
                </a:solidFill>
                <a:latin typeface="Arial"/>
              </a:rPr>
              <a:t>Exemples d’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d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371240" y="250200"/>
            <a:ext cx="7446240" cy="1036080"/>
          </a:xfrm>
          <a:prstGeom prst="rect">
            <a:avLst/>
          </a:prstGeom>
          <a:noFill/>
          <a:ln w="38160">
            <a:solidFill>
              <a:srgbClr val="bbd0c9"/>
            </a:solidFill>
            <a:miter/>
          </a:ln>
        </p:spPr>
        <p:txBody>
          <a:bodyPr lIns="0" rIns="0" tIns="0" bIns="0" anchor="ctr">
            <a:noAutofit/>
          </a:bodyPr>
          <a:p>
            <a:pPr marL="192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MOTHIV:</a:t>
            </a:r>
            <a:br>
              <a:rPr sz="2400"/>
            </a:br>
            <a:r>
              <a:rPr b="1" lang="fr-FR" sz="2400" spc="-1" strike="noStrike">
                <a:solidFill>
                  <a:srgbClr val="33ccff"/>
                </a:solidFill>
                <a:latin typeface="Arial"/>
              </a:rPr>
              <a:t>une formation spécifiqu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283760" y="2028600"/>
            <a:ext cx="75978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ormation à l’accompagnement thérapeutique (conduite d’entretien, utilisation d’outi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bbd0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ivi et appui méthodologique (analyse des difficultés rencontrées dans la pratique de la consultation et au niveau institutionnel, études de cas, gestion de crise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848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148800" y="6384960"/>
            <a:ext cx="281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9e0ff"/>
                </a:solidFill>
                <a:latin typeface="Arial"/>
              </a:rPr>
              <a:t>*MOTHIV © Comment Dir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6:45:52Z</dcterms:created>
  <dc:creator>Comment Dire</dc:creator>
  <dc:description/>
  <dc:language>en-US</dc:language>
  <cp:lastModifiedBy>Maryline</cp:lastModifiedBy>
  <dcterms:modified xsi:type="dcterms:W3CDTF">2004-03-05T18:24:10Z</dcterms:modified>
  <cp:revision>225</cp:revision>
  <dc:subject>MOTHIV : concept, stratégie, résultats</dc:subject>
  <dc:title>MOTHIV - Modèle d'intervention en counseling sur l’observance thérapeutique aux traitements VIH/sida.</dc:title>
</cp:coreProperties>
</file>