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8ADC-68BA-41BA-8596-AFB853D9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3167-0D39-479D-9EC7-6D2BC9B6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EFDB-4791-487B-B7E1-B77822243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D1BA-D5D2-4A5B-987C-B66D0A554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984E-D047-4330-9DB0-8F80E2295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F23E-0399-4F14-A099-F61AA197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73BC-6847-46DC-82E6-E964CC79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AAE4-3DA2-4632-9BEA-2D3E70B8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5D6A-86AC-465C-8A72-19CB8986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5DA4-2D0F-4F83-ABA6-D5DB06F8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5484-D574-4B97-B9DE-9EFFA5A9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FB65-5964-45CA-ACAF-03440941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F413-04ED-43C2-8565-CDF6387D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6146-3950-4C6B-9753-09D88AE8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E99B-4763-4230-BFED-2146F318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81E2-06F4-442D-BD88-288E1C55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0C98-F302-4CBB-992F-87B0AEB7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F641-26E6-4578-B42F-FB999518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26C2-2E93-42D5-96D5-76C9FA76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F8AF-7438-4C8F-8D14-87A820F3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5B17-3A21-4FE0-BF6A-E0EB43B1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EDB4-1A6E-4876-876C-D0BC08D3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71B1-7B20-461D-8131-ABD2ED75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E666-D7F4-4E08-B07F-D18B9E20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F86B-89FE-4DE2-BFDD-3005FC2C1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512B-E301-44C0-AA37-2882C4D09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609480"/>
            <a:ext cx="7742160" cy="190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La Prévention : 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Un enjeu dans le soin des maladies chroniqu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76360" y="2971440"/>
            <a:ext cx="563868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Catherine Tourette-Turgis</a:t>
            </a:r>
            <a:br>
              <a:rPr sz="3600"/>
            </a:b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Maître de Conférences des Universités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hercheure affiliée à l’HEGP (Paris)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Université de Miami (USA)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MMENT DIRE (Paris)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Nice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nt Dire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46DC-3C3F-4FA8-8969-C94C0816F05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533520"/>
            <a:ext cx="7772400" cy="914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66"/>
                </a:solidFill>
                <a:latin typeface="Times New Roman"/>
              </a:rPr>
              <a:t>Variables affectant l’observance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619760" cy="38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Elles peuvent être regroupées en quat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grandes catégories :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s caractéristiques du pa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caractéristiques de la maladie et de ses trai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relation médecin-pa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système et l’organisation des so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nt Dire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98D1-FE3C-4C42-BA01-C1A84BCF12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914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66"/>
                </a:solidFill>
                <a:latin typeface="Times New Roman"/>
              </a:rPr>
              <a:t>Méthodologies d’intervention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828800"/>
            <a:ext cx="7772400" cy="37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éducation du patient à sa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éducation du patient à sa mala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éducation thérapeutique du pa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counseling (Modèle MOTHI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éducation du patient et le couns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nt Dire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22E6-A8DD-4370-80BD-FA5AB9ED13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3366"/>
                </a:solidFill>
                <a:latin typeface="Times New Roman"/>
              </a:rPr>
              <a:t>Cinq points clefs à retenir       </a:t>
            </a:r>
            <a:r>
              <a:rPr b="1" lang="fr-FR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1)</a:t>
            </a:r>
            <a:r>
              <a:rPr b="1" lang="en-GB" sz="3600" spc="-1" strike="noStrike">
                <a:solidFill>
                  <a:srgbClr val="003366"/>
                </a:solidFill>
                <a:latin typeface="Syntax-Bold"/>
                <a:ea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5490a8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avancées bio-médicales, en allongeant la vie des patients, créent des besoins 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uisant en la nécessité d’une nouvelle off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termes de prestations et de nouveaux servic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5490a8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existence d’un clivage entre promesse thérapeutique et promesse soc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nt Dire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2A68-2854-4433-B44A-156F9B9E9A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609480"/>
            <a:ext cx="7772400" cy="533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inq points clefs à retenir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                          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(2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42160" cy="419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5490a8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existence d’un conflit entre traitemen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 qualité de vi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5490a8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nécessité d’un soutien de l’observance et du suivi du soin au fil du temps (prévention de la non observance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5490a8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évaluation de la santé du patient ayant une maladie chronique ne peut se réduire à une évaluation en termes de critères bio-médicau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nt Dire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FE79-4DDA-4547-8E04-A70CD4DFC7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L’observance thérapeutique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(1)</a:t>
            </a:r>
            <a:r>
              <a:rPr b="1" lang="en-US" sz="4400" spc="-1" strike="noStrike" u="sng">
                <a:solidFill>
                  <a:srgbClr val="003366"/>
                </a:solidFill>
                <a:uFillTx/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8077320" cy="396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lle désigne une variété de comportements incluant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ses médicaments en suivant la prescrip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r aux rendez-vous de suivi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vre les recommandations médicales et  les régimes nécessitant une modification de style de vie (régimes alimentaires, sport, réduction du stre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nt Dire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E466-D160-406D-864C-2E98ADFAC0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7772400" cy="533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’observance thérapeutique 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                                        (2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904760"/>
            <a:ext cx="769608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aliser les procédures de soin à domicile telles qu’elles ont été prescrites ou enseigné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viter les comportements dangereux pour la santé (tabac, alcool, usage de drogu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eichenbaum D., and Turk D.C ( 1987).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acilitating Treatment Adherence :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actioner’s Guidebook.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lenum Pres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nt Dire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0161-12B6-4263-B277-C364EECE4D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609120"/>
            <a:ext cx="7772400" cy="762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Le degré d’observance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(1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696080" cy="441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mi les personnes âgées de plus de 65 ans, seulement  45% d’entre elles prennent leurs traitements en suivant la prescription (tendance au sous-dosage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s l’épilepsie, 60 à 70% prennent leurs médica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ement 7% des diabétiques suivent toutes les recommandations pour maintenir leur diabète sous contrôle (insuline, régime alimentaire, soins complémentaires, surveillances à effectuer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nt Dire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320E-A802-404C-A8BC-8F6AA88ED8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7802640" cy="533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e degré d’observance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                  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(2)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77240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pédiatrie, seulement 50% des parents donnent à leurs enfants les médicaments prescri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 famille sur deux suit  les rééducations ou thérapies recommandé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s l’hypertension, 50% des patients suivent leurs prescriptions la première année mais ils ne sont plus que 30% à les suivre la deuxième anné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nt Dire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A5BC-9F78-4A0D-AF43-50C87E0C83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848360" cy="533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e degré d’observance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                   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(3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599840"/>
            <a:ext cx="77724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s  la dialyse rénale, 50% seulement prennent les médicaments complémentaires et suivent  le régime diététique adéqu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s l’infarctus du myocarde, 50% suivent pendant un an  les recommandations d’exercice prescrit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s la dépression, moins de 50% prennent les médicaments prescri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nt Dire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895E-17ED-4BB7-A5D5-2BC0224408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878960" cy="914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Le coût de la non observan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2209320"/>
            <a:ext cx="7772400" cy="312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 1984, la Chambre de 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méricaine estimait à 13-15 billions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llars le coût de la non-obser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nt Dire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5364-3381-40A9-A929-C3B5A1DA67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La mesure de l’observance</a:t>
            </a:r>
            <a:r>
              <a:rPr b="1" lang="en-US" sz="4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1)</a:t>
            </a:r>
            <a:r>
              <a:rPr b="1" lang="en-US" sz="4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03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Il existe plusieurs outils, parmi lesquels :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’interview du pati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’auto-questionnai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 comptage des comprimé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’utilisation de piluliers électroniqu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nt Dire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1A20-E360-4752-9105-D14C5CFB66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848360" cy="609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a mesure de l’observance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              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(2)</a:t>
            </a:r>
            <a:r>
              <a:rPr b="1" lang="en-US" sz="4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6658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 suivi des données administratives liées au  renouvellement d’ordonnance à la pharmaci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’utilisation de marqueurs bio-chimiqu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 suivi des rendez-vou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s résultats clinique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’observance directe de la prise du traitement par le patient (Directly Observed Thera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nt Dire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CFA2-3F33-4114-A3B9-0B4488113E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3T16:19:20Z</dcterms:created>
  <dc:creator>CODOL</dc:creator>
  <dc:description/>
  <dc:language>en-US</dc:language>
  <cp:lastModifiedBy>Maryline</cp:lastModifiedBy>
  <dcterms:modified xsi:type="dcterms:W3CDTF">2003-11-06T22:04:28Z</dcterms:modified>
  <cp:revision>72</cp:revision>
  <dc:subject/>
  <dc:title>Présentation PowerPoint</dc:title>
</cp:coreProperties>
</file>