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1328F0-5242-4F47-B588-CBE86B033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V counseling and testing to be effective, several important elements should be included. Basic information about HIV can be provided in many ways, including written material or group sessions. Individual HIV prevention counseling, however, requires a private, interactive approach between a counselor and an individual to help identify specific and personal behaviors that may place her at increased risk for acquiring or transmitting HIV. The entire process should be voluntary. Accepting or refusing testing should not have detrimental consequences for the individual or to the quality of care offered to her. If the woman feels coerced or forced to undergo counseling and testing, the counseling is unlikely to be effective and may drive her away from needed care. Because of the stigma that is associated with HIV in many areas, information about the use of HIV counseling, testing and other services should remain absolutely confidential. Services should be provided that are appropriate to the client’s culture, age, language, literacy level and gender, because these factors may affect how they seek, accept and understand these services. Informed consent ensures that the person receiving counseling understands the information she is given and freely agrees to undergo tes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VCT, the counselor should provide information about HIV, including dispelling any rumors or myths about the disease, and counsel about prevention. Also, the counselor should use diagnostic tests to detect HIV infection and refer the person for additional care and support she may ne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380520" y="4416120"/>
            <a:ext cx="624852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T has traditionally involved a two-step process. Before testing a person, the counselor should tell her about HIV, describe the test and the implications, assess her risk of infection, discuss ways to prevent infection and determine the woman’s coping strategies and support systems, especially if the test is posi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erson accepts testing, she should be counseled after she is given her results. This post-test counseling will differ according to the results of the test. If the woman is HIV-negative, the counselor should discuss the behaviors that increase the woman’s risk of becoming infected and ways to reduce that risk. If the woman is HIV-positive, counseling should focus on providing the woman with emotional support and helping her deal with the diagnosis. She may feel a range of emotions from denial and anger to despair. She may even think about killing herself. Although these emotions are normal, counseling will help the woman deal with them and help her accept her HIV status. It is also important to discuss with the woman, when and who she should tell that she is HIV-positive. Telling other people will increase the amount of emotional and practical support she needs, but may increase her risk of being abandoned or abused, so it is important to assess the risk of whether that will hap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test counseling should also address prevention of HIV transmission to others and plans for referral for ongoing HIV care and other services needed. In many areas, peer support groups and post-test clubs have been developed in association with VCT to help people cope by sharing experiences and providing mutual support. After counseling, provide any followup counseling support or referrals as needed. With the increasing availability of rapid tests that allow clients to receive the HIV test results on the same day the test is done, both the pretest and the post-test sessions are conducted on the same day. The effectiveness of more condensed prevention counseling sessions combined with the use of rapid testing is currently under stud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reas with limited-resources, there may be a need to target counseling and testing resources to settings that serve individuals who may be at increased risk for HIV. These settings include sexually transmitted infection, postabortion care and adolescent clinics, drug and alcohol treatment centers, tuberculosis clinics, prisons, and clinics targeting men who have sex with men. Also, because interventions to prevent mother-to-child transmission of HIV are more available and so critically needed, pregnant women and clients at family planning clinics should also be a primary focus for receiving voluntary counseling and testing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HIV should address what HIV and AIDS are, how HIV is transmitted and how HIV can be prevented. Correcting any myths and misconceptions about HIV is also important. It may be helpful to ask, “Are there other things you have heard about HIV or AIDS that seem to be different from what I am telling you? Are there specific things you have heard about HIV or AIDS that you want to ask about?” Provide information about HIV testing that includes how it is performed, what different test results mean and the importance of obtaining the test results. Individuals should be educated about the benefits of HIV testing and given information about how and where to obtain further information or services pertaining to HIV or HIV preven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t women need additional information about HIV, such as how the disease will affect the pregnancy. Women with HIV, particularly those with more advanced disease, may be at greater risk for certain adverse pregnancy outcomes, such as preterm labor and low birth weight. Pregnant women should be counseled about the risk of mother-to-child transmission and how they can reduce that risk. Short-course antiretroviral regimens, such as single dose nevirapine, alternatives to breastfeeding or modification of breastfeeding practices, and screening and treatment of sexually transmitted infections are all ways they can reduce the risk of transmission. Disclosure is a concern for all individuals found to be HIV-infected, but pregnant women may be especially vulnerable to abuse and aband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think that condoms are used only to prevent pregnancy, encourage them to use condoms while they are pregnant to prevent sexually transmitted infection transmission. Pregnant women should also plan for the future, particularly, who will care for their children when they become sick or if they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areas where it is legally and safely available, pregnancy termination is an option and should be discu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ajor component of voluntary counseling and testing is prevention counseling. This component should focus on the individual’s unique circumstances to help her identify and acknowledge her personal risks for HIV. Help her change any behaviors that place her at risk for acquiring or spreading HIV by first identifying her personal barriers to change and helping overcome these with skill-building exercises, such as demonstrating proper use of condoms on anatomic models or role playing to help develop communication and negotiation skills around protective sex practices. HIV prevention counseling is usually done in the context of HIV testing, but does not require that testing be available for it to be effective. In rural Uganda, a community-based counseling service offered HIV counseling about safer sex and distributed condoms but did not offer testing. Visitors to the clinic rose by 500% in 2 years and distribution of condoms increased considerab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first session, there should be a general risk assessment or risk screening to help determine which individuals need more in-depth HIV prevention services. The factors listed on this slide help to identify people who may be at increased risk of HIV. For example, young single men and women and mobile populations often have less stable sexual relationships which put them at greater risk because of unsafe sexual behaviors. Women who have conditions such as sexually transmitted infections, which increase risk for transmission and acquisition of HIV, or tuberculosis, which often co-exists with HIV, have an increased likelihood of having HIV. In populations with high HIV prevalence, these characteristics will be less useful and all sexually active individuals should be considered at ris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certain signs or symptoms that may indicate the presence of HIV infection or AIDS, including oral thrush, fevers of unknown cause, chronic diarrhea, significant and unexplained weight loss, and generalized enlargement of lymph no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infections or cancers that are strongly associated with HIV infection. Tuberculosis is the leading HIV-associated opportunistic infection in developing countries. Active tuberculosis is more common in HIV-infected individuals than in uninfected persons. Almost 80% of cervical cancer cases occur in women living in low-resource settings. HIV-infected women have higher rates of cervical dysplasia, a precancerous condition, and without adequate screening and treatment for dysplasia, are at increased risk for invasive cervical cancer. Other infections and cancers linked to HIV are seen at very advanced stages of HIV infection when the immune system is very damaged. But, it is most beneficial to identify HIV early in the course of infection when there is an opportunity to prevent development of some of these other conditions as well as to better prevent HIV- and tuberculosis-transmission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of this presentation are to first review the reasons for VCT in these settings; describe studies that have demonstrated the effectiveness of VCT; and finally, discuss the components of voluntary counseling and tes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found to be at increased risk for HIV, more individual assessment is important to help them identify, understand and acknowledge specific behaviors and circumstances that place them at increased risk for acquiring HIV. This is most effective when open-ended questions are used to get information about use of condoms; sex with high-risk partners, such as bisexual men; sex in high-risk situations, such as while under the influence of alcohol or drugs or with coerced or forced sexual activity; and injection drug use and sharing of drug equip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HIV tests detect antibodies to HIV in serum or plasma. Standard tests use a screening enzyme immunoassay or EIA. Reactive or positive results are generally confirmed with Western Blot, which detects specific antibodies to the virus. This testing sequence has a sensitivity and specificity greater than 99.9%. More recently, rapid HIV tests have been developed that generally provide results in 10</a:t>
            </a:r>
            <a:r>
              <a:rPr b="0" lang="en-US" sz="1200" spc="-1" strike="noStrike">
                <a:solidFill>
                  <a:srgbClr val="000000"/>
                </a:solidFill>
                <a:latin typeface="Arial"/>
                <a:ea typeface="Arial"/>
              </a:rPr>
              <a:t>–</a:t>
            </a:r>
            <a:r>
              <a:rPr b="0" lang="en-US" sz="1200" spc="-1" strike="noStrike">
                <a:solidFill>
                  <a:srgbClr val="000000"/>
                </a:solidFill>
                <a:latin typeface="Arial"/>
              </a:rPr>
              <a:t>15 minutes. They are also simple and relatively inexpensive. These tests are very sensitive but are less specific than standard assays, and positive results therefore require confirmation. Similarly, there is now the ability to test for HIV using specimens other than blood, such as urine or saliva, which greatly simplifies collection of specimens. Because of somewhat lower specificity, positive results with alternative specimens also require confirmation. The ability to use alternative specimens for HIV testing may increase the acceptability of HIV testing to people who want VC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to confirm the results of any test may vary depending upon the HIV prevalence in the population tested, the presence or absence of symptoms of HIV and the local availability of specific types of tests. For example, a symptomatic person living in a high prevalence area who has a reactive screening test may be considered HIV-infected, particularly if resources for additional testing are limited. In all other situations, reactive screening tests should be confirmed with standard serology or with a second and different screening te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ways to test for HIV, using culture or DNA or RNA amplification. DNA-PCR, or polymerase chain reaction, is used to detect infection in newborns who are still antibody-positive because of passage of maternal antibodies across the placenta or infants with acute HIV infection before antibodies have developed. RNA-PCR is valuable to help predict the course of disease, because persons with higher HIV-RNA levels have a more rapid rate of progression in the absence of antiretroviral treatment. With appropriate treatment the HIV-RNA level (or viral load) declines to very low or undetectable levels, and this test is therefore useful for monitoring therapy. All of these tests are quite expensive and labor intensive and are not appropriate in most VC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ssues to consider in HIV testing include the possibility that an individual tested has recently been infected and has not yet developed detectable antibodies, often called the “window period.” Antibodies generally take 8</a:t>
            </a:r>
            <a:r>
              <a:rPr b="0" lang="en-US" sz="1200" spc="-1" strike="noStrike">
                <a:solidFill>
                  <a:srgbClr val="000000"/>
                </a:solidFill>
                <a:latin typeface="Arial"/>
                <a:ea typeface="Arial"/>
              </a:rPr>
              <a:t>–</a:t>
            </a:r>
            <a:r>
              <a:rPr b="0" lang="en-US" sz="1200" spc="-1" strike="noStrike">
                <a:solidFill>
                  <a:srgbClr val="000000"/>
                </a:solidFill>
                <a:latin typeface="Arial"/>
              </a:rPr>
              <a:t>12 weeks to develop. Therefore, retesting should be encouraged in those who have negative test results and have had recent high-risk behaviors. In areas such as Africa, where infection with HIV-2 is common, a test that can detect both HIV-1 and HIV-2 should ideally be used. This test is particularly important if the individual has clinical signs or symptoms or laboratory evidence that suggests HIV infection but has negative, indeterminate or inconclusive results to HIV-1 testing. The use of rapid tests can be especially useful in settings where followup is difficult because the clients live far away from the counseling and testing site, may not return for the results, or need intervention such as women who are in labor without prior testing, or healthcare workers who may need postexposure prophylaxis. People are much more likely to receive their HIV test results when rapid tests are used. However, this also makes it particularly important to ensure that the client is prepared to receive a result in minutes to hours, rather than days or wee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art of HIV counseling is interpreting and explaining the meaning of HIV test results. A test should be considered positive only after both screening and confirmatory tests are positive. Given the high sensitivity and specificity of testing, a positive result indicates that a person is HIV-infected except in very rare circumstances. Similarly, a negative test indicates the absence of HIV infection unless the individual is in the “window period” or is infected with HIV-2 and has been tested only for HIV-1.</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terminate test is defined as a reactive screening EIA and an indeterminate Western Blot. This most often represents detection of nonspecific reactions in serum from an uninfected person, but may also indicate an evolving HIV antibody response in a newly infected individual or infection with HIV-2 or with a different HIV-1 strain. In the absence of recent and ongoing risk behavior, repeated indeterminate test results at least 1 month apart do not represent HIV infe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y counseling and testing should be an entry point for prevention and care of HIV-infected persons and those at high risk for HIV </a:t>
            </a:r>
            <a:r>
              <a:rPr b="0" lang="en-US" sz="1200" spc="-1" strike="noStrike">
                <a:solidFill>
                  <a:srgbClr val="000000"/>
                </a:solidFill>
                <a:latin typeface="Arial"/>
                <a:ea typeface="Arial"/>
              </a:rPr>
              <a:t>—</a:t>
            </a:r>
            <a:r>
              <a:rPr b="0" lang="en-US" sz="1200" spc="-1" strike="noStrike">
                <a:solidFill>
                  <a:srgbClr val="000000"/>
                </a:solidFill>
                <a:latin typeface="Arial"/>
              </a:rPr>
              <a:t> VCT is a way HIV-infected people can get care and people at risk for HIV can learn about prevention. Therefore, it is important to develop links to a referral system with antenatal care clinics, other reproductive healthcare settings and clinics providing medical care for persons with HIV. Individuals with ongoing risk behaviors should have access to further prevention counseling and assistance. VCT programs should enlist peer and community support to help reduce stigma for HIV-infected individuals and to encourage adoption of HIV risk reduction practices. Countries where VCT is well established, such as Uganda, have a less stigmatizing attitude to HIV. VCT programs should also assist HIV-positive individuals in coming to terms with their infection and in planning for the futu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when dealing with individuals in high HIV prevalence areas or in specific clinical settings where clients have increased behavioral risks for HIV, offering testing based on reported risk factors will underestimate the number of individuals actually infected with HIV. It is more appropriate in these settings to offer testing to all individuals, when possible. On the other hand, in lower HIV prevalence settings, it is most important to target VCT services to higher risk groups, especially when resources for counseling and testing are limited. As already discussed, voluntary counseling and testing is more effective for risk reduction when both sexual partners in a relationship participate and share their results. Post-test counseling of individuals who test negative for HIV is critical, because they may assume that their behaviors are safe or that they are protected against HIV, and therefore may not only continue but may in some cases actually increase risky sex or drug-using practices. Instead, a negative result should be seen as a second chance to change behaviors that increase the risk for HIV. It should be clearly stated that a negative test does not mean there is no risk for HIV or that the person cannot become HIV-infecte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mphasis should be given to talking about drug and alcohol use associated with sexual activity because drugs and alcohol lower inhibitions and decrease the likelihood of condom use. Positive prevention messages are also important because the majority of individuals, even in areas of high prevalence, are not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456840" y="4416120"/>
            <a:ext cx="6172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barriers to voluntary counseling and testing should be recognized, anticipated and confronted. Concerns about confidentiality not only deal with the stigma attached to HIV/AIDS, but also relate to fears of rejection, abandonment or abuse, particularly in women who are found to be HIV-positive. These are not unreasonable fears. In one study in Rwanda, HIV-infected women were more likely to suffer physical abuse and the break-up of relationships, especially when the spouse was not HIV-infected. In studies from low-resource settings many HIV-positive individuals do not tell their HIV status to their partners because they fear their partner’s reaction. Safety issues should be addressed both during pretest counseling and when positive results are given. This will ensure that HIV-infected women have the protection and the resources they need to deal with their diagnosis. There are many examples of discrimination against HIV-infected individuals in the workplace, school and other areas of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barrier to VCT is simply the fear of being HIV-infected, particularly in low-resource settings where HIV may be viewed as a disease without hope or help. Many people in high prevalence countries or in higher risk groups may assume that they are already infected, and this belief may discourage them from seeking VCT services. The counselor should discuss what can be done when HIV is diagnosed, with emphasis on local resources. Prophylaxis of opportunistic infections with simple inexpensive generic drugs, nutritional interventions to maintain and enhance health, management of common symptoms associated with HIV, prevention of perinatal HIV transmission with short-term oral antiretroviral regimens and alternatives to or modifications of breastfeeding practices are all possible even in less developed areas of the world. These interventions can be reviewed in order to help clients understand the benefits of knowing their HIV stat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IDS is a worldwide pandemic of unprecedented proportions. Low-resource settings, primarily in the developing world, bear the greatest burden of disease in terms of absolute numbers, proportions of adults and children infected and disease and death secondary to HIV. Nevertheless, these statistics alone would not warrant widespread HIV counseling and testing unless it can be demonstrated that VCT has benefits for those who receive counseling and testing. For individuals who are found to be HIV-infected, there are several benefits of knowing their HIV status, even in the absence of access to antiretroviral drugs. In most limited-resource areas, there are medications available to treat or prevent some of the most common opportunistic infections, such as tuberculosis. These opportunistic infections are the major causes of morbidity and mortality in persons with AIDS. Knowing the HIV status can also help prevent mother-to-child transmission of HIV by the availability and use of shorter and less expensive antiretroviral regimens and by changing the mother’s practices of feeding her newborn. Individuals found to be infected with HIV can also be educated about protective practices to reduce the risk of transmission to others. Knowledge of HIV status can help infected individuals plan for the future, including plans for childbearing and care for their families. Finally, as antiretroviral drugs become available in these settings, diagnosis of HIV will be essential to have access to these therapie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dividuals resist HIV counseling and testing because they do not believe they are at risk for HIV. This belief underscores the importance of individualized risk assessment and personalized risk-reduction counseling. HIV statistics have demonstrated that many individuals, particularly women, are at risk not because of their own behaviors, but because of their partner’s practices, of which they may not be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 major barrier to VCT is the inability of many women to change sexual behavior. In many cultures, it is difficult for a man and woman, even if they are married, to talk openly about sex. Women usually have little or no power in sexual decision-making. Women or their husbands may wish to have children and, therefore, have unprotected sex, putting an uninfected partner at risk. For some women, sex represents the only way they can support themselve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HIV voluntary counseling and testing has been shown to reduce risk behaviors in both HIV-infected and -uninfected individuals and in serodiscordant couples. Knowledge of HIV status can benefit not only HIV-infected persons but can also motivate uninfected persons to reduce risk. Greater efforts are needed to reach young people and couples. Counseling and testing should be voluntary and confidential and should include information about HIV and personalized prevention counseling, whether or not testing is performed. Finally, the barriers to VCT must be acknowledged and confronted in order to make this effective intervention safer and more acce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in developed and developing countries have shown that people who are counseled about HIV prevention, whether or not they are HIV-positive, reduce risky behaviors. For those who are not infected, but have high-risk behaviors, this counseling can reduce their risk of acquiring H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communities affected by HIV, the widespread availability of voluntary HIV counseling and testing can help reduce fear and ignorance about HIV that lead to the stigma surrounding this infection. VCT programs can also promote community support of infected persons and help mobilize communities to encourage behavior changes that will reduce risk of HIV inf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studies in limited-resource settings have now demonstrated that HIV counseling and testing are effective in reducing HIV risk behaviors and also can reduce actual rates of HIV or other sexually transmitted infections. A prospective cohort study of HIV education, counseling and testing of over 1400 childbearing women in Rwanda resulted in an increase from 7% condom use before the intervention to 22% condom use one year later. Gonococcal or GC prevalence decreased from 13% to 6% among HIV-positive women and HIV seroconversion rates declined from 4.1 to 1.8 per 100 person-years in women whose male partners also received counseling and testing. Unfortunately, there was a lack of risk reduction seen in HIV-negative women whose partners’ status was unknown. In the former Zaire, VCT in 149 serodiscordant couples also resulted in significant increases in consistent condom use, from less than 5% to greater than 75% at 18 months of followup and a low rate of HIV seroconvers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dia, VCT of heterosexual men attending sexually transmitted infection clinics resulted in a reduction of sexual risk behaviors and an HIV seroconversion rate of 6.1 per 100 person-years, significantly lower than the 18% per year incidence estimated from a previous study in the sam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ailand, HIV-positive individuals reported fewer sex partners and more consistent condom use after VCT when compared to HIV-positive persons who were questioned before VCT and did not know their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 randomized clinical trial of VCT versus basic health information was conducted in Kenya, Tanzania and Trinidad involving over 3100 individuals and 586 couples. In both couples and individuals, VCT was associated with a greater reduction in unprotected sex than basic health information alone. A recent comprehensive meta-analysis of VCT concluded that HIV testing resulted in risk reduction in persons who were HIV-positive and in serodiscordant cou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T is a cost-effective preventive measure, particularly in high prevalence settings. In a separate analysis of the randomized clinical trial of VCT, the cost of VCT per disability-adjusted-life-year was 13 US dollars in Kenya and 17 US dollars in Tanzania. This cost compares favorably with other common health interventions, such as management of a sick child, treatment of acute respiratory infections, or immunizations against measles, polio, diptheria, pertussis and tetanus. The World Bank recommends using preventive interventions costing up to 50 US dollars per disability-adjusted-life-year sa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factors that may increase the effectiveness of VCT programs. The counselor should believe that VCT can make a difference for the individual, the family and the community. Counseling should be nonjudgmental and supportive. It should be interactive, so that the client feels involved and not lectured to. The counselor should make eye contact with the individual being counseled and should ask open-ended questions, which allow the person other options than simply yes and no answers. The person’s culture, level of education, age, and gender should be considered so that the language used is easy to understand and not offensive. It is important to target personal, and not general, risk behaviors in order to engage individuals in their own care and to develop risk reduction plans which are uniquely applicable to them. Finally, although the majority of studies carried out show that people can make some changes in sexual behavior to reduce HIV transmission, long-term changes are difficult without both members of a couple being involved and aware of their HIV status. Furthermore, many studies have shown that a significant proportion of couples in steady relationships have serodiscordant HIV test results, and the uninfected partner’s risk of becoming infected is high unless safer sexual practices are used. When a person is unable or unwilling to discuss HIV test results with a sexual partner, adoption of safer sexual practices is less likely to occur. The studies that show the most consistent reduction in risky sexual behavior are among couples who attended VCT sessions together. Couple counseling and testing can enable a couple to negotiate changes in sexual behavior together, to plan for the future and to avoid blaming each 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E1A06-438A-4BD2-B87B-9620E73C3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1066680" y="198072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066680" y="411048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B15A-61F3-4654-85D4-460B4D8B9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06668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94532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0FF78-3A31-4A4D-A2F4-3617703D6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106668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62628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18552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06668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62628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18552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3028A-DADE-42D7-ACBA-2931C7BC2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80381-9239-4CE6-A80C-74C44F714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type="subTitle"/>
          </p:nvPr>
        </p:nvSpPr>
        <p:spPr>
          <a:xfrm>
            <a:off x="1066680" y="1980720"/>
            <a:ext cx="7569360" cy="4077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2FCDD-AAF2-4832-9039-A736805AE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04018-302A-4003-899F-87EC37DB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106668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94532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52169-58C7-4A2B-ACB4-5D7F2807A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347A6-45A9-4CD4-8298-C12302CED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304560"/>
            <a:ext cx="6959520" cy="494568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0C6CD-0469-469D-AF52-6B7158D2F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94532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106668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2E9DD-51A2-49B7-BA86-CF36C682A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1066680" y="1980720"/>
            <a:ext cx="7569360" cy="4077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125F-9BF2-4697-A40C-0233D2BA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06668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94532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0934-9EA7-4137-BFD6-0EBD32B43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066680" y="411048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4A8CC-FA48-4374-A020-D6AD815C4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1066680" y="198072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1066680" y="411048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6EA1-6F8B-4EA8-9730-D6BF431B2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06668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94532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40885-7E1C-42A2-B6A4-D802274CD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106668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62628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6185520" y="198072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106668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62628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6185520" y="4110480"/>
            <a:ext cx="24372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96062-77AA-464C-8CDC-5006273E8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86D2-E3D8-48F8-AE1C-99808E4E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06668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94532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9EF14-A8EC-40F2-87E7-DB12D8DD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AA0C0-A50D-4236-A159-79837DF2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304560"/>
            <a:ext cx="6959520" cy="494568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31F26-6898-47DC-935C-F5C8BAC8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94532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06668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404B-C4B8-4D85-8D65-79C2FA16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1066680" y="1980720"/>
            <a:ext cx="3693600" cy="4077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945320" y="411048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2DC9-4175-4491-B07F-C0E26BAB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106668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945320" y="1980720"/>
            <a:ext cx="369360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066680" y="4110480"/>
            <a:ext cx="7569360" cy="1944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37B2-4C5F-4DAC-832F-F40012378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5E9F-DC38-4067-A42E-824BCB22E4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slashtop8" descr=""/>
          <p:cNvPicPr/>
          <p:nvPr/>
        </p:nvPicPr>
        <p:blipFill>
          <a:blip r:embed="rId2"/>
          <a:stretch/>
        </p:blipFill>
        <p:spPr>
          <a:xfrm>
            <a:off x="1219320" y="1447920"/>
            <a:ext cx="7781760" cy="371520"/>
          </a:xfrm>
          <a:prstGeom prst="rect">
            <a:avLst/>
          </a:prstGeom>
          <a:ln w="0">
            <a:noFill/>
          </a:ln>
        </p:spPr>
      </p:pic>
      <p:pic>
        <p:nvPicPr>
          <p:cNvPr id="6" name="hrsa_logo_new" descr=""/>
          <p:cNvPicPr/>
          <p:nvPr/>
        </p:nvPicPr>
        <p:blipFill>
          <a:blip r:embed="rId3"/>
          <a:stretch/>
        </p:blipFill>
        <p:spPr>
          <a:xfrm>
            <a:off x="114480" y="114480"/>
            <a:ext cx="950760" cy="16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11360" y="1218960"/>
            <a:ext cx="772128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1FF0-D9AD-4772-8E62-269F34956E4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slashtop8" descr=""/>
          <p:cNvPicPr/>
          <p:nvPr/>
        </p:nvPicPr>
        <p:blipFill>
          <a:blip r:embed="rId2"/>
          <a:stretch/>
        </p:blipFill>
        <p:spPr>
          <a:xfrm>
            <a:off x="1133640" y="685800"/>
            <a:ext cx="8010360" cy="371520"/>
          </a:xfrm>
          <a:prstGeom prst="rect">
            <a:avLst/>
          </a:prstGeom>
          <a:ln w="0">
            <a:noFill/>
          </a:ln>
        </p:spPr>
      </p:pic>
      <p:pic>
        <p:nvPicPr>
          <p:cNvPr id="48" name="hrsa_logo_new" descr=""/>
          <p:cNvPicPr/>
          <p:nvPr/>
        </p:nvPicPr>
        <p:blipFill>
          <a:blip r:embed="rId3"/>
          <a:stretch/>
        </p:blipFill>
        <p:spPr>
          <a:xfrm>
            <a:off x="152280" y="3867120"/>
            <a:ext cx="1714680" cy="29145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ick to edit the outline text format</a:t>
            </a:r>
            <a:endParaRPr b="0" lang="en-US" sz="18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33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ff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33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2133720" y="4343040"/>
            <a:ext cx="6400800" cy="131436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an R. Anderson, MD</a:t>
            </a:r>
            <a:br>
              <a:rPr sz="1800"/>
            </a:br>
            <a:r>
              <a:rPr b="0" lang="en-US" sz="1800" spc="-1" strike="noStrike">
                <a:solidFill>
                  <a:srgbClr val="000000"/>
                </a:solidFill>
                <a:latin typeface="Arial Black"/>
              </a:rPr>
              <a:t>Director</a:t>
            </a:r>
            <a:endParaRPr b="0" lang="en-US" sz="1800" spc="-1" strike="noStrike">
              <a:solidFill>
                <a:srgbClr val="000000"/>
              </a:solidFill>
              <a:latin typeface="Arial Black"/>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hns Hopkins HIV Women’s Health Program</a:t>
            </a:r>
            <a:endParaRPr b="0" lang="en-US" sz="1800" spc="-1" strike="noStrike">
              <a:solidFill>
                <a:srgbClr val="000000"/>
              </a:solidFill>
              <a:latin typeface="Arial Black"/>
            </a:endParaRPr>
          </a:p>
        </p:txBody>
      </p:sp>
      <p:sp>
        <p:nvSpPr>
          <p:cNvPr id="94" name="PlaceHolder 2"/>
          <p:cNvSpPr>
            <a:spLocks noGrp="1"/>
          </p:cNvSpPr>
          <p:nvPr>
            <p:ph type="title"/>
          </p:nvPr>
        </p:nvSpPr>
        <p:spPr>
          <a:xfrm>
            <a:off x="711360" y="1218960"/>
            <a:ext cx="772128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e of Women with HIV Living in Limited-Resource Settings</a:t>
            </a:r>
            <a:br>
              <a:rPr sz="3200"/>
            </a:br>
            <a:br>
              <a:rPr sz="3200"/>
            </a:br>
            <a:r>
              <a:rPr b="1" lang="en-US" sz="2800" spc="-1" strike="noStrike">
                <a:solidFill>
                  <a:srgbClr val="000000"/>
                </a:solidFill>
                <a:latin typeface="Arial"/>
              </a:rPr>
              <a:t>Voluntary Counseling and Testing (VCT)</a:t>
            </a:r>
            <a:endParaRPr b="1" lang="en-US" sz="2800" spc="-1" strike="noStrike">
              <a:solidFill>
                <a:srgbClr val="000000"/>
              </a:solidFill>
              <a:latin typeface="Arial"/>
            </a:endParaRPr>
          </a:p>
        </p:txBody>
      </p:sp>
      <p:sp>
        <p:nvSpPr>
          <p:cNvPr id="4" name="PlaceHolder 3"/>
          <p:cNvSpPr>
            <a:spLocks noGrp="1"/>
          </p:cNvSpPr>
          <p:nvPr>
            <p:ph type="sldNum" idx="6"/>
          </p:nvPr>
        </p:nvSpPr>
        <p:spPr/>
        <p:txBody>
          <a:bodyPr/>
          <a:p>
            <a:fld id="{6209A7BB-468A-41DB-AB71-6605470DD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Elements of HIV Counseling and Testing</a:t>
            </a:r>
            <a:endParaRPr b="1" lang="en-US" sz="2800" spc="-1" strike="noStrike">
              <a:solidFill>
                <a:srgbClr val="000000"/>
              </a:solidFill>
              <a:latin typeface="Arial"/>
            </a:endParaRPr>
          </a:p>
        </p:txBody>
      </p:sp>
      <p:sp>
        <p:nvSpPr>
          <p:cNvPr id="116"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t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ntary</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dential</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ly sensitiv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s informed consen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A028322-2B4D-4242-ADF3-0A155DFD9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Components of VCT</a:t>
            </a:r>
            <a:endParaRPr b="1" lang="en-US" sz="2800" spc="-1" strike="noStrike">
              <a:solidFill>
                <a:srgbClr val="000000"/>
              </a:solidFill>
              <a:latin typeface="Arial"/>
            </a:endParaRPr>
          </a:p>
        </p:txBody>
      </p:sp>
      <p:sp>
        <p:nvSpPr>
          <p:cNvPr id="118"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V information, including addressing false rumors and myth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on counseling, including safer sex counseling</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gnostic test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ral for further care and support, as neede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4CE67CD-1B06-4E8B-BB1B-9D5293734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971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0" name=""/>
          <p:cNvCxnSpPr/>
          <p:nvPr/>
        </p:nvCxnSpPr>
        <p:spPr>
          <a:xfrm flipH="1" rot="10800000">
            <a:off x="2513520" y="304200"/>
            <a:ext cx="97560" cy="6315840"/>
          </a:xfrm>
          <a:prstGeom prst="bentConnector3">
            <a:avLst>
              <a:gd name="adj1" fmla="val -1114444"/>
            </a:avLst>
          </a:prstGeom>
          <a:ln w="12600">
            <a:solidFill>
              <a:srgbClr val="000000"/>
            </a:solidFill>
            <a:miter/>
            <a:tailEnd len="sm" type="triangle" w="sm"/>
          </a:ln>
        </p:spPr>
      </p:cxnSp>
      <p:sp>
        <p:nvSpPr>
          <p:cNvPr id="121" name=""/>
          <p:cNvSpPr/>
          <p:nvPr/>
        </p:nvSpPr>
        <p:spPr>
          <a:xfrm>
            <a:off x="6172200" y="6134040"/>
            <a:ext cx="0" cy="330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71800" y="5245200"/>
            <a:ext cx="0" cy="1218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47920" y="335268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559400" y="762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2000" y="2514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12160" y="7632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velopment of Community Awareness</a:t>
            </a:r>
            <a:endParaRPr b="0" lang="en-US" sz="1600" spc="-1" strike="noStrike">
              <a:solidFill>
                <a:srgbClr val="000000"/>
              </a:solidFill>
              <a:latin typeface="Times New Roman"/>
            </a:endParaRPr>
          </a:p>
        </p:txBody>
      </p:sp>
      <p:sp>
        <p:nvSpPr>
          <p:cNvPr id="127" name=""/>
          <p:cNvSpPr/>
          <p:nvPr/>
        </p:nvSpPr>
        <p:spPr>
          <a:xfrm>
            <a:off x="3222720" y="496800"/>
            <a:ext cx="268272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o attend for testing</a:t>
            </a:r>
            <a:endParaRPr b="0" lang="en-US" sz="1400" spc="-1" strike="noStrike">
              <a:solidFill>
                <a:srgbClr val="000000"/>
              </a:solidFill>
              <a:latin typeface="Times New Roman"/>
            </a:endParaRPr>
          </a:p>
        </p:txBody>
      </p:sp>
      <p:sp>
        <p:nvSpPr>
          <p:cNvPr id="128" name=""/>
          <p:cNvSpPr/>
          <p:nvPr/>
        </p:nvSpPr>
        <p:spPr>
          <a:xfrm>
            <a:off x="3230640" y="990720"/>
            <a:ext cx="2674800" cy="158580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test counse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V 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process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ications of te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ntion counse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coping strategies</a:t>
            </a:r>
            <a:endParaRPr b="0" lang="en-US" sz="1400" spc="-1" strike="noStrike">
              <a:solidFill>
                <a:srgbClr val="000000"/>
              </a:solidFill>
              <a:latin typeface="Times New Roman"/>
            </a:endParaRPr>
          </a:p>
        </p:txBody>
      </p:sp>
      <p:sp>
        <p:nvSpPr>
          <p:cNvPr id="129" name=""/>
          <p:cNvSpPr/>
          <p:nvPr/>
        </p:nvSpPr>
        <p:spPr>
          <a:xfrm>
            <a:off x="3230640" y="2739960"/>
            <a:ext cx="268272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o test</a:t>
            </a:r>
            <a:endParaRPr b="0" lang="en-US" sz="1400" spc="-1" strike="noStrike">
              <a:solidFill>
                <a:srgbClr val="000000"/>
              </a:solidFill>
              <a:latin typeface="Times New Roman"/>
            </a:endParaRPr>
          </a:p>
        </p:txBody>
      </p:sp>
      <p:sp>
        <p:nvSpPr>
          <p:cNvPr id="130" name=""/>
          <p:cNvSpPr/>
          <p:nvPr/>
        </p:nvSpPr>
        <p:spPr>
          <a:xfrm>
            <a:off x="3225960" y="3184560"/>
            <a:ext cx="96012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31" name=""/>
          <p:cNvSpPr/>
          <p:nvPr/>
        </p:nvSpPr>
        <p:spPr>
          <a:xfrm>
            <a:off x="4957920" y="3184560"/>
            <a:ext cx="96012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132" name=""/>
          <p:cNvSpPr/>
          <p:nvPr/>
        </p:nvSpPr>
        <p:spPr>
          <a:xfrm>
            <a:off x="3230640" y="3720960"/>
            <a:ext cx="268272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test counseling</a:t>
            </a:r>
            <a:endParaRPr b="0" lang="en-US" sz="1400" spc="-1" strike="noStrike">
              <a:solidFill>
                <a:srgbClr val="000000"/>
              </a:solidFill>
              <a:latin typeface="Times New Roman"/>
            </a:endParaRPr>
          </a:p>
        </p:txBody>
      </p:sp>
      <p:sp>
        <p:nvSpPr>
          <p:cNvPr id="133" name=""/>
          <p:cNvSpPr/>
          <p:nvPr/>
        </p:nvSpPr>
        <p:spPr>
          <a:xfrm>
            <a:off x="1600200" y="4251240"/>
            <a:ext cx="2835360" cy="201204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V-nega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 giv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profile review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ntion counseling reinforc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support for risk re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4724280" y="4251240"/>
            <a:ext cx="2895840" cy="201204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V-posi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 giv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tional sup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risk for abandonment </a:t>
            </a:r>
            <a:br>
              <a:rPr sz="1400"/>
            </a:br>
            <a:r>
              <a:rPr b="0" lang="en-US" sz="1400" spc="-1" strike="noStrike">
                <a:solidFill>
                  <a:srgbClr val="000000"/>
                </a:solidFill>
                <a:latin typeface="Arial"/>
              </a:rPr>
              <a:t>and abu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about referral for ca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about disclosure of HIV stat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ntion of HIV transmission</a:t>
            </a:r>
            <a:endParaRPr b="0" lang="en-US" sz="1400" spc="-1" strike="noStrike">
              <a:solidFill>
                <a:srgbClr val="000000"/>
              </a:solidFill>
              <a:latin typeface="Times New Roman"/>
            </a:endParaRPr>
          </a:p>
        </p:txBody>
      </p:sp>
      <p:sp>
        <p:nvSpPr>
          <p:cNvPr id="135" name=""/>
          <p:cNvSpPr/>
          <p:nvPr/>
        </p:nvSpPr>
        <p:spPr>
          <a:xfrm>
            <a:off x="2506680" y="6464160"/>
            <a:ext cx="4130640" cy="307080"/>
          </a:xfrm>
          <a:prstGeom prst="rect">
            <a:avLst/>
          </a:prstGeom>
          <a:solidFill>
            <a:srgbClr val="ffe98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up counseling and support as required</a:t>
            </a:r>
            <a:endParaRPr b="0" lang="en-US" sz="1400" spc="-1" strike="noStrike">
              <a:solidFill>
                <a:srgbClr val="000000"/>
              </a:solidFill>
              <a:latin typeface="Times New Roman"/>
            </a:endParaRPr>
          </a:p>
        </p:txBody>
      </p:sp>
      <p:sp>
        <p:nvSpPr>
          <p:cNvPr id="136" name=""/>
          <p:cNvSpPr/>
          <p:nvPr/>
        </p:nvSpPr>
        <p:spPr>
          <a:xfrm>
            <a:off x="4191120" y="3352680"/>
            <a:ext cx="761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86400" y="3495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8" name=""/>
          <p:cNvCxnSpPr>
            <a:stCxn id="132" idx="3"/>
            <a:endCxn id="134" idx="0"/>
          </p:cNvCxnSpPr>
          <p:nvPr/>
        </p:nvCxnSpPr>
        <p:spPr>
          <a:xfrm>
            <a:off x="5913000" y="3879720"/>
            <a:ext cx="259560" cy="372240"/>
          </a:xfrm>
          <a:prstGeom prst="bentConnector2">
            <a:avLst/>
          </a:prstGeom>
          <a:ln w="12600">
            <a:solidFill>
              <a:srgbClr val="000000"/>
            </a:solidFill>
            <a:miter/>
            <a:tailEnd len="sm" type="triangle" w="sm"/>
          </a:ln>
        </p:spPr>
      </p:cxnSp>
      <p:cxnSp>
        <p:nvCxnSpPr>
          <p:cNvPr id="139" name=""/>
          <p:cNvCxnSpPr/>
          <p:nvPr/>
        </p:nvCxnSpPr>
        <p:spPr>
          <a:xfrm rot="5400000">
            <a:off x="2906640" y="3929760"/>
            <a:ext cx="372240" cy="259560"/>
          </a:xfrm>
          <a:prstGeom prst="bentConnector3">
            <a:avLst>
              <a:gd name="adj1" fmla="val 2129"/>
            </a:avLst>
          </a:prstGeom>
          <a:ln w="12600">
            <a:solidFill>
              <a:srgbClr val="000000"/>
            </a:solidFill>
            <a:miter/>
            <a:tailEnd len="sm" type="triangle" w="sm"/>
          </a:ln>
        </p:spPr>
      </p:cxnSp>
      <p:cxnSp>
        <p:nvCxnSpPr>
          <p:cNvPr id="140" name=""/>
          <p:cNvCxnSpPr/>
          <p:nvPr/>
        </p:nvCxnSpPr>
        <p:spPr>
          <a:xfrm flipH="1" flipV="1">
            <a:off x="6629040" y="304560"/>
            <a:ext cx="23040" cy="6379200"/>
          </a:xfrm>
          <a:prstGeom prst="bentConnector3">
            <a:avLst>
              <a:gd name="adj1" fmla="val -4963492"/>
            </a:avLst>
          </a:prstGeom>
          <a:ln w="12600">
            <a:solidFill>
              <a:srgbClr val="000000"/>
            </a:solidFill>
            <a:miter/>
            <a:tailEnd len="sm" type="triangle" w="sm"/>
          </a:ln>
        </p:spPr>
      </p:cxnSp>
      <p:sp>
        <p:nvSpPr>
          <p:cNvPr id="141" name=""/>
          <p:cNvSpPr/>
          <p:nvPr/>
        </p:nvSpPr>
        <p:spPr>
          <a:xfrm>
            <a:off x="152280" y="5975280"/>
            <a:ext cx="106704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UNAIDS Technical Report 200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7BFE51B-7B05-4A07-9BA6-16F33FE67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tings That Serve Individuals Who May Be at Risk for HIV</a:t>
            </a:r>
            <a:endParaRPr b="1" lang="en-US" sz="2800" spc="-1" strike="noStrike">
              <a:solidFill>
                <a:srgbClr val="000000"/>
              </a:solidFill>
              <a:latin typeface="Arial"/>
            </a:endParaRPr>
          </a:p>
        </p:txBody>
      </p:sp>
      <p:sp>
        <p:nvSpPr>
          <p:cNvPr id="143"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xually transmitted infection (STI) clinic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tabortion care clinic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olescent clinic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and alcohol treatment center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rculosis (TB) clinic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on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nics targeting men who have sex with men</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y planning clinic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enatal care clinic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E4B6284-680E-43F3-B5E7-E51F78A83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V Information</a:t>
            </a:r>
            <a:endParaRPr b="1" lang="en-US" sz="2800" spc="-1" strike="noStrike">
              <a:solidFill>
                <a:srgbClr val="000000"/>
              </a:solidFill>
              <a:latin typeface="Arial"/>
            </a:endParaRPr>
          </a:p>
        </p:txBody>
      </p:sp>
      <p:sp>
        <p:nvSpPr>
          <p:cNvPr id="145"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HIV? What is AID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about HIV transmission and prevention</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 myths and misconceptions about HIV and AID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ts of HIV testing</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about HIV testing</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 of test result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of obtaining test results</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to obtain further information or servic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ACACEF4-3DD8-4290-8EDF-AD13D004B4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CT During Pregnancy: Special Counseling Issues</a:t>
            </a:r>
            <a:endParaRPr b="1" lang="en-US" sz="2800" spc="-1" strike="noStrike">
              <a:solidFill>
                <a:srgbClr val="000000"/>
              </a:solidFill>
              <a:latin typeface="Arial"/>
            </a:endParaRPr>
          </a:p>
        </p:txBody>
      </p:sp>
      <p:sp>
        <p:nvSpPr>
          <p:cNvPr id="147"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act of HIV on pregnancy</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sk of mother-to-child transmission (MTCT)</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s to decrease MTCT</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antiretrovirals, if availabl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ant feeding option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and treatment of STIs</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losure issue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condom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care issue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gnancy termination option, if legal and saf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CF3E53C-66A9-45AD-A69C-67B562309E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ion Counseling</a:t>
            </a:r>
            <a:endParaRPr b="1" lang="en-US" sz="2800" spc="-1" strike="noStrike">
              <a:solidFill>
                <a:srgbClr val="000000"/>
              </a:solidFill>
              <a:latin typeface="Arial"/>
            </a:endParaRPr>
          </a:p>
        </p:txBody>
      </p:sp>
      <p:sp>
        <p:nvSpPr>
          <p:cNvPr id="149"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ing the individual identify and acknowledge her personal risks for HIV</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 individual set and reach a specific behavior change goal that will prevent acquisition or transmission of HIV</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building exerci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8F120E-1EC2-4565-84F2-907C8E14E7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a:t>
            </a:r>
            <a:endParaRPr b="1" lang="en-US" sz="2800" spc="-1" strike="noStrike">
              <a:solidFill>
                <a:srgbClr val="000000"/>
              </a:solidFill>
              <a:latin typeface="Arial"/>
            </a:endParaRPr>
          </a:p>
        </p:txBody>
      </p:sp>
      <p:sp>
        <p:nvSpPr>
          <p:cNvPr id="151" name="PlaceHolder 2"/>
          <p:cNvSpPr>
            <a:spLocks noGrp="1"/>
          </p:cNvSpPr>
          <p:nvPr>
            <p:ph/>
          </p:nvPr>
        </p:nvSpPr>
        <p:spPr>
          <a:xfrm>
            <a:off x="1066320" y="1980720"/>
            <a:ext cx="3706920" cy="4077000"/>
          </a:xfrm>
          <a:prstGeom prst="rect">
            <a:avLst/>
          </a:prstGeom>
          <a:noFill/>
          <a:ln w="0">
            <a:noFill/>
          </a:ln>
        </p:spPr>
        <p:txBody>
          <a:bodyPr lIns="90000" rIns="90000" tIns="46800" bIns="46800" anchor="t">
            <a:normAutofit/>
          </a:bodyPr>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lt; 25 yrs</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behavior: woman or partner</a:t>
            </a:r>
            <a:endParaRPr b="0" lang="en-US" sz="20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one partner in last 3 months</a:t>
            </a:r>
            <a:endParaRPr b="0" lang="en-US" sz="18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partners</a:t>
            </a:r>
            <a:endParaRPr b="0" lang="en-US" sz="18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r casual partner</a:t>
            </a:r>
            <a:endParaRPr b="0" lang="en-US" sz="18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population</a:t>
            </a:r>
            <a:endParaRPr b="0" lang="en-US" sz="20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gee</a:t>
            </a:r>
            <a:endParaRPr b="0" lang="en-US" sz="18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sband in military or long distance truck driver</a:t>
            </a:r>
            <a:endParaRPr b="0" lang="en-US" sz="1800" spc="-1" strike="noStrike">
              <a:solidFill>
                <a:srgbClr val="000000"/>
              </a:solidFill>
              <a:latin typeface="Arial"/>
            </a:endParaRPr>
          </a:p>
        </p:txBody>
      </p:sp>
      <p:sp>
        <p:nvSpPr>
          <p:cNvPr id="152" name="PlaceHolder 3"/>
          <p:cNvSpPr>
            <a:spLocks noGrp="1"/>
          </p:cNvSpPr>
          <p:nvPr>
            <p:ph/>
          </p:nvPr>
        </p:nvSpPr>
        <p:spPr>
          <a:xfrm>
            <a:off x="4928760" y="1980720"/>
            <a:ext cx="3706920" cy="4077000"/>
          </a:xfrm>
          <a:prstGeom prst="rect">
            <a:avLst/>
          </a:prstGeom>
          <a:noFill/>
          <a:ln w="0">
            <a:noFill/>
          </a:ln>
        </p:spPr>
        <p:txBody>
          <a:bodyPr lIns="90000" rIns="90000" tIns="46800" bIns="46800" anchor="t">
            <a:normAutofit/>
          </a:bodyPr>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s: woman or partner</a:t>
            </a:r>
            <a:endParaRPr b="0" lang="en-US" sz="20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t>
            </a:r>
            <a:endParaRPr b="0" lang="en-US" sz="18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s or symptoms</a:t>
            </a:r>
            <a:endParaRPr b="0" lang="en-US" sz="18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substance abuse</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t</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TB</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 worker</a:t>
            </a:r>
            <a:endParaRPr b="0" lang="en-US" sz="20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s or symptoms suggesting HIV</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6B366493-ED04-4341-819C-8CF601FE3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s and Symptoms That May Suggest HIV</a:t>
            </a:r>
            <a:endParaRPr b="1" lang="en-US" sz="2800" spc="-1" strike="noStrike">
              <a:solidFill>
                <a:srgbClr val="000000"/>
              </a:solidFill>
              <a:latin typeface="Arial"/>
            </a:endParaRPr>
          </a:p>
        </p:txBody>
      </p:sp>
      <p:sp>
        <p:nvSpPr>
          <p:cNvPr id="154"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l thrush</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vers of unknown caus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onic diarrhea</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ificant weight los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ized enlarged lymph nod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FA551A3-3CBD-4291-A76E-B7ECCADCC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Conditions That May Suggest HIV</a:t>
            </a:r>
            <a:endParaRPr b="1" lang="en-US" sz="2800" spc="-1" strike="noStrike">
              <a:solidFill>
                <a:srgbClr val="000000"/>
              </a:solidFill>
              <a:latin typeface="Arial"/>
            </a:endParaRPr>
          </a:p>
        </p:txBody>
      </p:sp>
      <p:sp>
        <p:nvSpPr>
          <p:cNvPr id="156"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rculosi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rvical cancer</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ytomegalovirus infection</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yptococcosi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posi Sarcoma</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ital herpes simplex virus infection </a:t>
            </a:r>
            <a:r>
              <a:rPr b="0" lang="en-US" sz="2200" spc="-1" strike="noStrike">
                <a:solidFill>
                  <a:srgbClr val="000000"/>
                </a:solidFill>
                <a:latin typeface="Arial"/>
                <a:ea typeface="Arial"/>
              </a:rPr>
              <a:t>–</a:t>
            </a:r>
            <a:r>
              <a:rPr b="0" lang="en-US" sz="2200" spc="-1" strike="noStrike">
                <a:solidFill>
                  <a:srgbClr val="000000"/>
                </a:solidFill>
                <a:latin typeface="Arial"/>
              </a:rPr>
              <a:t> especially if chronic, severe and/or frequently recurr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E0E98F7-A87B-4774-996A-E547BF6AB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6"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reasons for VCT</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effectiveness of VCT</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uss components of VC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BB8A481-E955-489C-91D6-7B6444C168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ized HIV Risk Assessment</a:t>
            </a:r>
            <a:endParaRPr b="1" lang="en-US" sz="2800" spc="-1" strike="noStrike">
              <a:solidFill>
                <a:srgbClr val="000000"/>
              </a:solidFill>
              <a:latin typeface="Arial"/>
            </a:endParaRPr>
          </a:p>
        </p:txBody>
      </p:sp>
      <p:sp>
        <p:nvSpPr>
          <p:cNvPr id="158"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om us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risk sexual partner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risk sexual situations</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us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us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coercion or assault</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jection drug use practices including sharing of drug equipmen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1A1C3D0-CBB0-43C4-8510-09497DE070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V Testing: Antibody Detection</a:t>
            </a:r>
            <a:endParaRPr b="1" lang="en-US" sz="2800" spc="-1" strike="noStrike">
              <a:solidFill>
                <a:srgbClr val="000000"/>
              </a:solidFill>
              <a:latin typeface="Arial"/>
            </a:endParaRPr>
          </a:p>
        </p:txBody>
      </p:sp>
      <p:sp>
        <p:nvSpPr>
          <p:cNvPr id="160" name="PlaceHolder 2"/>
          <p:cNvSpPr>
            <a:spLocks noGrp="1"/>
          </p:cNvSpPr>
          <p:nvPr>
            <p:ph/>
          </p:nvPr>
        </p:nvSpPr>
        <p:spPr>
          <a:xfrm>
            <a:off x="609480" y="1980720"/>
            <a:ext cx="4648320" cy="4077000"/>
          </a:xfrm>
          <a:prstGeom prst="rect">
            <a:avLst/>
          </a:prstGeom>
          <a:noFill/>
          <a:ln w="0">
            <a:noFill/>
          </a:ln>
        </p:spPr>
        <p:txBody>
          <a:bodyPr lIns="90000" rIns="90000" tIns="46800" bIns="46800" anchor="t">
            <a:normAutofit/>
          </a:bodyPr>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or plasma</a:t>
            </a:r>
            <a:endParaRPr b="0" lang="en-US" sz="20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EIA</a:t>
            </a:r>
            <a:endParaRPr b="0" lang="en-US" sz="18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ory Western Blot</a:t>
            </a:r>
            <a:endParaRPr b="0" lang="en-US" sz="16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specificity &gt; 99.9%</a:t>
            </a:r>
            <a:endParaRPr b="0" lang="en-US" sz="16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tests </a:t>
            </a:r>
            <a:endParaRPr b="0" lang="en-US" sz="18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generally available in 10-15 minutes</a:t>
            </a:r>
            <a:endParaRPr b="0" lang="en-US" sz="16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99.9%, specificity 99.6%</a:t>
            </a:r>
            <a:endParaRPr b="0" lang="en-US" sz="16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inexpensive</a:t>
            </a:r>
            <a:endParaRPr b="0" lang="en-US" sz="1600" spc="-1" strike="noStrike">
              <a:solidFill>
                <a:srgbClr val="000000"/>
              </a:solidFill>
              <a:latin typeface="Arial"/>
            </a:endParaRPr>
          </a:p>
          <a:p>
            <a:pPr lvl="2" marL="1143000" indent="-228600">
              <a:spcBef>
                <a:spcPts val="400"/>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sults need confirmation</a:t>
            </a:r>
            <a:endParaRPr b="0" lang="en-US" sz="1600" spc="-1" strike="noStrike">
              <a:solidFill>
                <a:srgbClr val="000000"/>
              </a:solidFill>
              <a:latin typeface="Arial"/>
            </a:endParaRPr>
          </a:p>
          <a:p>
            <a:pPr marL="343080" indent="-34308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pecimens </a:t>
            </a:r>
            <a:r>
              <a:rPr b="0" lang="en-US" sz="2000" spc="-1" strike="noStrike">
                <a:solidFill>
                  <a:srgbClr val="000000"/>
                </a:solidFill>
                <a:latin typeface="Arial"/>
                <a:ea typeface="Arial"/>
              </a:rPr>
              <a:t>–</a:t>
            </a:r>
            <a:r>
              <a:rPr b="0" lang="en-US" sz="2000" spc="-1" strike="noStrike">
                <a:solidFill>
                  <a:srgbClr val="000000"/>
                </a:solidFill>
                <a:latin typeface="Arial"/>
              </a:rPr>
              <a:t> saliva, urine</a:t>
            </a:r>
            <a:endParaRPr b="0" lang="en-US" sz="2000" spc="-1" strike="noStrike">
              <a:solidFill>
                <a:srgbClr val="000000"/>
              </a:solidFill>
              <a:latin typeface="Arial"/>
            </a:endParaRPr>
          </a:p>
          <a:p>
            <a:pPr lvl="1" marL="743040" indent="-285840">
              <a:spcBef>
                <a:spcPts val="451"/>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results need confirmation</a:t>
            </a:r>
            <a:endParaRPr b="0" lang="en-US" sz="1800" spc="-1" strike="noStrike">
              <a:solidFill>
                <a:srgbClr val="000000"/>
              </a:solidFill>
              <a:latin typeface="Arial"/>
            </a:endParaRPr>
          </a:p>
        </p:txBody>
      </p:sp>
      <p:pic>
        <p:nvPicPr>
          <p:cNvPr id="161" name="VCT-Malawi-4_sm" descr=""/>
          <p:cNvPicPr/>
          <p:nvPr/>
        </p:nvPicPr>
        <p:blipFill>
          <a:blip r:embed="rId1"/>
          <a:stretch/>
        </p:blipFill>
        <p:spPr>
          <a:xfrm>
            <a:off x="5410080" y="2805120"/>
            <a:ext cx="3225960" cy="2427120"/>
          </a:xfrm>
          <a:prstGeom prst="rect">
            <a:avLst/>
          </a:prstGeom>
          <a:ln w="0">
            <a:noFill/>
          </a:ln>
        </p:spPr>
      </p:pic>
      <p:sp>
        <p:nvSpPr>
          <p:cNvPr id="4" name="PlaceHolder 3"/>
          <p:cNvSpPr>
            <a:spLocks noGrp="1"/>
          </p:cNvSpPr>
          <p:nvPr>
            <p:ph type="sldNum" idx="3"/>
          </p:nvPr>
        </p:nvSpPr>
        <p:spPr/>
        <p:txBody>
          <a:bodyPr/>
          <a:p>
            <a:fld id="{63B61160-84F1-46E9-92D8-65ABB4327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V Testing: Viral Detection</a:t>
            </a:r>
            <a:endParaRPr b="1" lang="en-US" sz="2800" spc="-1" strike="noStrike">
              <a:solidFill>
                <a:srgbClr val="000000"/>
              </a:solidFill>
              <a:latin typeface="Arial"/>
            </a:endParaRPr>
          </a:p>
        </p:txBody>
      </p:sp>
      <p:sp>
        <p:nvSpPr>
          <p:cNvPr id="163"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NA-PCR </a:t>
            </a:r>
            <a:r>
              <a:rPr b="0" lang="en-US" sz="2200" spc="-1" strike="noStrike">
                <a:solidFill>
                  <a:srgbClr val="000000"/>
                </a:solidFill>
                <a:latin typeface="Arial"/>
                <a:ea typeface="Arial"/>
              </a:rPr>
              <a:t>– HIV detection in newborns, acute retroviral syndrom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NA-PCR – prediction of progression, therapeutic monitoring</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nsive and labor intensiv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833B0D8-174E-4643-8E14-8D7953206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V Testing: Special Issues</a:t>
            </a:r>
            <a:endParaRPr b="1" lang="en-US" sz="2800" spc="-1" strike="noStrike">
              <a:solidFill>
                <a:srgbClr val="000000"/>
              </a:solidFill>
              <a:latin typeface="Arial"/>
            </a:endParaRPr>
          </a:p>
        </p:txBody>
      </p:sp>
      <p:sp>
        <p:nvSpPr>
          <p:cNvPr id="165"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indow period”</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V-2</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test</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t issue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ounseling nee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CDFEE41-BBCC-4EDD-B4C6-B0B5EDB4D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ing of HIV Test Results</a:t>
            </a:r>
            <a:endParaRPr b="1" lang="en-US" sz="2800" spc="-1" strike="noStrike">
              <a:solidFill>
                <a:srgbClr val="000000"/>
              </a:solidFill>
              <a:latin typeface="Arial"/>
            </a:endParaRPr>
          </a:p>
        </p:txBody>
      </p:sp>
      <p:sp>
        <p:nvSpPr>
          <p:cNvPr id="167"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ve </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considered positive only after both screening and confirmatory tests are positiv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that a person is infected with HIV</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gative</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absence of HIV infection</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onsiderations</a:t>
            </a:r>
            <a:endParaRPr b="0" lang="en-US" sz="2000" spc="-1" strike="noStrike">
              <a:solidFill>
                <a:srgbClr val="000000"/>
              </a:solidFill>
              <a:latin typeface="Arial"/>
            </a:endParaRPr>
          </a:p>
          <a:p>
            <a:pPr lvl="2" marL="1143000" indent="-228600">
              <a:spcBef>
                <a:spcPts val="451"/>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 period</a:t>
            </a:r>
            <a:endParaRPr b="0" lang="en-US" sz="1800" spc="-1" strike="noStrike">
              <a:solidFill>
                <a:srgbClr val="000000"/>
              </a:solidFill>
              <a:latin typeface="Arial"/>
            </a:endParaRPr>
          </a:p>
          <a:p>
            <a:pPr lvl="2" marL="1143000" indent="-228600">
              <a:spcBef>
                <a:spcPts val="451"/>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V-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0E2C1E-0C95-4841-9130-08939744C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ing of HIV Test Results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69"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terminate</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 EIA and indeterminate Western Blot</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present:</a:t>
            </a:r>
            <a:endParaRPr b="0" lang="en-US" sz="2000" spc="-1" strike="noStrike">
              <a:solidFill>
                <a:srgbClr val="000000"/>
              </a:solidFill>
              <a:latin typeface="Arial"/>
            </a:endParaRPr>
          </a:p>
          <a:p>
            <a:pPr lvl="2" marL="1143000" indent="-228600">
              <a:spcBef>
                <a:spcPts val="451"/>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ving HIV antibody response in infected person</a:t>
            </a:r>
            <a:endParaRPr b="0" lang="en-US" sz="1800" spc="-1" strike="noStrike">
              <a:solidFill>
                <a:srgbClr val="000000"/>
              </a:solidFill>
              <a:latin typeface="Arial"/>
            </a:endParaRPr>
          </a:p>
          <a:p>
            <a:pPr lvl="2" marL="1143000" indent="-228600">
              <a:spcBef>
                <a:spcPts val="451"/>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pecific reactions in serum from uninfected person</a:t>
            </a:r>
            <a:endParaRPr b="0" lang="en-US" sz="1800" spc="-1" strike="noStrike">
              <a:solidFill>
                <a:srgbClr val="000000"/>
              </a:solidFill>
              <a:latin typeface="Arial"/>
            </a:endParaRPr>
          </a:p>
          <a:p>
            <a:pPr lvl="2" marL="1143000" indent="-228600">
              <a:spcBef>
                <a:spcPts val="451"/>
              </a:spcBef>
              <a:buClr>
                <a:srgbClr val="ff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 with HIV-2 or different HIV-1 strain</a:t>
            </a:r>
            <a:endParaRPr b="0" lang="en-US" sz="18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indeterminate test results at least 1 month apart do not represent HIV infection (in absence of recent and ongoing risk behavio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6524DA-922B-40E2-AB8C-49CC0F4A4B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H="1">
            <a:off x="2971800" y="4419720"/>
            <a:ext cx="3276720" cy="19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4572000" y="304812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81280" y="3352680"/>
            <a:ext cx="1905120" cy="2210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14400" y="5181480"/>
            <a:ext cx="2666880" cy="1067040"/>
          </a:xfrm>
          <a:prstGeom prst="ellipse">
            <a:avLst/>
          </a:prstGeom>
          <a:solidFill>
            <a:srgbClr val="ffe98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social, &amp;</a:t>
            </a:r>
            <a:br>
              <a:rPr sz="2000"/>
            </a:br>
            <a:r>
              <a:rPr b="1" lang="en-US" sz="2000" spc="-1" strike="noStrike">
                <a:solidFill>
                  <a:srgbClr val="000000"/>
                </a:solidFill>
                <a:latin typeface="Arial"/>
              </a:rPr>
              <a:t>community support</a:t>
            </a:r>
            <a:endParaRPr b="0" lang="en-US" sz="2000" spc="-1" strike="noStrike">
              <a:solidFill>
                <a:srgbClr val="000000"/>
              </a:solidFill>
              <a:latin typeface="Times New Roman"/>
            </a:endParaRPr>
          </a:p>
        </p:txBody>
      </p:sp>
      <p:sp>
        <p:nvSpPr>
          <p:cNvPr id="174" name=""/>
          <p:cNvSpPr/>
          <p:nvPr/>
        </p:nvSpPr>
        <p:spPr>
          <a:xfrm>
            <a:off x="76320" y="6507000"/>
            <a:ext cx="48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UNAIDS Technical Update 2000.</a:t>
            </a:r>
            <a:endParaRPr b="0" lang="en-US" sz="1400" spc="-1" strike="noStrike">
              <a:solidFill>
                <a:srgbClr val="000000"/>
              </a:solidFill>
              <a:latin typeface="Times New Roman"/>
            </a:endParaRPr>
          </a:p>
        </p:txBody>
      </p:sp>
      <p:sp>
        <p:nvSpPr>
          <p:cNvPr id="175" name=""/>
          <p:cNvSpPr/>
          <p:nvPr/>
        </p:nvSpPr>
        <p:spPr>
          <a:xfrm flipV="1">
            <a:off x="3657600" y="3352320"/>
            <a:ext cx="1981080" cy="2210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3517920" y="3500280"/>
            <a:ext cx="2133720" cy="1871640"/>
            <a:chOff x="3517920" y="3500280"/>
            <a:chExt cx="2133720" cy="1871640"/>
          </a:xfrm>
        </p:grpSpPr>
        <p:sp>
          <p:nvSpPr>
            <p:cNvPr id="177" name=""/>
            <p:cNvSpPr/>
            <p:nvPr/>
          </p:nvSpPr>
          <p:spPr>
            <a:xfrm>
              <a:off x="3517920" y="3500280"/>
              <a:ext cx="2133720" cy="1871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2040" y="3571920"/>
              <a:ext cx="1905120" cy="1728720"/>
            </a:xfrm>
            <a:prstGeom prst="ellipse">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CT </a:t>
              </a:r>
              <a:br>
                <a:rPr sz="2000"/>
              </a:br>
              <a:r>
                <a:rPr b="1" lang="en-US" sz="2000" spc="-1" strike="noStrike">
                  <a:solidFill>
                    <a:srgbClr val="000000"/>
                  </a:solidFill>
                  <a:latin typeface="Arial"/>
                </a:rPr>
                <a:t>and its links </a:t>
              </a:r>
              <a:br>
                <a:rPr sz="2000"/>
              </a:br>
              <a:r>
                <a:rPr b="1" lang="en-US" sz="2000" spc="-1" strike="noStrike">
                  <a:solidFill>
                    <a:srgbClr val="000000"/>
                  </a:solidFill>
                  <a:latin typeface="Arial"/>
                </a:rPr>
                <a:t>with other </a:t>
              </a:r>
              <a:br>
                <a:rPr sz="2000"/>
              </a:br>
              <a:r>
                <a:rPr b="1" lang="en-US" sz="2000" spc="-1" strike="noStrike">
                  <a:solidFill>
                    <a:srgbClr val="000000"/>
                  </a:solidFill>
                  <a:latin typeface="Arial"/>
                </a:rPr>
                <a:t>services</a:t>
              </a:r>
              <a:endParaRPr b="0" lang="en-US" sz="2000" spc="-1" strike="noStrike">
                <a:solidFill>
                  <a:srgbClr val="000000"/>
                </a:solidFill>
                <a:latin typeface="Times New Roman"/>
              </a:endParaRPr>
            </a:p>
          </p:txBody>
        </p:sp>
      </p:grpSp>
      <p:sp>
        <p:nvSpPr>
          <p:cNvPr id="179" name=""/>
          <p:cNvSpPr/>
          <p:nvPr/>
        </p:nvSpPr>
        <p:spPr>
          <a:xfrm>
            <a:off x="304920" y="3916440"/>
            <a:ext cx="2590560" cy="1036440"/>
          </a:xfrm>
          <a:prstGeom prst="ellipse">
            <a:avLst/>
          </a:prstGeom>
          <a:solidFill>
            <a:srgbClr val="ff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 for </a:t>
            </a:r>
            <a:br>
              <a:rPr sz="2000"/>
            </a:br>
            <a:r>
              <a:rPr b="1" lang="en-US" sz="2000" spc="-1" strike="noStrike">
                <a:solidFill>
                  <a:srgbClr val="000000"/>
                </a:solidFill>
                <a:latin typeface="Arial"/>
              </a:rPr>
              <a:t>the future</a:t>
            </a:r>
            <a:endParaRPr b="0" lang="en-US" sz="2000" spc="-1" strike="noStrike">
              <a:solidFill>
                <a:srgbClr val="000000"/>
              </a:solidFill>
              <a:latin typeface="Times New Roman"/>
            </a:endParaRPr>
          </a:p>
        </p:txBody>
      </p:sp>
      <p:sp>
        <p:nvSpPr>
          <p:cNvPr id="180" name=""/>
          <p:cNvSpPr/>
          <p:nvPr/>
        </p:nvSpPr>
        <p:spPr>
          <a:xfrm>
            <a:off x="838080" y="2620800"/>
            <a:ext cx="2590920" cy="1036800"/>
          </a:xfrm>
          <a:prstGeom prst="ellipse">
            <a:avLst/>
          </a:prstGeom>
          <a:solidFill>
            <a:srgbClr val="ffe98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of</a:t>
            </a:r>
            <a:br>
              <a:rPr sz="2000"/>
            </a:br>
            <a:r>
              <a:rPr b="1" lang="en-US" sz="2000" spc="-1" strike="noStrike">
                <a:solidFill>
                  <a:srgbClr val="000000"/>
                </a:solidFill>
                <a:latin typeface="Arial"/>
              </a:rPr>
              <a:t>serostatus</a:t>
            </a:r>
            <a:endParaRPr b="0" lang="en-US" sz="2000" spc="-1" strike="noStrike">
              <a:solidFill>
                <a:srgbClr val="000000"/>
              </a:solidFill>
              <a:latin typeface="Times New Roman"/>
            </a:endParaRPr>
          </a:p>
        </p:txBody>
      </p:sp>
      <p:sp>
        <p:nvSpPr>
          <p:cNvPr id="181" name=""/>
          <p:cNvSpPr/>
          <p:nvPr/>
        </p:nvSpPr>
        <p:spPr>
          <a:xfrm>
            <a:off x="3276720" y="1935000"/>
            <a:ext cx="2590560" cy="1036800"/>
          </a:xfrm>
          <a:prstGeom prst="ellipse">
            <a:avLst/>
          </a:prstGeom>
          <a:solidFill>
            <a:srgbClr val="b2d3da">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ion</a:t>
            </a:r>
            <a:endParaRPr b="0" lang="en-US" sz="2000" spc="-1" strike="noStrike">
              <a:solidFill>
                <a:srgbClr val="000000"/>
              </a:solidFill>
              <a:latin typeface="Times New Roman"/>
            </a:endParaRPr>
          </a:p>
        </p:txBody>
      </p:sp>
      <p:sp>
        <p:nvSpPr>
          <p:cNvPr id="182" name=""/>
          <p:cNvSpPr/>
          <p:nvPr/>
        </p:nvSpPr>
        <p:spPr>
          <a:xfrm>
            <a:off x="5715000" y="2620800"/>
            <a:ext cx="2590920" cy="1036800"/>
          </a:xfrm>
          <a:prstGeom prst="ellipse">
            <a:avLst/>
          </a:prstGeom>
          <a:solidFill>
            <a:srgbClr val="ff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 of</a:t>
            </a:r>
            <a:br>
              <a:rPr sz="2000"/>
            </a:br>
            <a:r>
              <a:rPr b="1" lang="en-US" sz="2000" spc="-1" strike="noStrike">
                <a:solidFill>
                  <a:srgbClr val="000000"/>
                </a:solidFill>
                <a:latin typeface="Arial"/>
              </a:rPr>
              <a:t>maternity services</a:t>
            </a:r>
            <a:endParaRPr b="0" lang="en-US" sz="2000" spc="-1" strike="noStrike">
              <a:solidFill>
                <a:srgbClr val="000000"/>
              </a:solidFill>
              <a:latin typeface="Times New Roman"/>
            </a:endParaRPr>
          </a:p>
        </p:txBody>
      </p:sp>
      <p:sp>
        <p:nvSpPr>
          <p:cNvPr id="183" name=""/>
          <p:cNvSpPr/>
          <p:nvPr/>
        </p:nvSpPr>
        <p:spPr>
          <a:xfrm>
            <a:off x="6324480" y="3911760"/>
            <a:ext cx="2590920" cy="1036440"/>
          </a:xfrm>
          <a:prstGeom prst="ellipse">
            <a:avLst/>
          </a:prstGeom>
          <a:solidFill>
            <a:srgbClr val="ffe98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a:t>
            </a:r>
            <a:br>
              <a:rPr sz="2000"/>
            </a:br>
            <a:r>
              <a:rPr b="1" lang="en-US" sz="2000" spc="-1" strike="noStrike">
                <a:solidFill>
                  <a:srgbClr val="000000"/>
                </a:solidFill>
                <a:latin typeface="Arial"/>
              </a:rPr>
              <a:t>healthcare</a:t>
            </a:r>
            <a:endParaRPr b="0" lang="en-US" sz="2000" spc="-1" strike="noStrike">
              <a:solidFill>
                <a:srgbClr val="000000"/>
              </a:solidFill>
              <a:latin typeface="Times New Roman"/>
            </a:endParaRPr>
          </a:p>
        </p:txBody>
      </p:sp>
      <p:sp>
        <p:nvSpPr>
          <p:cNvPr id="184" name=""/>
          <p:cNvSpPr/>
          <p:nvPr/>
        </p:nvSpPr>
        <p:spPr>
          <a:xfrm>
            <a:off x="5562720" y="5181480"/>
            <a:ext cx="2666880" cy="1067040"/>
          </a:xfrm>
          <a:prstGeom prst="ellipse">
            <a:avLst/>
          </a:prstGeom>
          <a:solidFill>
            <a:srgbClr val="ff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o early </a:t>
            </a:r>
            <a:br>
              <a:rPr sz="2000"/>
            </a:br>
            <a:r>
              <a:rPr b="1" lang="en-US" sz="2000" spc="-1" strike="noStrike">
                <a:solidFill>
                  <a:srgbClr val="000000"/>
                </a:solidFill>
                <a:latin typeface="Arial"/>
              </a:rPr>
              <a:t>medical care</a:t>
            </a:r>
            <a:endParaRPr b="0" lang="en-US" sz="2000" spc="-1" strike="noStrike">
              <a:solidFill>
                <a:srgbClr val="000000"/>
              </a:solidFill>
              <a:latin typeface="Times New Roman"/>
            </a:endParaRPr>
          </a:p>
        </p:txBody>
      </p:sp>
      <p:sp>
        <p:nvSpPr>
          <p:cNvPr id="185"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CT as an Entry Point for Prevention and Care</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A7D65740-4403-4AF4-81E8-10094F804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Points to Consider</a:t>
            </a:r>
            <a:endParaRPr b="1" lang="en-US" sz="2800" spc="-1" strike="noStrike">
              <a:solidFill>
                <a:srgbClr val="000000"/>
              </a:solidFill>
              <a:latin typeface="Arial"/>
            </a:endParaRPr>
          </a:p>
        </p:txBody>
      </p:sp>
      <p:sp>
        <p:nvSpPr>
          <p:cNvPr id="187"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higher HIV prevalence settings and in clinics serving clients at increased behavioral risk for HIV, offering testing based on reported risk factors will miss many individuals with HIV</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lower HIV prevalence settings, targeting services to higher risk groups should be a priority</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gative HIV test result does not mean the individual is not at risk for HIV or cannot become HIV-infec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77EB377-5488-4F65-B582-62DC31D5D1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Points to Consider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89"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injection and noninjection) and alcohol abuse increase the risk of sexual transmission of HIV</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ve prevention messages are important because the majority of individuals, even in areas with high prevalence, are not infec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B34EFB2-B1CB-40CE-B7F2-A6E618FFF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iers to VCT</a:t>
            </a:r>
            <a:endParaRPr b="1" lang="en-US" sz="2800" spc="-1" strike="noStrike">
              <a:solidFill>
                <a:srgbClr val="000000"/>
              </a:solidFill>
              <a:latin typeface="Arial"/>
            </a:endParaRPr>
          </a:p>
        </p:txBody>
      </p:sp>
      <p:sp>
        <p:nvSpPr>
          <p:cNvPr id="191"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about confidentiality</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ment</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us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ion</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of positive result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ck of perceived benefit in knowing HIV statu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7CA8A90-C3E4-4E56-A28C-D14896DAE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Provide HIV Counseling and Testing</a:t>
            </a:r>
            <a:endParaRPr b="1" lang="en-US" sz="2800" spc="-1" strike="noStrike">
              <a:solidFill>
                <a:srgbClr val="000000"/>
              </a:solidFill>
              <a:latin typeface="Arial"/>
            </a:endParaRPr>
          </a:p>
        </p:txBody>
      </p:sp>
      <p:sp>
        <p:nvSpPr>
          <p:cNvPr id="98"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 of HIV status can benefit HIV-infected persons</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and prevention of opportunistic infection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of mother-to-child transmission</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risk of transmission to other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in planning for the futur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ntiretroviral therapies as these become availab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AB89E3E-5E05-4410-B10A-6248B2E3C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iers to VCT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93"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ck of perceived risk for HIV</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change sexual behavior</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ifficultie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power in decision-making</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to have children</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ependence on money or goods obtained in exchange for se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E82237-7324-4CFA-9B12-C07E360B1B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95"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CT shown to reduce risky behavior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 of HIV status benefits both HIV-infected and uninfected person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CT should be voluntary and confidential</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CT should include information about HIV and personalized prevention counseling</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rriers to VCT must be acknowledged and confron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65B795C-8931-41FA-B49A-B6CCE4A932B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Provide HIV Counseling and Testing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00"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despread availability and use of VCT can:</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fear, ignorance and stigma surrounding HIV</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community response in support of HIV-infected individual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 to stronger community support for behavior change, such as safer sexual practi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851211-CA68-4420-AFB9-C655499F2D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 of Counseling and Testing</a:t>
            </a:r>
            <a:endParaRPr b="1" lang="en-US" sz="2800" spc="-1" strike="noStrike">
              <a:solidFill>
                <a:srgbClr val="000000"/>
              </a:solidFill>
              <a:latin typeface="Arial"/>
            </a:endParaRPr>
          </a:p>
        </p:txBody>
      </p:sp>
      <p:sp>
        <p:nvSpPr>
          <p:cNvPr id="102"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wanda</a:t>
            </a:r>
            <a:r>
              <a:rPr b="1" lang="en-US" sz="2200" spc="-1" strike="noStrike" baseline="30000">
                <a:solidFill>
                  <a:srgbClr val="000000"/>
                </a:solidFill>
                <a:latin typeface="Arial"/>
              </a:rPr>
              <a:t>1</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T in urban Rwandan women</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GC prevalence from 13% to 6% (p &lt; 0.05)</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 seroconversion rates decreased significantly from 4.1 to 1.8 per 100 person-years (p &lt; 0.04) in women whose partners also received VCT</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cratic Republic of the Congo (formerly Zaire</a:t>
            </a:r>
            <a:r>
              <a:rPr b="0" lang="en-US" sz="2200" spc="-1" strike="noStrike">
                <a:solidFill>
                  <a:srgbClr val="000000"/>
                </a:solidFill>
                <a:latin typeface="Arial"/>
              </a:rPr>
              <a:t>)</a:t>
            </a:r>
            <a:r>
              <a:rPr b="1" lang="en-US" sz="2200" spc="-1" strike="noStrike" baseline="30000">
                <a:solidFill>
                  <a:srgbClr val="000000"/>
                </a:solidFill>
                <a:latin typeface="Arial"/>
              </a:rPr>
              <a:t>2</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T in serodiscordant couples </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consistent condom use from &lt; 5% to &gt; 70%</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rate of HIV seroconversion </a:t>
            </a:r>
            <a:r>
              <a:rPr b="0" lang="en-US" sz="2000" spc="-1" strike="noStrike">
                <a:solidFill>
                  <a:srgbClr val="000000"/>
                </a:solidFill>
                <a:latin typeface="Arial"/>
                <a:ea typeface="Arial"/>
              </a:rPr>
              <a:t>—</a:t>
            </a:r>
            <a:r>
              <a:rPr b="0" lang="en-US" sz="2000" spc="-1" strike="noStrike">
                <a:solidFill>
                  <a:srgbClr val="000000"/>
                </a:solidFill>
                <a:latin typeface="Arial"/>
              </a:rPr>
              <a:t> 3.1 per 100 person-years</a:t>
            </a:r>
            <a:endParaRPr b="0" lang="en-US" sz="2000" spc="-1" strike="noStrike">
              <a:solidFill>
                <a:srgbClr val="000000"/>
              </a:solidFill>
              <a:latin typeface="Arial"/>
            </a:endParaRPr>
          </a:p>
        </p:txBody>
      </p:sp>
      <p:sp>
        <p:nvSpPr>
          <p:cNvPr id="103" name=""/>
          <p:cNvSpPr/>
          <p:nvPr/>
        </p:nvSpPr>
        <p:spPr>
          <a:xfrm>
            <a:off x="76320" y="6507000"/>
            <a:ext cx="71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t>
            </a:r>
            <a:r>
              <a:rPr b="1" lang="en-US" sz="1400" spc="-1" strike="noStrike" baseline="30000">
                <a:solidFill>
                  <a:srgbClr val="000000"/>
                </a:solidFill>
                <a:latin typeface="Arial"/>
              </a:rPr>
              <a:t>1</a:t>
            </a:r>
            <a:r>
              <a:rPr b="1" lang="en-US" sz="1400" spc="-1" strike="noStrike">
                <a:solidFill>
                  <a:srgbClr val="000000"/>
                </a:solidFill>
                <a:latin typeface="Arial"/>
              </a:rPr>
              <a:t>Allen 1992 </a:t>
            </a:r>
            <a:r>
              <a:rPr b="1" lang="en-US" sz="1400" spc="-1" strike="noStrike" baseline="30000">
                <a:solidFill>
                  <a:srgbClr val="000000"/>
                </a:solidFill>
                <a:latin typeface="Arial"/>
              </a:rPr>
              <a:t>2</a:t>
            </a:r>
            <a:r>
              <a:rPr b="1" lang="en-US" sz="1400" spc="-1" strike="noStrike">
                <a:solidFill>
                  <a:srgbClr val="000000"/>
                </a:solidFill>
                <a:latin typeface="Arial"/>
              </a:rPr>
              <a:t>Kamenga 1991.</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6035FD-0D79-4EAA-8E97-7FD514A2B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 of Counseling and Testing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05"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a</a:t>
            </a:r>
            <a:r>
              <a:rPr b="1" lang="en-US" sz="2200" spc="-1" strike="noStrike" baseline="30000">
                <a:solidFill>
                  <a:srgbClr val="000000"/>
                </a:solidFill>
                <a:latin typeface="Arial"/>
              </a:rPr>
              <a:t>1</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T heterosexual men attending STI clinics</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 sero-incidence at baseline estimated at 18% per year</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VCT HIV seroconversion rate 6.1 per 100 person-years and reduction in sexual risk behavior</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iland</a:t>
            </a:r>
            <a:r>
              <a:rPr b="1" lang="en-US" sz="2200" spc="-1" strike="noStrike" baseline="30000">
                <a:solidFill>
                  <a:srgbClr val="000000"/>
                </a:solidFill>
                <a:latin typeface="Arial"/>
              </a:rPr>
              <a:t>2</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positive individuals reported fewer sex partners and more consistent condom use after VCT than HIV-positive persons who did not know their status</a:t>
            </a:r>
            <a:endParaRPr b="0" lang="en-US" sz="2000" spc="-1" strike="noStrike">
              <a:solidFill>
                <a:srgbClr val="000000"/>
              </a:solidFill>
              <a:latin typeface="Arial"/>
            </a:endParaRPr>
          </a:p>
        </p:txBody>
      </p:sp>
      <p:sp>
        <p:nvSpPr>
          <p:cNvPr id="106" name=""/>
          <p:cNvSpPr/>
          <p:nvPr/>
        </p:nvSpPr>
        <p:spPr>
          <a:xfrm>
            <a:off x="76320" y="6507000"/>
            <a:ext cx="71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t>
            </a:r>
            <a:r>
              <a:rPr b="1" lang="en-US" sz="1400" spc="-1" strike="noStrike" baseline="30000">
                <a:solidFill>
                  <a:srgbClr val="000000"/>
                </a:solidFill>
                <a:latin typeface="Arial"/>
              </a:rPr>
              <a:t>1</a:t>
            </a:r>
            <a:r>
              <a:rPr b="1" lang="en-US" sz="1400" spc="-1" strike="noStrike">
                <a:solidFill>
                  <a:srgbClr val="000000"/>
                </a:solidFill>
                <a:latin typeface="Arial"/>
              </a:rPr>
              <a:t>Bentley 1998 </a:t>
            </a:r>
            <a:r>
              <a:rPr b="1" lang="en-US" sz="1400" spc="-1" strike="noStrike" baseline="30000">
                <a:solidFill>
                  <a:srgbClr val="000000"/>
                </a:solidFill>
                <a:latin typeface="Arial"/>
              </a:rPr>
              <a:t>2</a:t>
            </a:r>
            <a:r>
              <a:rPr b="1" lang="en-US" sz="1400" spc="-1" strike="noStrike">
                <a:solidFill>
                  <a:srgbClr val="000000"/>
                </a:solidFill>
                <a:latin typeface="Arial"/>
              </a:rPr>
              <a:t>Muller199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7BD70D-9696-48C8-953F-76C78D964B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 of Counseling and Testing </a:t>
            </a: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08"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nya, Tanzania, Trinidad</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ed clinical trial of VCT versus health education alone</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risk behavior significantly reduced in VCT group compared to health education only</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positive individuals more likely to show significant changes in behavior</a:t>
            </a:r>
            <a:endParaRPr b="0" lang="en-US" sz="2000" spc="-1" strike="noStrike">
              <a:solidFill>
                <a:srgbClr val="000000"/>
              </a:solidFill>
              <a:latin typeface="Arial"/>
            </a:endParaRPr>
          </a:p>
        </p:txBody>
      </p:sp>
      <p:sp>
        <p:nvSpPr>
          <p:cNvPr id="109" name=""/>
          <p:cNvSpPr/>
          <p:nvPr/>
        </p:nvSpPr>
        <p:spPr>
          <a:xfrm>
            <a:off x="76320" y="6507000"/>
            <a:ext cx="71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Lance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219E26-0484-4AAC-AEFF-B28A75B49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Effectiveness of VCT</a:t>
            </a:r>
            <a:endParaRPr b="1" lang="en-US" sz="2800" spc="-1" strike="noStrike">
              <a:solidFill>
                <a:srgbClr val="000000"/>
              </a:solidFill>
              <a:latin typeface="Arial"/>
            </a:endParaRPr>
          </a:p>
        </p:txBody>
      </p:sp>
      <p:sp>
        <p:nvSpPr>
          <p:cNvPr id="111" name="PlaceHolder 2"/>
          <p:cNvSpPr>
            <a:spLocks noGrp="1"/>
          </p:cNvSpPr>
          <p:nvPr>
            <p:ph/>
          </p:nvPr>
        </p:nvSpPr>
        <p:spPr>
          <a:xfrm>
            <a:off x="1066680" y="1980720"/>
            <a:ext cx="7848720" cy="4077000"/>
          </a:xfrm>
          <a:prstGeom prst="rect">
            <a:avLst/>
          </a:prstGeom>
          <a:noFill/>
          <a:ln w="0">
            <a:noFill/>
          </a:ln>
        </p:spPr>
        <p:txBody>
          <a:bodyPr lIns="90000" rIns="90000" tIns="46800" bIns="46800" anchor="t">
            <a:normAutofit/>
          </a:bodyPr>
          <a:p>
            <a:pPr marL="343080" indent="-343080">
              <a:lnSpc>
                <a:spcPct val="90000"/>
              </a:lnSpc>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per disability-adjusted-life-year (DALY) saved</a:t>
            </a:r>
            <a:r>
              <a:rPr b="0" lang="en-US" sz="2200" spc="-1" strike="noStrike" baseline="30000">
                <a:solidFill>
                  <a:srgbClr val="000000"/>
                </a:solidFill>
                <a:latin typeface="Arial"/>
              </a:rPr>
              <a:t>1</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in Kenya</a:t>
            </a:r>
            <a:endParaRPr b="0" lang="en-US" sz="20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in Tanzania</a:t>
            </a:r>
            <a:endParaRPr b="0" lang="en-US" sz="2000" spc="-1" strike="noStrike">
              <a:solidFill>
                <a:srgbClr val="000000"/>
              </a:solidFill>
              <a:latin typeface="Arial"/>
            </a:endParaRPr>
          </a:p>
          <a:p>
            <a:pPr marL="343080" indent="-343080">
              <a:lnSpc>
                <a:spcPct val="90000"/>
              </a:lnSpc>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ison to other health interventions (per DALY saved)</a:t>
            </a:r>
            <a:endParaRPr b="0" lang="en-US" sz="22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sick child </a:t>
            </a:r>
            <a:r>
              <a:rPr b="0" lang="en-US" sz="2000" spc="-1" strike="noStrike">
                <a:solidFill>
                  <a:srgbClr val="000000"/>
                </a:solidFill>
                <a:latin typeface="Arial"/>
                <a:ea typeface="Arial"/>
              </a:rPr>
              <a:t>—</a:t>
            </a:r>
            <a:r>
              <a:rPr b="0" lang="en-US" sz="2000" spc="-1" strike="noStrike">
                <a:solidFill>
                  <a:srgbClr val="000000"/>
                </a:solidFill>
                <a:latin typeface="Arial"/>
              </a:rPr>
              <a:t> $30</a:t>
            </a:r>
            <a:r>
              <a:rPr b="0" lang="en-US" sz="2000" spc="-1" strike="noStrike">
                <a:solidFill>
                  <a:srgbClr val="000000"/>
                </a:solidFill>
                <a:latin typeface="Arial"/>
                <a:ea typeface="Arial"/>
              </a:rPr>
              <a:t>–</a:t>
            </a:r>
            <a:r>
              <a:rPr b="0" lang="en-US" sz="2000" spc="-1" strike="noStrike">
                <a:solidFill>
                  <a:srgbClr val="000000"/>
                </a:solidFill>
                <a:latin typeface="Arial"/>
              </a:rPr>
              <a:t>50</a:t>
            </a:r>
            <a:endParaRPr b="0" lang="en-US" sz="20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les immunization </a:t>
            </a:r>
            <a:r>
              <a:rPr b="0" lang="en-US" sz="2000" spc="-1" strike="noStrike">
                <a:solidFill>
                  <a:srgbClr val="000000"/>
                </a:solidFill>
                <a:latin typeface="Arial"/>
                <a:ea typeface="Arial"/>
              </a:rPr>
              <a:t>—</a:t>
            </a:r>
            <a:r>
              <a:rPr b="0" lang="en-US" sz="2000" spc="-1" strike="noStrike">
                <a:solidFill>
                  <a:srgbClr val="000000"/>
                </a:solidFill>
                <a:latin typeface="Arial"/>
              </a:rPr>
              <a:t> $12</a:t>
            </a:r>
            <a:r>
              <a:rPr b="0" lang="en-US" sz="2000" spc="-1" strike="noStrike">
                <a:solidFill>
                  <a:srgbClr val="000000"/>
                </a:solidFill>
                <a:latin typeface="Arial"/>
                <a:ea typeface="Arial"/>
              </a:rPr>
              <a:t>–</a:t>
            </a:r>
            <a:r>
              <a:rPr b="0" lang="en-US" sz="2000" spc="-1" strike="noStrike">
                <a:solidFill>
                  <a:srgbClr val="000000"/>
                </a:solidFill>
                <a:latin typeface="Arial"/>
              </a:rPr>
              <a:t>17</a:t>
            </a:r>
            <a:endParaRPr b="0" lang="en-US" sz="20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o, diphtheria, pertussis, tetanus immunization </a:t>
            </a:r>
            <a:r>
              <a:rPr b="0" lang="en-US" sz="2000" spc="-1" strike="noStrike">
                <a:solidFill>
                  <a:srgbClr val="000000"/>
                </a:solidFill>
                <a:latin typeface="Arial"/>
                <a:ea typeface="Arial"/>
              </a:rPr>
              <a:t>—</a:t>
            </a:r>
            <a:r>
              <a:rPr b="0" lang="en-US" sz="2000" spc="-1" strike="noStrike">
                <a:solidFill>
                  <a:srgbClr val="000000"/>
                </a:solidFill>
                <a:latin typeface="Arial"/>
              </a:rPr>
              <a:t> $20</a:t>
            </a:r>
            <a:r>
              <a:rPr b="0" lang="en-US" sz="2000" spc="-1" strike="noStrike">
                <a:solidFill>
                  <a:srgbClr val="000000"/>
                </a:solidFill>
                <a:latin typeface="Arial"/>
                <a:ea typeface="Arial"/>
              </a:rPr>
              <a:t>–</a:t>
            </a:r>
            <a:r>
              <a:rPr b="0" lang="en-US" sz="2000" spc="-1" strike="noStrike">
                <a:solidFill>
                  <a:srgbClr val="000000"/>
                </a:solidFill>
                <a:latin typeface="Arial"/>
              </a:rPr>
              <a:t>40</a:t>
            </a:r>
            <a:endParaRPr b="0" lang="en-US" sz="2000" spc="-1" strike="noStrike">
              <a:solidFill>
                <a:srgbClr val="000000"/>
              </a:solidFill>
              <a:latin typeface="Arial"/>
            </a:endParaRPr>
          </a:p>
          <a:p>
            <a:pPr lvl="1" marL="743040" indent="-285840">
              <a:lnSpc>
                <a:spcPct val="90000"/>
              </a:lnSpc>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of acute respiratory infection </a:t>
            </a:r>
            <a:r>
              <a:rPr b="0" lang="en-US" sz="2000" spc="-1" strike="noStrike">
                <a:solidFill>
                  <a:srgbClr val="000000"/>
                </a:solidFill>
                <a:latin typeface="Arial"/>
                <a:ea typeface="Arial"/>
              </a:rPr>
              <a:t>— </a:t>
            </a:r>
            <a:r>
              <a:rPr b="0" lang="en-US" sz="2000" spc="-1" strike="noStrike">
                <a:solidFill>
                  <a:srgbClr val="000000"/>
                </a:solidFill>
                <a:latin typeface="Arial"/>
              </a:rPr>
              <a:t>$12</a:t>
            </a:r>
            <a:r>
              <a:rPr b="0" lang="en-US" sz="2000" spc="-1" strike="noStrike">
                <a:solidFill>
                  <a:srgbClr val="000000"/>
                </a:solidFill>
                <a:latin typeface="Arial"/>
                <a:ea typeface="Arial"/>
              </a:rPr>
              <a:t>–</a:t>
            </a:r>
            <a:r>
              <a:rPr b="0" lang="en-US" sz="2000" spc="-1" strike="noStrike">
                <a:solidFill>
                  <a:srgbClr val="000000"/>
                </a:solidFill>
                <a:latin typeface="Arial"/>
              </a:rPr>
              <a:t>50</a:t>
            </a:r>
            <a:endParaRPr b="0" lang="en-US" sz="2000" spc="-1" strike="noStrike">
              <a:solidFill>
                <a:srgbClr val="000000"/>
              </a:solidFill>
              <a:latin typeface="Arial"/>
            </a:endParaRPr>
          </a:p>
          <a:p>
            <a:pPr marL="343080" indent="-343080">
              <a:lnSpc>
                <a:spcPct val="90000"/>
              </a:lnSpc>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ld Bank recommends interventions costing up to $50 per DALY saved.</a:t>
            </a:r>
            <a:endParaRPr b="0" lang="en-US" sz="2200" spc="-1" strike="noStrike">
              <a:solidFill>
                <a:srgbClr val="000000"/>
              </a:solidFill>
              <a:latin typeface="Arial"/>
            </a:endParaRPr>
          </a:p>
        </p:txBody>
      </p:sp>
      <p:sp>
        <p:nvSpPr>
          <p:cNvPr id="112" name=""/>
          <p:cNvSpPr/>
          <p:nvPr/>
        </p:nvSpPr>
        <p:spPr>
          <a:xfrm>
            <a:off x="76320" y="6507000"/>
            <a:ext cx="71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Arial"/>
              </a:rPr>
              <a:t>1 </a:t>
            </a:r>
            <a:r>
              <a:rPr b="1" lang="en-US" sz="1400" spc="-1" strike="noStrike">
                <a:solidFill>
                  <a:srgbClr val="000000"/>
                </a:solidFill>
                <a:latin typeface="Arial"/>
              </a:rPr>
              <a:t>Costs cited are in US dollars.</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36A61A-4F36-4121-B774-D565D36395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6959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That Increase Effectiveness of VCT Programs</a:t>
            </a:r>
            <a:endParaRPr b="1" lang="en-US" sz="2800" spc="-1" strike="noStrike">
              <a:solidFill>
                <a:srgbClr val="000000"/>
              </a:solidFill>
              <a:latin typeface="Arial"/>
            </a:endParaRPr>
          </a:p>
        </p:txBody>
      </p:sp>
      <p:sp>
        <p:nvSpPr>
          <p:cNvPr id="114" name="PlaceHolder 2"/>
          <p:cNvSpPr>
            <a:spLocks noGrp="1"/>
          </p:cNvSpPr>
          <p:nvPr>
            <p:ph/>
          </p:nvPr>
        </p:nvSpPr>
        <p:spPr>
          <a:xfrm>
            <a:off x="1066680" y="1980720"/>
            <a:ext cx="7569360" cy="4077000"/>
          </a:xfrm>
          <a:prstGeom prst="rect">
            <a:avLst/>
          </a:prstGeom>
          <a:noFill/>
          <a:ln w="0">
            <a:noFill/>
          </a:ln>
        </p:spPr>
        <p:txBody>
          <a:bodyPr lIns="90000" rIns="90000" tIns="46800" bIns="46800" anchor="t">
            <a:normAutofit/>
          </a:bodyPr>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judgmental and supportive attitude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ve counseling</a:t>
            </a:r>
            <a:endParaRPr b="0" lang="en-US" sz="22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 contact</a:t>
            </a:r>
            <a:endParaRPr b="0" lang="en-US" sz="2000" spc="-1" strike="noStrike">
              <a:solidFill>
                <a:srgbClr val="000000"/>
              </a:solidFill>
              <a:latin typeface="Arial"/>
            </a:endParaRPr>
          </a:p>
          <a:p>
            <a:pPr lvl="1" marL="743040" indent="-285840">
              <a:spcBef>
                <a:spcPts val="499"/>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ended questions</a:t>
            </a:r>
            <a:endParaRPr b="0" lang="en-US" sz="20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language which is easily understood and non-offensive</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individual personal risk behaviors</a:t>
            </a:r>
            <a:endParaRPr b="0" lang="en-US" sz="2200" spc="-1" strike="noStrike">
              <a:solidFill>
                <a:srgbClr val="000000"/>
              </a:solidFill>
              <a:latin typeface="Arial"/>
            </a:endParaRPr>
          </a:p>
          <a:p>
            <a:pPr marL="343080" indent="-343080">
              <a:spcBef>
                <a:spcPts val="550"/>
              </a:spcBef>
              <a:buClr>
                <a:srgbClr val="ff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ple involvement in counseling and test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8FAA641-4E1F-428F-B2E8-CE37A2937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16:43:56Z</dcterms:created>
  <dc:creator>Natalie Maier</dc:creator>
  <dc:description/>
  <dc:language>en-US</dc:language>
  <cp:lastModifiedBy>Maryline</cp:lastModifiedBy>
  <dcterms:modified xsi:type="dcterms:W3CDTF">2003-04-23T10:00:11Z</dcterms:modified>
  <cp:revision>186</cp:revision>
  <dc:subject/>
  <dc:title>Care of the Woman with HIV Inf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repro@jhpiego.org</vt:lpwstr>
  </property>
  <property fmtid="{D5CDD505-2E9C-101B-9397-08002B2CF9AE}" pid="11" name="NavBtnPos">
    <vt:r8>1</vt:r8>
  </property>
  <property fmtid="{D5CDD505-2E9C-101B-9397-08002B2CF9AE}" pid="12" name="Other">
    <vt:lpwstr/>
  </property>
  <property fmtid="{D5CDD505-2E9C-101B-9397-08002B2CF9AE}" pid="13" name="OutputDir">
    <vt:lpwstr>J:\common\LPS\inet\hrsa\hrsa_overview_800x600_half</vt:lpwstr>
  </property>
  <property fmtid="{D5CDD505-2E9C-101B-9397-08002B2CF9AE}" pid="14" name="ScreenSize">
    <vt:r8>2</vt:r8>
  </property>
  <property fmtid="{D5CDD505-2E9C-101B-9397-08002B2CF9AE}" pid="15" name="ScreenUsage">
    <vt:r8>3</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