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8C3-B7D4-4DC7-A5E6-A13E4899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A3E-5D6E-40EF-9474-C9D5D076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C69-0051-494E-8B51-15FBED2E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91A-01A3-4A88-A4F9-BBDDFDBD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0925-A62F-495E-85AB-7A63D7B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06D8-B2C6-4C6E-8258-0646B2F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4AEA-F742-4C40-ADAD-66E9CDC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345F-4EEB-4385-8D47-3CA4016E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D633-2E4E-4F29-BCF9-C77D246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0B56-2264-47D1-814E-7D3D7E55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935-EF7C-4962-9F24-C374DDB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855-915C-4503-9F94-FF97E532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24BD-9FC7-4051-A35D-87F51F1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A893-0EA2-4BC6-A487-8132F95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D839-55D1-4EEB-9C59-170270C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0EB4-EEE6-47E0-842D-D30F6A5E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A002-94FF-472D-9820-B2B18F8E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074-ED3C-47EA-81F6-D6D577B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090-4869-48CD-8A27-77328B4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9CB-9F43-47FB-A8A0-4DF0670E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F0E-0E5A-453A-B22A-622AE987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829-399E-428A-B0D0-DF2FC21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BFF-2011-4DF6-8799-3B33238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A34-5F9D-41E4-984A-39AAC1F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F9F3-4088-4FCF-A203-917D915EB1C4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4937-A373-47F0-9576-81E54A56AD1E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81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Monitoring électronique de l’adhésion </a:t>
            </a:r>
            <a:br>
              <a:rPr sz="2800"/>
            </a:b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à un traitement VIH par antirétroviral </a:t>
            </a:r>
            <a:br>
              <a:rPr sz="2800"/>
            </a:b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dispensé dans une pharmacie de vill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77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Arial"/>
              </a:rPr>
              <a:t>Pharm ’aids - Comment Dire - Décembre 1999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895480"/>
            <a:ext cx="43434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(Pharm’aids)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résentation de l’étude et des résulta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(Comment Dire)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onnées issues des entretiens avec les patients &amp; Recommandations pour le suivi des patients en traitem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6095880"/>
            <a:ext cx="716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4th International Conference on Home and Community Care for Persons living with HIV/AIDS - Paris, France, December 5-8, 1999 (December 7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5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iluli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2362320"/>
          <a:ext cx="39211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9211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920" y="23619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3366"/>
                </a:solidFill>
                <a:uFillTx/>
                <a:latin typeface="Arial"/>
              </a:rPr>
              <a:t>Sur les 5168 jours monitoré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Le nombre de jours où la fréquence des prises est correcte est de </a:t>
            </a:r>
            <a:br>
              <a:rPr sz="2400"/>
            </a:b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87.93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6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iluli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286000"/>
          <a:ext cx="7778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778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7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iluli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2362320"/>
          <a:ext cx="79995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9995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8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 les principales causes d’oubl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s causes les plus fréquemment cité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oubli si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changement de rou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endormiss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respect des conseils de prise liés à l’alim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bservance excellente: &gt; 96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Quand une erreur est commise sur un médicament (oubli ou modification des horaires), cette erreur est reportée sur les prises simultané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xcellente acceptabilité du suivi en ville avec les piluliers électro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« Nouvelle génération » de patients V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jets jeu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ie sociale ri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aitement lourd sans se sentir mal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lace prépondérante du pharmac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52578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Arial"/>
              </a:rPr>
              <a:t>Suivi de l’observance 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Arial"/>
              </a:rPr>
              <a:t>en pharmacie de vi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Arial"/>
              </a:rPr>
              <a:t>Données issues des entretiens condui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Arial"/>
              </a:rPr>
              <a:t>par COMMENT DI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ETHODOLO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nduite d’un entretien semi-directif d’une heure environ à J60 auprès de 32 personnes (29 hommes et 3 femmes) recevant un traitement antirétroviral délivré par la Pharmacie du Vill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personnes conduisant les entretiens n’ont jamais eu accès aux données issues des piluli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OBJECTIFS DES ENTRETIE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Explorer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attentes face aux traitements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motivations au suivi de traitement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modalités d’organisation de la prise des médicaments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effets indésirables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ressources en termes d ’information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soutien psychosocial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rojets de la person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1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attentes face aux trait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Elles sont par ordre décroissant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maintien dans un état de san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réduction des contraintes liées au trait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iminution du nombre de pri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efficacité des trai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allongement de la durée de v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A PHARMACIE DU VILLAGE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une pharmacie communautai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harmacie centrée sur une approche globale du patient considéré comme un partenaire acteur principal de la relation de so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ise en place d’une consultation pharmaceutiqu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e file active de près de 200 pati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2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raisons motivant le suivi du traitement</a:t>
            </a: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obtention de résultats biologiques tang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connaissance des risques liés au non suivi de la pr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espoir ou la confiance dans l’avenir, la science, la v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3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situations de non observance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lles sont souvent </a:t>
            </a: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multi-référentiell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ubl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’endorm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sorties le soir et pendant le week-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e pas être chez soi et ne pas avoir avoir les médicaments sur so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tre occupé à autre ch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/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3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situations de non observance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roduction de changements dans les routines ou les habitu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survenue d’un événement inattendu, d’un imprév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e pas pouvoir prendre un médicament en situation profession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existence d’un effet seconda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e pas vouloir ou pouvoir prendre un médt en présence de la famille ou d’am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e pas se sentir b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4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impact psychologique de la non observ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Avoir omis de prendre une prise provoque 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motions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et des </a:t>
            </a: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entiments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com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ner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certain mala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sentiment d’impuiss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e inquié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 la culpabil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5:</a:t>
            </a:r>
            <a:br>
              <a:rPr sz="3200"/>
            </a:br>
            <a:r>
              <a:rPr b="1" lang="fr-FR" sz="3000" spc="-1" strike="noStrike">
                <a:solidFill>
                  <a:srgbClr val="006666"/>
                </a:solidFill>
                <a:latin typeface="Arial"/>
              </a:rPr>
              <a:t>impact des facteurs sociaux sur l’observance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non révélation possible de sa séropositivité est un obstacle objectif à l’observ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non acceptabilité sociale de la séropositiv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famille est plus souvent un obstacle à l’observ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voir une relation privilégiée ou vivre en couple est facteur de sout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6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 les effets secondaires</a:t>
            </a: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s deux effets secondaires les plus cités sont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iarrhée avec douleurs intesti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omiss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vomissement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onstituent </a:t>
            </a:r>
            <a:r>
              <a:rPr b="1" i="1" lang="fr-FR" sz="2400" spc="-1" strike="noStrike">
                <a:solidFill>
                  <a:srgbClr val="003366"/>
                </a:solidFill>
                <a:latin typeface="Arial"/>
              </a:rPr>
              <a:t>un facteur de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3366"/>
                </a:solidFill>
                <a:latin typeface="Arial"/>
              </a:rPr>
              <a:t>non observance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immédi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6: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 les effets secondaires</a:t>
            </a: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s autres effets secondaires cités so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roblème de pe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tigue (associée avec une baisse de la libi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uchant à la qualité de vie (ballonnements, flatulences,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oubles métaboliq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ouleurs (intestinales, musculaires, migraine,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COMMANDATIONS</a:t>
            </a: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 (1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Préparer…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Informer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Accompagner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OURQUOI PREPARER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Parce que 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endre un traitement anti-VIH est une tâche complexe nécessitant une préparation et une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aide sur l’organisation et l’apprentissage des pr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utilisation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d’outils d’observance est un facilitat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hangements de traitement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nécessitent également une préparation car ils sont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ause d’inquiétude, d’angoisse et de p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OURQUOI INFORMER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Parce qu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information régulière des patients sur les effets de leurs traitements est un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facteur de motivation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au suivi du trait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’absence d’info. ou de conseil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personnalisés</a:t>
            </a:r>
            <a:br>
              <a:rPr sz="2400"/>
            </a:b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hangements dans la pr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ressources comme les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journaux communautair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jouent un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rôle important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d’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44956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une prise en charge personnalisé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60% des patients sont passés en consultation pharmaceu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dossier de suivi pour chaque pat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ise à disposition de piluliers éducatifs pour l’apprentissage des trai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évaluation du retour pat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OURQUOI ACCOMPAGNER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Parce qu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Il existe un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besoin d’accompagnement</a:t>
            </a: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 chez les personnes en traite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Il est important de travailler sur le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vécu de la non observanc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Comment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Les programmes d’aide à l’observance doivent comprendre des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séquences d’apprentissage et d’aide à l’organis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Cet accompagnement nécessite le développement d’interventions ciblées sur les </a:t>
            </a: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dimensions médicales, psychologiques et sociales de l’observanc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OBJECTIFS DE L’ETU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ivi de l’observance d’un traitement antirétroviral au sein d’une pharmacie de vi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valuation de l’acceptabilité par les patients d’un tel sui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ETHODOLO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tients VIH traités par trithérapie (dont  1 IP), suivi à la Pharmacie du Vill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Questionnaire psychoso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pilulier électronique par type de médicament rempli par le pharmac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Visites régulières de suivis tous les 10 j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urée de l’étude: 2 mo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entretien psychologique en fin d’é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1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ati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39 patients inclus dans l ’é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ge moyen 34 +/- 6 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36 hommes homosexu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3 femmes (2 avaient des enfa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77% sont salari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46% vivent en cou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2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ati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éropositivité connue: 73 +/- 48 mo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raitement: 4 à 54 mo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23% des patients ont déjà été hospitalisés pour une maladie opportuni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médecin: l’interlocuteur san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entourage ou ami: l’interlocuteur personn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6 arrêts d’étud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3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trait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incipales combinaisons antirétrovira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Zerit / Epivir / Crixivan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3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étrovir / Epivir / Crixivan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7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Zerit / Videx / Viracept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 pati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Zerit / Videx / Crixivan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2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étrovir / Epivir / Inviras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2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Zerit / Epivir / Inviras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2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pivir / Videx / Crixivan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 pati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Zerit / Videx / Inviras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 patient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RESULTATS 4: </a:t>
            </a:r>
            <a:br>
              <a:rPr sz="32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les piluli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2209680"/>
          <a:ext cx="386388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386388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4280" y="2361960"/>
            <a:ext cx="4191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3366"/>
                </a:solidFill>
                <a:uFillTx/>
                <a:latin typeface="Arial"/>
              </a:rPr>
              <a:t>Sur les 5168 jours monitoré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Le nombre de jours où le nombre total d’ouvertu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est correcte est 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ff9900"/>
                </a:solidFill>
                <a:latin typeface="Arial"/>
              </a:rPr>
              <a:t>96.7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28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rial"/>
              </a:rPr>
              <a:t>PARTI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2:23:02Z</dcterms:created>
  <dc:creator>Pharm'aids et Comment Dire</dc:creator>
  <dc:description/>
  <dc:language>en-US</dc:language>
  <cp:lastModifiedBy>Maryline</cp:lastModifiedBy>
  <cp:lastPrinted>1999-12-06T16:30:33Z</cp:lastPrinted>
  <dcterms:modified xsi:type="dcterms:W3CDTF">2004-03-06T10:27:07Z</dcterms:modified>
  <cp:revision>40</cp:revision>
  <dc:subject>Rapport d'étude</dc:subject>
  <dc:title>Suivi de l ’observance  en pharmacie de ville</dc:title>
</cp:coreProperties>
</file>