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429-2ACA-4D59-87DF-7B63BD82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90B-8263-4E5C-8811-696604C6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F7E-DA53-497B-8C58-0AC4F822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983-54DE-49F3-B5F9-29FD0B43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AE72-DEBE-435E-BFE4-709262F4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EFEA-C91B-4C37-90B0-D94D87F0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847F-E832-437B-AEDA-AE30CC9F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4C36-90DE-4545-BB98-C2CD0EEE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87BF-65DC-4667-8F6A-8ABF49A9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6ECE-FCC9-4580-85FE-F6EEC9CF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72DF-458E-4135-AE1F-D7CD1555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F74-6A8C-4A7C-83F6-C10DED23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56DE-3DA3-4B8C-A405-CE39F16B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29AB-300F-4163-A7C2-E31E6942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A632-9579-4B50-9B1E-BC46E27B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DBCE-A5BD-41A0-A183-7AFF19D0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A56E-7FDE-40C6-97AB-A0561F44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6C5-62F5-4479-A346-88784AD0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BB2-C18C-46EA-A906-4C4774DA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93D-533F-491E-A9C9-4880E365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FD2-395C-4948-B9EF-0A3A92F8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108-5F7D-4926-81D6-B721EE8D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C02-7AA0-4C08-8DDA-EAF88D16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D95-E74B-412B-A824-84CA378A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EEDD-E2E2-431E-A846-252FA988DFD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A65A-846C-46A9-9BEC-5FF28F63BD5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057400" y="3733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Catherine Tourette-Turg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aître de Conférences des Université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hercheure Affiliée, Université de Miami, 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-fondatrice de COMMENT D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Toulon, 14 juin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219320"/>
            <a:ext cx="7696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PROGRAMMES D’INTERVENTION SUR L’OBSERVANCE THERAPEUTIQUE DES TRAITEMENTS ANTIRETROVIRAUX :</a:t>
            </a:r>
            <a:br>
              <a:rPr sz="2400"/>
            </a:br>
            <a:r>
              <a:rPr b="0" i="1" lang="fr-FR" sz="2400" spc="-1" strike="noStrike">
                <a:solidFill>
                  <a:srgbClr val="ffff00"/>
                </a:solidFill>
                <a:latin typeface="Times New Roman"/>
              </a:rPr>
              <a:t>Exemples d’interventions centrées sur le patient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RVH Guadeloupe (suite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Type d’intervention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Visite à domicile matin et soir pendant 15 jours et 3 fois par semaine pendant 10 semai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Support d’intervention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Cahier infirmier (guide d’entretiens et questionnaire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Formation des acteur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Initiale et contin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Suiv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Réunion de coordin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Evaluation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Par un organisme extérieur (ODESSA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99ff99"/>
                </a:solidFill>
                <a:uFillTx/>
                <a:latin typeface="Times New Roman"/>
              </a:rPr>
              <a:t>Financement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Sécurité Sociale* (convention de 3 ans renouvelable annuellement), DDASS, Prix de l ’industrie pharmaceutiqu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*Honoraires des infirmières : 50 F par visite à domicile et 100 F par réunion de coordin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BDB-27CC-47EF-AB17-0B13019ECA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HU de CASABLANCA (Maroc) : </a:t>
            </a:r>
            <a:br>
              <a:rPr sz="2400"/>
            </a:br>
            <a:r>
              <a:rPr b="1" i="1" lang="fr-FR" sz="2400" spc="-1" strike="noStrike">
                <a:solidFill>
                  <a:srgbClr val="ffff00"/>
                </a:solidFill>
                <a:latin typeface="Times New Roman"/>
              </a:rPr>
              <a:t>Programme d’éducation thérapeutique </a:t>
            </a:r>
            <a:br>
              <a:rPr sz="2400"/>
            </a:br>
            <a:r>
              <a:rPr b="1" i="1" lang="fr-FR" sz="2400" spc="-1" strike="noStrike">
                <a:solidFill>
                  <a:srgbClr val="ffff00"/>
                </a:solidFill>
                <a:latin typeface="Times New Roman"/>
              </a:rPr>
              <a:t>et de soutien (counseling) du patient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Initiateur et promoteur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CHU, ALCS,  Fondation GS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Implantation du programme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Service des Maladies Infectieuses et AL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Public-cible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40  patients traités par ARV (70% patients analphabètes, 65% sans ressources,  24% de femmes veuve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Intervenants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Volontaires de l ’ALCS, médecins, personnes en traitemen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Démarrage de l’action sur terrai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Janvier 2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C04-5127-4F81-80B5-EDC6902956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HU Casablanca (suite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Type d ’interventio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Education par petits groupes, entretiens individuels réguli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Support d ’interventio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Manuel d ’intervention (guide d ’éducation thérapeutique et scripts d ’entretiens counsel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Formation des acteurs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nitiale et contin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Evaluatio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Mesure de charge virale, CD4 et question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Financement initial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Fondation G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5CD-5F87-4B35-AA73-34555574C7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KIOSQUE/PHARM’AIDS (Paris) : </a:t>
            </a:r>
            <a:br>
              <a:rPr sz="2400"/>
            </a:br>
            <a:r>
              <a:rPr b="1" i="1" lang="fr-FR" sz="2400" spc="-1" strike="noStrike">
                <a:solidFill>
                  <a:srgbClr val="ffff00"/>
                </a:solidFill>
                <a:latin typeface="Times New Roman"/>
              </a:rPr>
              <a:t>Consultation d ’observance et de qualité de vi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Initiateurs et promoteurs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Associations Kiosque et Pharm ’AID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Implantation du programme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Kios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Public-cible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60 personnes / an (orientés par la commu-nauté gay (pairs, bars, pharmacie communautaire, ...), des Réseaux Ville-Hopital, des services hospitaliers concerné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Intervenants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sychologues ayant une intégration communautaire et volontaires associatif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Démarrage de l’action sur terrai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Septembre  200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49A-4C77-4B7F-B185-9E52AE2122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KIOSQUE/PHARM’AIDS (suite) :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Type d’interventio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entretiens pendant 2 mois (counsel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Support d’interventio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Manuel d’intervention (scripts d’entretiens counsel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Formation des acteurs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nitiale et conti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Suivi de l’interventio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Supervision des acteurs et des contenus des entretie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Evaluatio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Auto-questionnaire et questionnai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Financement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DDASS de Paris.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2FC-C367-47A4-A2EC-31D6E5E1F1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POINTS COMMUNS AUX INTERVENTION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d ’un manuel d’intervention (+ ou - structuré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ormation initiale et continue des intervena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valu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-Financement privés et publ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0A4-2652-486D-BE42-492C0FF73F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LES DIFFERENC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intervena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sites d’implant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public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uivi et supervision des équip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gré d’institutionnalisation des programmes (projet pilote, étud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Volonté de modélis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E9A-954E-490C-8DD3-C0B48B6AE9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OBJECTIFS DU COUNSELING VIH DANS L’OBSERVANCE THERAPEUTIQU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ff99"/>
                </a:solidFill>
                <a:latin typeface="Times New Roman"/>
              </a:rPr>
              <a:t>Il s’agit d’aider chaque personne à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rifier ses connaissances, ses croyances, ses valeurs liées à l’infection par le VIH et ses traitement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dentifier les réaménagements à introduire dans sa vie pour intégrer les traitement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ésoudre les problèmes ayant un impact sur sa qualité de vi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xplorer ses besoins et identifier son réseau de soutie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B36-C5C8-42AB-A7BB-149EC02404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OBJECTIFS DU COUNSELING (suite) :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onner un sens à ce qui se passe autour de sa santé et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es traitement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ticiper les obstacles à l’observance et explorer des solution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obiliser ses compétences à la gestion de cris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tinuer son développement personnel (scénario de vie et projet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obiliser les ressources exist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14F-69B4-4107-AFCF-7ADA8DDEA2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LES DIFFERENTS TYPES D’INTERVENTION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centrées sur les trai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centrées sur le système de so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centrées sur les soign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centrées sur les pati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1EE-0884-485B-9667-2BAC4B86C4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HYPOTHES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ne intervention</a:t>
            </a:r>
            <a:r>
              <a:rPr b="0" lang="fr-FR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entrée sur le patient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i aide la person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à réduire un certain nombre d’obstacles à la  prise de 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raitement présente des bénéfices qui l’aident en retour 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méliorer et/ou maintenir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ses capacités à prendre soin de so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le degré d’observance de son trait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7E2-822B-415A-AFE9-C93BCE7E5F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ONCEVOIR ET DEVELOPPER </a:t>
            </a:r>
            <a:br>
              <a:rPr sz="2400"/>
            </a:b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UN PROGRAMME D’INTERVENTION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Répondre à des question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s sont les objectifs de l ’intervention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s seront les publics-cibles de l’intervention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ns quel contexte et cadre sera-t-elle développée 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 sera le type de l ’intervention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i  interviendra auprès du public cible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 sera le type de suivi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 sera le type d ’é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s moyen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19A-C69C-4C82-AE4F-D853BBDA45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EXEMPLE  DE  4  PROGRAMMES D’INTERVENTION  </a:t>
            </a:r>
            <a:br>
              <a:rPr sz="2400"/>
            </a:b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ENTRES  SUR  LE PATIENT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CHU de N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Réseau Ville Hôpital Guadelou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CHU de CASABLANCA (Maro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« KIOSQUE / PHARM ’AIDS »  (Par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196-0F58-42E5-B06E-4BC10AA8DD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HU de NICE : </a:t>
            </a:r>
            <a:br>
              <a:rPr sz="2400"/>
            </a:br>
            <a:r>
              <a:rPr b="1" i="1" lang="fr-FR" sz="2400" spc="-1" strike="noStrike">
                <a:solidFill>
                  <a:srgbClr val="ffff00"/>
                </a:solidFill>
                <a:latin typeface="Times New Roman"/>
              </a:rPr>
              <a:t>Les consultations d’observance (counseling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Initiateur et promoteur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CISIH de Ni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Implantation de l ’intervention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Dans 3 services du CHU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 Ni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Public cibl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240 patients traités par trithérapie au moins dans le cadre d’un essai clinique randomisé (« groupe intervention » (120) et « groupe témoin » (120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Démarrage de l ’action sur terrain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juin 199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Construction et définition du proje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6 mo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CA2-4CB7-4724-AA2C-EA61DE9C96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HU Nice (suite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Intervenants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infirmières hospitalières, 1 médecin hospitalier référent (coordinateu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Type d ’intervention retenue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entretiens individuels (counseling) planifiés le jour des consultations médicales avec utilisation d’un manuel d’intervention (scripts d ’entretien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Formation des acteurs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nitiale (en amont du démarrage de l ’action) et continue (tout au long de l ’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Suivi de l ’interventio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Supervision des acteurs et des contenus des entretie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629-CAF0-48F5-8104-970C778D2F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HU Nice (suite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Evaluatio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ar un organisme scientifique (INSERM) : Charge virale, auto-questionnaire et questionnai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Type d ’intervention retenue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Manuel d’intervention (scripts d’entretien counseling), fiche de suivi, fiche diagnost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Financement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HU et Industrie pharmaceutique.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78E-A944-4267-BB43-BC1B82EFD5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RESEAU VILLE HOPITAL GUADELOUPE : </a:t>
            </a:r>
            <a:br>
              <a:rPr sz="2400"/>
            </a:br>
            <a:r>
              <a:rPr b="1" i="1" lang="fr-FR" sz="2400" spc="-1" strike="noStrike">
                <a:solidFill>
                  <a:srgbClr val="ffff00"/>
                </a:solidFill>
                <a:latin typeface="Times New Roman"/>
              </a:rPr>
              <a:t>Programme Observanc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Initiateur et promoteur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 CHU de Pointe à Pit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plantation du programme : Au domicile des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Public-cibl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60 patients / an  (en échec thérapeutique, patients multi-vulnérabilisés, antécédents psychiatriques, pathologies cumulée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Intervenants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30 infirmières libérales du RVH, 1 AS hospitalière responsable du programm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Démarrage de l’action sur terrain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février  200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58F-1F09-42DD-A272-8C3626740B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1T09:20:55Z</dcterms:created>
  <dc:creator>Catherine Tourette-Turgis</dc:creator>
  <dc:description/>
  <cp:keywords>VIH traitements observance thérapeutique counseling éducation thérapeutique MOTHIV</cp:keywords>
  <dc:language>en-US</dc:language>
  <cp:lastModifiedBy>Maryline</cp:lastModifiedBy>
  <cp:lastPrinted>2000-10-01T15:15:07Z</cp:lastPrinted>
  <dcterms:modified xsi:type="dcterms:W3CDTF">2004-03-03T18:41:24Z</dcterms:modified>
  <cp:revision>105</cp:revision>
  <dc:subject>Observance aux traitements contre le VIH/sida</dc:subject>
  <dc:title>OBSERVANCE THERAPEUTIQUE : exemples d'interventions centrées sur le patient</dc:title>
</cp:coreProperties>
</file>