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7239000" cy="4953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87000" y="-360"/>
            <a:ext cx="5737320" cy="82548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endParaRPr b="0" lang="en-US" sz="2000" spc="-1" strike="noStrike">
              <a:solidFill>
                <a:srgbClr val="2b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68200" y="1045800"/>
            <a:ext cx="6696000" cy="14173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1680" bIns="316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68200" y="2598120"/>
            <a:ext cx="6696000" cy="14173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1680" bIns="316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87000" y="-360"/>
            <a:ext cx="5737320" cy="82548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endParaRPr b="0" lang="en-US" sz="2000" spc="-1" strike="noStrike">
              <a:solidFill>
                <a:srgbClr val="2b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68200" y="1045800"/>
            <a:ext cx="3267360" cy="14173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1680" bIns="316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99360" y="1045800"/>
            <a:ext cx="3267360" cy="14173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1680" bIns="316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68200" y="2598120"/>
            <a:ext cx="3267360" cy="14173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1680" bIns="316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699360" y="2598120"/>
            <a:ext cx="3267360" cy="14173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1680" bIns="316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87000" y="-360"/>
            <a:ext cx="5737320" cy="82548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endParaRPr b="0" lang="en-US" sz="2000" spc="-1" strike="noStrike">
              <a:solidFill>
                <a:srgbClr val="2b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68200" y="1045800"/>
            <a:ext cx="2156040" cy="14173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1680" bIns="316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532600" y="1045800"/>
            <a:ext cx="2156040" cy="14173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1680" bIns="316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796640" y="1045800"/>
            <a:ext cx="2156040" cy="14173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1680" bIns="316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68200" y="2598120"/>
            <a:ext cx="2156040" cy="14173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1680" bIns="316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532600" y="2598120"/>
            <a:ext cx="2156040" cy="14173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1680" bIns="316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4796640" y="2598120"/>
            <a:ext cx="2156040" cy="14173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1680" bIns="316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87000" y="-360"/>
            <a:ext cx="5737320" cy="82548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endParaRPr b="0" lang="en-US" sz="2000" spc="-1" strike="noStrike">
              <a:solidFill>
                <a:srgbClr val="2b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68200" y="1045800"/>
            <a:ext cx="669600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87000" y="-360"/>
            <a:ext cx="5737320" cy="82548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endParaRPr b="0" lang="en-US" sz="2000" spc="-1" strike="noStrike">
              <a:solidFill>
                <a:srgbClr val="2b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8200" y="1045800"/>
            <a:ext cx="6696000" cy="297180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1680" bIns="316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87000" y="-360"/>
            <a:ext cx="5737320" cy="82548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endParaRPr b="0" lang="en-US" sz="2000" spc="-1" strike="noStrike">
              <a:solidFill>
                <a:srgbClr val="2b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68200" y="1045800"/>
            <a:ext cx="3267360" cy="297180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1680" bIns="316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699360" y="1045800"/>
            <a:ext cx="3267360" cy="297180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1680" bIns="316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87000" y="-360"/>
            <a:ext cx="5737320" cy="82548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endParaRPr b="0" lang="en-US" sz="2000" spc="-1" strike="noStrike">
              <a:solidFill>
                <a:srgbClr val="2b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287000" y="-360"/>
            <a:ext cx="573732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87000" y="-360"/>
            <a:ext cx="5737320" cy="82548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endParaRPr b="0" lang="en-US" sz="2000" spc="-1" strike="noStrike">
              <a:solidFill>
                <a:srgbClr val="2b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68200" y="1045800"/>
            <a:ext cx="3267360" cy="14173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1680" bIns="316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699360" y="1045800"/>
            <a:ext cx="3267360" cy="297180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1680" bIns="316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68200" y="2598120"/>
            <a:ext cx="3267360" cy="14173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1680" bIns="316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87000" y="-360"/>
            <a:ext cx="5737320" cy="82548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endParaRPr b="0" lang="en-US" sz="2000" spc="-1" strike="noStrike">
              <a:solidFill>
                <a:srgbClr val="2b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68200" y="1045800"/>
            <a:ext cx="3267360" cy="297180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1680" bIns="316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699360" y="1045800"/>
            <a:ext cx="3267360" cy="14173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1680" bIns="316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699360" y="2598120"/>
            <a:ext cx="3267360" cy="14173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1680" bIns="316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87000" y="-360"/>
            <a:ext cx="5737320" cy="82548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endParaRPr b="0" lang="en-US" sz="2000" spc="-1" strike="noStrike">
              <a:solidFill>
                <a:srgbClr val="2b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68200" y="1045800"/>
            <a:ext cx="3267360" cy="14173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1680" bIns="316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699360" y="1045800"/>
            <a:ext cx="3267360" cy="14173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1680" bIns="316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68200" y="2598120"/>
            <a:ext cx="6696000" cy="14173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1680" bIns="316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87000" y="-360"/>
            <a:ext cx="5737320" cy="82548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0" lang="en-US" sz="2000" spc="-1" strike="noStrike">
                <a:solidFill>
                  <a:srgbClr val="2b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2b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8200" y="1045800"/>
            <a:ext cx="6696000" cy="297180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1680" bIns="31680" anchor="t">
            <a:normAutofit/>
          </a:bodyPr>
          <a:p>
            <a:pPr marL="244440" indent="-2444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28480" indent="-2030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"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12880" indent="-1620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138320" indent="-16344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463760" indent="-16344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463760" indent="-16344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463760" indent="-16344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08000" y="109440"/>
            <a:ext cx="487440" cy="565200"/>
          </a:xfrm>
          <a:custGeom>
            <a:avLst/>
            <a:gdLst/>
            <a:ahLst/>
            <a:rect l="l" t="t" r="r" b="b"/>
            <a:pathLst>
              <a:path w="774" h="902">
                <a:moveTo>
                  <a:pt x="108" y="4"/>
                </a:moveTo>
                <a:lnTo>
                  <a:pt x="126" y="1"/>
                </a:lnTo>
                <a:lnTo>
                  <a:pt x="136" y="3"/>
                </a:lnTo>
                <a:lnTo>
                  <a:pt x="147" y="0"/>
                </a:lnTo>
                <a:lnTo>
                  <a:pt x="153" y="3"/>
                </a:lnTo>
                <a:lnTo>
                  <a:pt x="165" y="1"/>
                </a:lnTo>
                <a:lnTo>
                  <a:pt x="171" y="7"/>
                </a:lnTo>
                <a:lnTo>
                  <a:pt x="186" y="8"/>
                </a:lnTo>
                <a:lnTo>
                  <a:pt x="203" y="17"/>
                </a:lnTo>
                <a:lnTo>
                  <a:pt x="210" y="15"/>
                </a:lnTo>
                <a:lnTo>
                  <a:pt x="219" y="22"/>
                </a:lnTo>
                <a:lnTo>
                  <a:pt x="225" y="22"/>
                </a:lnTo>
                <a:lnTo>
                  <a:pt x="229" y="27"/>
                </a:lnTo>
                <a:lnTo>
                  <a:pt x="239" y="28"/>
                </a:lnTo>
                <a:lnTo>
                  <a:pt x="242" y="33"/>
                </a:lnTo>
                <a:lnTo>
                  <a:pt x="249" y="42"/>
                </a:lnTo>
                <a:lnTo>
                  <a:pt x="254" y="46"/>
                </a:lnTo>
                <a:lnTo>
                  <a:pt x="269" y="49"/>
                </a:lnTo>
                <a:lnTo>
                  <a:pt x="277" y="58"/>
                </a:lnTo>
                <a:lnTo>
                  <a:pt x="284" y="61"/>
                </a:lnTo>
                <a:lnTo>
                  <a:pt x="284" y="63"/>
                </a:lnTo>
                <a:lnTo>
                  <a:pt x="291" y="64"/>
                </a:lnTo>
                <a:lnTo>
                  <a:pt x="301" y="64"/>
                </a:lnTo>
                <a:lnTo>
                  <a:pt x="305" y="75"/>
                </a:lnTo>
                <a:lnTo>
                  <a:pt x="315" y="82"/>
                </a:lnTo>
                <a:lnTo>
                  <a:pt x="325" y="85"/>
                </a:lnTo>
                <a:lnTo>
                  <a:pt x="340" y="76"/>
                </a:lnTo>
                <a:lnTo>
                  <a:pt x="344" y="82"/>
                </a:lnTo>
                <a:lnTo>
                  <a:pt x="346" y="82"/>
                </a:lnTo>
                <a:lnTo>
                  <a:pt x="346" y="85"/>
                </a:lnTo>
                <a:lnTo>
                  <a:pt x="347" y="87"/>
                </a:lnTo>
                <a:lnTo>
                  <a:pt x="352" y="90"/>
                </a:lnTo>
                <a:lnTo>
                  <a:pt x="360" y="87"/>
                </a:lnTo>
                <a:lnTo>
                  <a:pt x="365" y="88"/>
                </a:lnTo>
                <a:lnTo>
                  <a:pt x="365" y="95"/>
                </a:lnTo>
                <a:lnTo>
                  <a:pt x="361" y="98"/>
                </a:lnTo>
                <a:lnTo>
                  <a:pt x="361" y="102"/>
                </a:lnTo>
                <a:lnTo>
                  <a:pt x="373" y="102"/>
                </a:lnTo>
                <a:lnTo>
                  <a:pt x="375" y="103"/>
                </a:lnTo>
                <a:lnTo>
                  <a:pt x="374" y="105"/>
                </a:lnTo>
                <a:lnTo>
                  <a:pt x="378" y="103"/>
                </a:lnTo>
                <a:lnTo>
                  <a:pt x="380" y="110"/>
                </a:lnTo>
                <a:lnTo>
                  <a:pt x="381" y="110"/>
                </a:lnTo>
                <a:lnTo>
                  <a:pt x="381" y="121"/>
                </a:lnTo>
                <a:lnTo>
                  <a:pt x="389" y="130"/>
                </a:lnTo>
                <a:lnTo>
                  <a:pt x="398" y="132"/>
                </a:lnTo>
                <a:lnTo>
                  <a:pt x="408" y="124"/>
                </a:lnTo>
                <a:lnTo>
                  <a:pt x="404" y="127"/>
                </a:lnTo>
                <a:lnTo>
                  <a:pt x="407" y="130"/>
                </a:lnTo>
                <a:lnTo>
                  <a:pt x="415" y="129"/>
                </a:lnTo>
                <a:lnTo>
                  <a:pt x="417" y="131"/>
                </a:lnTo>
                <a:lnTo>
                  <a:pt x="413" y="137"/>
                </a:lnTo>
                <a:lnTo>
                  <a:pt x="412" y="139"/>
                </a:lnTo>
                <a:lnTo>
                  <a:pt x="414" y="139"/>
                </a:lnTo>
                <a:lnTo>
                  <a:pt x="410" y="141"/>
                </a:lnTo>
                <a:lnTo>
                  <a:pt x="409" y="145"/>
                </a:lnTo>
                <a:lnTo>
                  <a:pt x="415" y="153"/>
                </a:lnTo>
                <a:lnTo>
                  <a:pt x="422" y="156"/>
                </a:lnTo>
                <a:lnTo>
                  <a:pt x="423" y="165"/>
                </a:lnTo>
                <a:lnTo>
                  <a:pt x="430" y="173"/>
                </a:lnTo>
                <a:lnTo>
                  <a:pt x="433" y="173"/>
                </a:lnTo>
                <a:lnTo>
                  <a:pt x="437" y="166"/>
                </a:lnTo>
                <a:lnTo>
                  <a:pt x="442" y="165"/>
                </a:lnTo>
                <a:lnTo>
                  <a:pt x="441" y="170"/>
                </a:lnTo>
                <a:lnTo>
                  <a:pt x="438" y="169"/>
                </a:lnTo>
                <a:lnTo>
                  <a:pt x="436" y="175"/>
                </a:lnTo>
                <a:lnTo>
                  <a:pt x="442" y="185"/>
                </a:lnTo>
                <a:lnTo>
                  <a:pt x="444" y="187"/>
                </a:lnTo>
                <a:lnTo>
                  <a:pt x="453" y="184"/>
                </a:lnTo>
                <a:lnTo>
                  <a:pt x="454" y="187"/>
                </a:lnTo>
                <a:lnTo>
                  <a:pt x="457" y="185"/>
                </a:lnTo>
                <a:lnTo>
                  <a:pt x="457" y="189"/>
                </a:lnTo>
                <a:lnTo>
                  <a:pt x="459" y="190"/>
                </a:lnTo>
                <a:lnTo>
                  <a:pt x="453" y="190"/>
                </a:lnTo>
                <a:lnTo>
                  <a:pt x="451" y="193"/>
                </a:lnTo>
                <a:lnTo>
                  <a:pt x="459" y="203"/>
                </a:lnTo>
                <a:lnTo>
                  <a:pt x="466" y="204"/>
                </a:lnTo>
                <a:lnTo>
                  <a:pt x="466" y="208"/>
                </a:lnTo>
                <a:lnTo>
                  <a:pt x="468" y="213"/>
                </a:lnTo>
                <a:lnTo>
                  <a:pt x="478" y="218"/>
                </a:lnTo>
                <a:lnTo>
                  <a:pt x="482" y="229"/>
                </a:lnTo>
                <a:lnTo>
                  <a:pt x="481" y="228"/>
                </a:lnTo>
                <a:lnTo>
                  <a:pt x="480" y="229"/>
                </a:lnTo>
                <a:lnTo>
                  <a:pt x="480" y="234"/>
                </a:lnTo>
                <a:lnTo>
                  <a:pt x="485" y="242"/>
                </a:lnTo>
                <a:lnTo>
                  <a:pt x="487" y="243"/>
                </a:lnTo>
                <a:lnTo>
                  <a:pt x="490" y="241"/>
                </a:lnTo>
                <a:lnTo>
                  <a:pt x="486" y="247"/>
                </a:lnTo>
                <a:lnTo>
                  <a:pt x="488" y="252"/>
                </a:lnTo>
                <a:lnTo>
                  <a:pt x="487" y="257"/>
                </a:lnTo>
                <a:lnTo>
                  <a:pt x="490" y="261"/>
                </a:lnTo>
                <a:lnTo>
                  <a:pt x="499" y="263"/>
                </a:lnTo>
                <a:lnTo>
                  <a:pt x="504" y="261"/>
                </a:lnTo>
                <a:lnTo>
                  <a:pt x="506" y="252"/>
                </a:lnTo>
                <a:lnTo>
                  <a:pt x="507" y="241"/>
                </a:lnTo>
                <a:lnTo>
                  <a:pt x="520" y="228"/>
                </a:lnTo>
                <a:lnTo>
                  <a:pt x="520" y="224"/>
                </a:lnTo>
                <a:lnTo>
                  <a:pt x="527" y="224"/>
                </a:lnTo>
                <a:lnTo>
                  <a:pt x="538" y="221"/>
                </a:lnTo>
                <a:lnTo>
                  <a:pt x="539" y="216"/>
                </a:lnTo>
                <a:lnTo>
                  <a:pt x="543" y="217"/>
                </a:lnTo>
                <a:lnTo>
                  <a:pt x="544" y="213"/>
                </a:lnTo>
                <a:lnTo>
                  <a:pt x="554" y="214"/>
                </a:lnTo>
                <a:lnTo>
                  <a:pt x="556" y="212"/>
                </a:lnTo>
                <a:lnTo>
                  <a:pt x="560" y="221"/>
                </a:lnTo>
                <a:lnTo>
                  <a:pt x="565" y="222"/>
                </a:lnTo>
                <a:lnTo>
                  <a:pt x="580" y="214"/>
                </a:lnTo>
                <a:lnTo>
                  <a:pt x="582" y="208"/>
                </a:lnTo>
                <a:lnTo>
                  <a:pt x="579" y="207"/>
                </a:lnTo>
                <a:lnTo>
                  <a:pt x="584" y="206"/>
                </a:lnTo>
                <a:lnTo>
                  <a:pt x="585" y="202"/>
                </a:lnTo>
                <a:lnTo>
                  <a:pt x="588" y="208"/>
                </a:lnTo>
                <a:lnTo>
                  <a:pt x="597" y="206"/>
                </a:lnTo>
                <a:lnTo>
                  <a:pt x="599" y="204"/>
                </a:lnTo>
                <a:lnTo>
                  <a:pt x="599" y="200"/>
                </a:lnTo>
                <a:lnTo>
                  <a:pt x="607" y="199"/>
                </a:lnTo>
                <a:lnTo>
                  <a:pt x="614" y="193"/>
                </a:lnTo>
                <a:lnTo>
                  <a:pt x="617" y="193"/>
                </a:lnTo>
                <a:lnTo>
                  <a:pt x="616" y="189"/>
                </a:lnTo>
                <a:lnTo>
                  <a:pt x="619" y="188"/>
                </a:lnTo>
                <a:lnTo>
                  <a:pt x="623" y="180"/>
                </a:lnTo>
                <a:lnTo>
                  <a:pt x="627" y="180"/>
                </a:lnTo>
                <a:lnTo>
                  <a:pt x="630" y="184"/>
                </a:lnTo>
                <a:lnTo>
                  <a:pt x="628" y="185"/>
                </a:lnTo>
                <a:lnTo>
                  <a:pt x="630" y="188"/>
                </a:lnTo>
                <a:lnTo>
                  <a:pt x="635" y="184"/>
                </a:lnTo>
                <a:lnTo>
                  <a:pt x="638" y="187"/>
                </a:lnTo>
                <a:lnTo>
                  <a:pt x="642" y="187"/>
                </a:lnTo>
                <a:lnTo>
                  <a:pt x="641" y="188"/>
                </a:lnTo>
                <a:lnTo>
                  <a:pt x="643" y="190"/>
                </a:lnTo>
                <a:lnTo>
                  <a:pt x="648" y="190"/>
                </a:lnTo>
                <a:lnTo>
                  <a:pt x="648" y="193"/>
                </a:lnTo>
                <a:lnTo>
                  <a:pt x="645" y="193"/>
                </a:lnTo>
                <a:lnTo>
                  <a:pt x="652" y="197"/>
                </a:lnTo>
                <a:lnTo>
                  <a:pt x="651" y="195"/>
                </a:lnTo>
                <a:lnTo>
                  <a:pt x="651" y="198"/>
                </a:lnTo>
                <a:lnTo>
                  <a:pt x="648" y="199"/>
                </a:lnTo>
                <a:lnTo>
                  <a:pt x="652" y="202"/>
                </a:lnTo>
                <a:lnTo>
                  <a:pt x="647" y="204"/>
                </a:lnTo>
                <a:lnTo>
                  <a:pt x="648" y="207"/>
                </a:lnTo>
                <a:lnTo>
                  <a:pt x="646" y="207"/>
                </a:lnTo>
                <a:lnTo>
                  <a:pt x="647" y="211"/>
                </a:lnTo>
                <a:lnTo>
                  <a:pt x="651" y="217"/>
                </a:lnTo>
                <a:lnTo>
                  <a:pt x="656" y="218"/>
                </a:lnTo>
                <a:lnTo>
                  <a:pt x="653" y="218"/>
                </a:lnTo>
                <a:lnTo>
                  <a:pt x="652" y="222"/>
                </a:lnTo>
                <a:lnTo>
                  <a:pt x="643" y="219"/>
                </a:lnTo>
                <a:lnTo>
                  <a:pt x="642" y="222"/>
                </a:lnTo>
                <a:lnTo>
                  <a:pt x="633" y="212"/>
                </a:lnTo>
                <a:lnTo>
                  <a:pt x="635" y="207"/>
                </a:lnTo>
                <a:lnTo>
                  <a:pt x="632" y="204"/>
                </a:lnTo>
                <a:lnTo>
                  <a:pt x="628" y="208"/>
                </a:lnTo>
                <a:lnTo>
                  <a:pt x="621" y="206"/>
                </a:lnTo>
                <a:lnTo>
                  <a:pt x="621" y="207"/>
                </a:lnTo>
                <a:lnTo>
                  <a:pt x="616" y="208"/>
                </a:lnTo>
                <a:lnTo>
                  <a:pt x="614" y="211"/>
                </a:lnTo>
                <a:lnTo>
                  <a:pt x="614" y="216"/>
                </a:lnTo>
                <a:lnTo>
                  <a:pt x="609" y="214"/>
                </a:lnTo>
                <a:lnTo>
                  <a:pt x="608" y="221"/>
                </a:lnTo>
                <a:lnTo>
                  <a:pt x="621" y="226"/>
                </a:lnTo>
                <a:lnTo>
                  <a:pt x="622" y="229"/>
                </a:lnTo>
                <a:lnTo>
                  <a:pt x="623" y="231"/>
                </a:lnTo>
                <a:lnTo>
                  <a:pt x="623" y="234"/>
                </a:lnTo>
                <a:lnTo>
                  <a:pt x="619" y="242"/>
                </a:lnTo>
                <a:lnTo>
                  <a:pt x="614" y="238"/>
                </a:lnTo>
                <a:lnTo>
                  <a:pt x="612" y="238"/>
                </a:lnTo>
                <a:lnTo>
                  <a:pt x="611" y="243"/>
                </a:lnTo>
                <a:lnTo>
                  <a:pt x="613" y="245"/>
                </a:lnTo>
                <a:lnTo>
                  <a:pt x="608" y="243"/>
                </a:lnTo>
                <a:lnTo>
                  <a:pt x="604" y="250"/>
                </a:lnTo>
                <a:lnTo>
                  <a:pt x="607" y="252"/>
                </a:lnTo>
                <a:lnTo>
                  <a:pt x="619" y="255"/>
                </a:lnTo>
                <a:lnTo>
                  <a:pt x="621" y="257"/>
                </a:lnTo>
                <a:lnTo>
                  <a:pt x="617" y="260"/>
                </a:lnTo>
                <a:lnTo>
                  <a:pt x="621" y="263"/>
                </a:lnTo>
                <a:lnTo>
                  <a:pt x="611" y="261"/>
                </a:lnTo>
                <a:lnTo>
                  <a:pt x="609" y="265"/>
                </a:lnTo>
                <a:lnTo>
                  <a:pt x="612" y="266"/>
                </a:lnTo>
                <a:lnTo>
                  <a:pt x="612" y="268"/>
                </a:lnTo>
                <a:lnTo>
                  <a:pt x="607" y="265"/>
                </a:lnTo>
                <a:lnTo>
                  <a:pt x="602" y="266"/>
                </a:lnTo>
                <a:lnTo>
                  <a:pt x="598" y="262"/>
                </a:lnTo>
                <a:lnTo>
                  <a:pt x="590" y="263"/>
                </a:lnTo>
                <a:lnTo>
                  <a:pt x="588" y="266"/>
                </a:lnTo>
                <a:lnTo>
                  <a:pt x="584" y="265"/>
                </a:lnTo>
                <a:lnTo>
                  <a:pt x="582" y="250"/>
                </a:lnTo>
                <a:lnTo>
                  <a:pt x="579" y="247"/>
                </a:lnTo>
                <a:lnTo>
                  <a:pt x="572" y="243"/>
                </a:lnTo>
                <a:lnTo>
                  <a:pt x="567" y="243"/>
                </a:lnTo>
                <a:lnTo>
                  <a:pt x="556" y="237"/>
                </a:lnTo>
                <a:lnTo>
                  <a:pt x="546" y="240"/>
                </a:lnTo>
                <a:lnTo>
                  <a:pt x="538" y="237"/>
                </a:lnTo>
                <a:lnTo>
                  <a:pt x="534" y="240"/>
                </a:lnTo>
                <a:lnTo>
                  <a:pt x="533" y="246"/>
                </a:lnTo>
                <a:lnTo>
                  <a:pt x="529" y="251"/>
                </a:lnTo>
                <a:lnTo>
                  <a:pt x="525" y="250"/>
                </a:lnTo>
                <a:lnTo>
                  <a:pt x="524" y="252"/>
                </a:lnTo>
                <a:lnTo>
                  <a:pt x="521" y="260"/>
                </a:lnTo>
                <a:lnTo>
                  <a:pt x="525" y="265"/>
                </a:lnTo>
                <a:lnTo>
                  <a:pt x="535" y="267"/>
                </a:lnTo>
                <a:lnTo>
                  <a:pt x="536" y="272"/>
                </a:lnTo>
                <a:lnTo>
                  <a:pt x="531" y="268"/>
                </a:lnTo>
                <a:lnTo>
                  <a:pt x="526" y="270"/>
                </a:lnTo>
                <a:lnTo>
                  <a:pt x="524" y="267"/>
                </a:lnTo>
                <a:lnTo>
                  <a:pt x="520" y="277"/>
                </a:lnTo>
                <a:lnTo>
                  <a:pt x="520" y="284"/>
                </a:lnTo>
                <a:lnTo>
                  <a:pt x="524" y="290"/>
                </a:lnTo>
                <a:lnTo>
                  <a:pt x="530" y="291"/>
                </a:lnTo>
                <a:lnTo>
                  <a:pt x="531" y="297"/>
                </a:lnTo>
                <a:lnTo>
                  <a:pt x="538" y="301"/>
                </a:lnTo>
                <a:lnTo>
                  <a:pt x="544" y="301"/>
                </a:lnTo>
                <a:lnTo>
                  <a:pt x="544" y="295"/>
                </a:lnTo>
                <a:lnTo>
                  <a:pt x="548" y="290"/>
                </a:lnTo>
                <a:lnTo>
                  <a:pt x="551" y="291"/>
                </a:lnTo>
                <a:lnTo>
                  <a:pt x="553" y="289"/>
                </a:lnTo>
                <a:lnTo>
                  <a:pt x="556" y="291"/>
                </a:lnTo>
                <a:lnTo>
                  <a:pt x="555" y="294"/>
                </a:lnTo>
                <a:lnTo>
                  <a:pt x="553" y="292"/>
                </a:lnTo>
                <a:lnTo>
                  <a:pt x="550" y="297"/>
                </a:lnTo>
                <a:lnTo>
                  <a:pt x="551" y="300"/>
                </a:lnTo>
                <a:lnTo>
                  <a:pt x="551" y="302"/>
                </a:lnTo>
                <a:lnTo>
                  <a:pt x="541" y="309"/>
                </a:lnTo>
                <a:lnTo>
                  <a:pt x="541" y="313"/>
                </a:lnTo>
                <a:lnTo>
                  <a:pt x="545" y="318"/>
                </a:lnTo>
                <a:lnTo>
                  <a:pt x="553" y="318"/>
                </a:lnTo>
                <a:lnTo>
                  <a:pt x="561" y="313"/>
                </a:lnTo>
                <a:lnTo>
                  <a:pt x="565" y="313"/>
                </a:lnTo>
                <a:lnTo>
                  <a:pt x="569" y="309"/>
                </a:lnTo>
                <a:lnTo>
                  <a:pt x="570" y="301"/>
                </a:lnTo>
                <a:lnTo>
                  <a:pt x="574" y="302"/>
                </a:lnTo>
                <a:lnTo>
                  <a:pt x="578" y="301"/>
                </a:lnTo>
                <a:lnTo>
                  <a:pt x="575" y="313"/>
                </a:lnTo>
                <a:lnTo>
                  <a:pt x="580" y="318"/>
                </a:lnTo>
                <a:lnTo>
                  <a:pt x="575" y="320"/>
                </a:lnTo>
                <a:lnTo>
                  <a:pt x="577" y="323"/>
                </a:lnTo>
                <a:lnTo>
                  <a:pt x="588" y="331"/>
                </a:lnTo>
                <a:lnTo>
                  <a:pt x="602" y="325"/>
                </a:lnTo>
                <a:lnTo>
                  <a:pt x="598" y="331"/>
                </a:lnTo>
                <a:lnTo>
                  <a:pt x="603" y="333"/>
                </a:lnTo>
                <a:lnTo>
                  <a:pt x="601" y="335"/>
                </a:lnTo>
                <a:lnTo>
                  <a:pt x="602" y="338"/>
                </a:lnTo>
                <a:lnTo>
                  <a:pt x="601" y="339"/>
                </a:lnTo>
                <a:lnTo>
                  <a:pt x="593" y="338"/>
                </a:lnTo>
                <a:lnTo>
                  <a:pt x="590" y="339"/>
                </a:lnTo>
                <a:lnTo>
                  <a:pt x="588" y="348"/>
                </a:lnTo>
                <a:lnTo>
                  <a:pt x="583" y="354"/>
                </a:lnTo>
                <a:lnTo>
                  <a:pt x="582" y="347"/>
                </a:lnTo>
                <a:lnTo>
                  <a:pt x="579" y="347"/>
                </a:lnTo>
                <a:lnTo>
                  <a:pt x="570" y="348"/>
                </a:lnTo>
                <a:lnTo>
                  <a:pt x="565" y="352"/>
                </a:lnTo>
                <a:lnTo>
                  <a:pt x="567" y="354"/>
                </a:lnTo>
                <a:lnTo>
                  <a:pt x="564" y="353"/>
                </a:lnTo>
                <a:lnTo>
                  <a:pt x="558" y="352"/>
                </a:lnTo>
                <a:lnTo>
                  <a:pt x="553" y="354"/>
                </a:lnTo>
                <a:lnTo>
                  <a:pt x="550" y="363"/>
                </a:lnTo>
                <a:lnTo>
                  <a:pt x="556" y="369"/>
                </a:lnTo>
                <a:lnTo>
                  <a:pt x="560" y="370"/>
                </a:lnTo>
                <a:lnTo>
                  <a:pt x="560" y="372"/>
                </a:lnTo>
                <a:lnTo>
                  <a:pt x="549" y="372"/>
                </a:lnTo>
                <a:lnTo>
                  <a:pt x="543" y="364"/>
                </a:lnTo>
                <a:lnTo>
                  <a:pt x="536" y="364"/>
                </a:lnTo>
                <a:lnTo>
                  <a:pt x="534" y="379"/>
                </a:lnTo>
                <a:lnTo>
                  <a:pt x="531" y="379"/>
                </a:lnTo>
                <a:lnTo>
                  <a:pt x="530" y="383"/>
                </a:lnTo>
                <a:lnTo>
                  <a:pt x="525" y="383"/>
                </a:lnTo>
                <a:lnTo>
                  <a:pt x="527" y="393"/>
                </a:lnTo>
                <a:lnTo>
                  <a:pt x="531" y="393"/>
                </a:lnTo>
                <a:lnTo>
                  <a:pt x="533" y="397"/>
                </a:lnTo>
                <a:lnTo>
                  <a:pt x="540" y="397"/>
                </a:lnTo>
                <a:lnTo>
                  <a:pt x="541" y="406"/>
                </a:lnTo>
                <a:lnTo>
                  <a:pt x="551" y="420"/>
                </a:lnTo>
                <a:lnTo>
                  <a:pt x="559" y="420"/>
                </a:lnTo>
                <a:lnTo>
                  <a:pt x="565" y="415"/>
                </a:lnTo>
                <a:lnTo>
                  <a:pt x="567" y="417"/>
                </a:lnTo>
                <a:lnTo>
                  <a:pt x="568" y="417"/>
                </a:lnTo>
                <a:lnTo>
                  <a:pt x="568" y="411"/>
                </a:lnTo>
                <a:lnTo>
                  <a:pt x="572" y="404"/>
                </a:lnTo>
                <a:lnTo>
                  <a:pt x="575" y="403"/>
                </a:lnTo>
                <a:lnTo>
                  <a:pt x="574" y="401"/>
                </a:lnTo>
                <a:lnTo>
                  <a:pt x="583" y="394"/>
                </a:lnTo>
                <a:lnTo>
                  <a:pt x="585" y="396"/>
                </a:lnTo>
                <a:lnTo>
                  <a:pt x="585" y="399"/>
                </a:lnTo>
                <a:lnTo>
                  <a:pt x="588" y="401"/>
                </a:lnTo>
                <a:lnTo>
                  <a:pt x="590" y="399"/>
                </a:lnTo>
                <a:lnTo>
                  <a:pt x="593" y="402"/>
                </a:lnTo>
                <a:lnTo>
                  <a:pt x="592" y="396"/>
                </a:lnTo>
                <a:lnTo>
                  <a:pt x="594" y="393"/>
                </a:lnTo>
                <a:lnTo>
                  <a:pt x="598" y="394"/>
                </a:lnTo>
                <a:lnTo>
                  <a:pt x="597" y="398"/>
                </a:lnTo>
                <a:lnTo>
                  <a:pt x="602" y="402"/>
                </a:lnTo>
                <a:lnTo>
                  <a:pt x="603" y="397"/>
                </a:lnTo>
                <a:lnTo>
                  <a:pt x="609" y="396"/>
                </a:lnTo>
                <a:lnTo>
                  <a:pt x="606" y="403"/>
                </a:lnTo>
                <a:lnTo>
                  <a:pt x="613" y="403"/>
                </a:lnTo>
                <a:lnTo>
                  <a:pt x="616" y="408"/>
                </a:lnTo>
                <a:lnTo>
                  <a:pt x="621" y="407"/>
                </a:lnTo>
                <a:lnTo>
                  <a:pt x="619" y="402"/>
                </a:lnTo>
                <a:lnTo>
                  <a:pt x="622" y="396"/>
                </a:lnTo>
                <a:lnTo>
                  <a:pt x="632" y="394"/>
                </a:lnTo>
                <a:lnTo>
                  <a:pt x="637" y="397"/>
                </a:lnTo>
                <a:lnTo>
                  <a:pt x="635" y="403"/>
                </a:lnTo>
                <a:lnTo>
                  <a:pt x="636" y="404"/>
                </a:lnTo>
                <a:lnTo>
                  <a:pt x="635" y="410"/>
                </a:lnTo>
                <a:lnTo>
                  <a:pt x="631" y="406"/>
                </a:lnTo>
                <a:lnTo>
                  <a:pt x="630" y="410"/>
                </a:lnTo>
                <a:lnTo>
                  <a:pt x="632" y="412"/>
                </a:lnTo>
                <a:lnTo>
                  <a:pt x="631" y="420"/>
                </a:lnTo>
                <a:lnTo>
                  <a:pt x="626" y="417"/>
                </a:lnTo>
                <a:lnTo>
                  <a:pt x="623" y="412"/>
                </a:lnTo>
                <a:lnTo>
                  <a:pt x="623" y="416"/>
                </a:lnTo>
                <a:lnTo>
                  <a:pt x="624" y="417"/>
                </a:lnTo>
                <a:lnTo>
                  <a:pt x="622" y="425"/>
                </a:lnTo>
                <a:lnTo>
                  <a:pt x="621" y="422"/>
                </a:lnTo>
                <a:lnTo>
                  <a:pt x="609" y="427"/>
                </a:lnTo>
                <a:lnTo>
                  <a:pt x="604" y="421"/>
                </a:lnTo>
                <a:lnTo>
                  <a:pt x="599" y="420"/>
                </a:lnTo>
                <a:lnTo>
                  <a:pt x="601" y="426"/>
                </a:lnTo>
                <a:lnTo>
                  <a:pt x="594" y="427"/>
                </a:lnTo>
                <a:lnTo>
                  <a:pt x="593" y="431"/>
                </a:lnTo>
                <a:lnTo>
                  <a:pt x="595" y="432"/>
                </a:lnTo>
                <a:lnTo>
                  <a:pt x="604" y="433"/>
                </a:lnTo>
                <a:lnTo>
                  <a:pt x="612" y="441"/>
                </a:lnTo>
                <a:lnTo>
                  <a:pt x="617" y="442"/>
                </a:lnTo>
                <a:lnTo>
                  <a:pt x="623" y="437"/>
                </a:lnTo>
                <a:lnTo>
                  <a:pt x="626" y="441"/>
                </a:lnTo>
                <a:lnTo>
                  <a:pt x="619" y="441"/>
                </a:lnTo>
                <a:lnTo>
                  <a:pt x="614" y="445"/>
                </a:lnTo>
                <a:lnTo>
                  <a:pt x="616" y="447"/>
                </a:lnTo>
                <a:lnTo>
                  <a:pt x="616" y="452"/>
                </a:lnTo>
                <a:lnTo>
                  <a:pt x="622" y="451"/>
                </a:lnTo>
                <a:lnTo>
                  <a:pt x="619" y="455"/>
                </a:lnTo>
                <a:lnTo>
                  <a:pt x="622" y="460"/>
                </a:lnTo>
                <a:lnTo>
                  <a:pt x="621" y="461"/>
                </a:lnTo>
                <a:lnTo>
                  <a:pt x="614" y="460"/>
                </a:lnTo>
                <a:lnTo>
                  <a:pt x="614" y="461"/>
                </a:lnTo>
                <a:lnTo>
                  <a:pt x="616" y="462"/>
                </a:lnTo>
                <a:lnTo>
                  <a:pt x="614" y="466"/>
                </a:lnTo>
                <a:lnTo>
                  <a:pt x="608" y="465"/>
                </a:lnTo>
                <a:lnTo>
                  <a:pt x="613" y="475"/>
                </a:lnTo>
                <a:lnTo>
                  <a:pt x="609" y="474"/>
                </a:lnTo>
                <a:lnTo>
                  <a:pt x="607" y="475"/>
                </a:lnTo>
                <a:lnTo>
                  <a:pt x="608" y="481"/>
                </a:lnTo>
                <a:lnTo>
                  <a:pt x="613" y="480"/>
                </a:lnTo>
                <a:lnTo>
                  <a:pt x="616" y="483"/>
                </a:lnTo>
                <a:lnTo>
                  <a:pt x="626" y="483"/>
                </a:lnTo>
                <a:lnTo>
                  <a:pt x="624" y="479"/>
                </a:lnTo>
                <a:lnTo>
                  <a:pt x="627" y="478"/>
                </a:lnTo>
                <a:lnTo>
                  <a:pt x="630" y="483"/>
                </a:lnTo>
                <a:lnTo>
                  <a:pt x="628" y="488"/>
                </a:lnTo>
                <a:lnTo>
                  <a:pt x="631" y="489"/>
                </a:lnTo>
                <a:lnTo>
                  <a:pt x="633" y="483"/>
                </a:lnTo>
                <a:lnTo>
                  <a:pt x="636" y="481"/>
                </a:lnTo>
                <a:lnTo>
                  <a:pt x="641" y="485"/>
                </a:lnTo>
                <a:lnTo>
                  <a:pt x="641" y="481"/>
                </a:lnTo>
                <a:lnTo>
                  <a:pt x="648" y="478"/>
                </a:lnTo>
                <a:lnTo>
                  <a:pt x="651" y="483"/>
                </a:lnTo>
                <a:lnTo>
                  <a:pt x="660" y="481"/>
                </a:lnTo>
                <a:lnTo>
                  <a:pt x="661" y="485"/>
                </a:lnTo>
                <a:lnTo>
                  <a:pt x="658" y="485"/>
                </a:lnTo>
                <a:lnTo>
                  <a:pt x="652" y="489"/>
                </a:lnTo>
                <a:lnTo>
                  <a:pt x="648" y="488"/>
                </a:lnTo>
                <a:lnTo>
                  <a:pt x="648" y="493"/>
                </a:lnTo>
                <a:lnTo>
                  <a:pt x="643" y="495"/>
                </a:lnTo>
                <a:lnTo>
                  <a:pt x="647" y="496"/>
                </a:lnTo>
                <a:lnTo>
                  <a:pt x="646" y="499"/>
                </a:lnTo>
                <a:lnTo>
                  <a:pt x="652" y="500"/>
                </a:lnTo>
                <a:lnTo>
                  <a:pt x="650" y="504"/>
                </a:lnTo>
                <a:lnTo>
                  <a:pt x="660" y="506"/>
                </a:lnTo>
                <a:lnTo>
                  <a:pt x="662" y="509"/>
                </a:lnTo>
                <a:lnTo>
                  <a:pt x="662" y="514"/>
                </a:lnTo>
                <a:lnTo>
                  <a:pt x="665" y="517"/>
                </a:lnTo>
                <a:lnTo>
                  <a:pt x="664" y="518"/>
                </a:lnTo>
                <a:lnTo>
                  <a:pt x="656" y="518"/>
                </a:lnTo>
                <a:lnTo>
                  <a:pt x="655" y="525"/>
                </a:lnTo>
                <a:lnTo>
                  <a:pt x="664" y="530"/>
                </a:lnTo>
                <a:lnTo>
                  <a:pt x="664" y="537"/>
                </a:lnTo>
                <a:lnTo>
                  <a:pt x="671" y="534"/>
                </a:lnTo>
                <a:lnTo>
                  <a:pt x="681" y="538"/>
                </a:lnTo>
                <a:lnTo>
                  <a:pt x="694" y="527"/>
                </a:lnTo>
                <a:lnTo>
                  <a:pt x="692" y="530"/>
                </a:lnTo>
                <a:lnTo>
                  <a:pt x="695" y="534"/>
                </a:lnTo>
                <a:lnTo>
                  <a:pt x="694" y="537"/>
                </a:lnTo>
                <a:lnTo>
                  <a:pt x="695" y="538"/>
                </a:lnTo>
                <a:lnTo>
                  <a:pt x="699" y="537"/>
                </a:lnTo>
                <a:lnTo>
                  <a:pt x="700" y="540"/>
                </a:lnTo>
                <a:lnTo>
                  <a:pt x="696" y="543"/>
                </a:lnTo>
                <a:lnTo>
                  <a:pt x="696" y="546"/>
                </a:lnTo>
                <a:lnTo>
                  <a:pt x="705" y="548"/>
                </a:lnTo>
                <a:lnTo>
                  <a:pt x="704" y="551"/>
                </a:lnTo>
                <a:lnTo>
                  <a:pt x="694" y="551"/>
                </a:lnTo>
                <a:lnTo>
                  <a:pt x="692" y="554"/>
                </a:lnTo>
                <a:lnTo>
                  <a:pt x="708" y="558"/>
                </a:lnTo>
                <a:lnTo>
                  <a:pt x="711" y="557"/>
                </a:lnTo>
                <a:lnTo>
                  <a:pt x="711" y="559"/>
                </a:lnTo>
                <a:lnTo>
                  <a:pt x="705" y="559"/>
                </a:lnTo>
                <a:lnTo>
                  <a:pt x="703" y="562"/>
                </a:lnTo>
                <a:lnTo>
                  <a:pt x="690" y="563"/>
                </a:lnTo>
                <a:lnTo>
                  <a:pt x="694" y="577"/>
                </a:lnTo>
                <a:lnTo>
                  <a:pt x="701" y="573"/>
                </a:lnTo>
                <a:lnTo>
                  <a:pt x="704" y="576"/>
                </a:lnTo>
                <a:lnTo>
                  <a:pt x="706" y="571"/>
                </a:lnTo>
                <a:lnTo>
                  <a:pt x="711" y="572"/>
                </a:lnTo>
                <a:lnTo>
                  <a:pt x="706" y="578"/>
                </a:lnTo>
                <a:lnTo>
                  <a:pt x="700" y="581"/>
                </a:lnTo>
                <a:lnTo>
                  <a:pt x="701" y="585"/>
                </a:lnTo>
                <a:lnTo>
                  <a:pt x="715" y="581"/>
                </a:lnTo>
                <a:lnTo>
                  <a:pt x="714" y="586"/>
                </a:lnTo>
                <a:lnTo>
                  <a:pt x="706" y="595"/>
                </a:lnTo>
                <a:lnTo>
                  <a:pt x="714" y="595"/>
                </a:lnTo>
                <a:lnTo>
                  <a:pt x="720" y="587"/>
                </a:lnTo>
                <a:lnTo>
                  <a:pt x="730" y="580"/>
                </a:lnTo>
                <a:lnTo>
                  <a:pt x="728" y="578"/>
                </a:lnTo>
                <a:lnTo>
                  <a:pt x="734" y="574"/>
                </a:lnTo>
                <a:lnTo>
                  <a:pt x="743" y="578"/>
                </a:lnTo>
                <a:lnTo>
                  <a:pt x="739" y="578"/>
                </a:lnTo>
                <a:lnTo>
                  <a:pt x="735" y="582"/>
                </a:lnTo>
                <a:lnTo>
                  <a:pt x="734" y="592"/>
                </a:lnTo>
                <a:lnTo>
                  <a:pt x="728" y="600"/>
                </a:lnTo>
                <a:lnTo>
                  <a:pt x="724" y="598"/>
                </a:lnTo>
                <a:lnTo>
                  <a:pt x="724" y="608"/>
                </a:lnTo>
                <a:lnTo>
                  <a:pt x="719" y="612"/>
                </a:lnTo>
                <a:lnTo>
                  <a:pt x="724" y="619"/>
                </a:lnTo>
                <a:lnTo>
                  <a:pt x="726" y="621"/>
                </a:lnTo>
                <a:lnTo>
                  <a:pt x="729" y="619"/>
                </a:lnTo>
                <a:lnTo>
                  <a:pt x="734" y="625"/>
                </a:lnTo>
                <a:lnTo>
                  <a:pt x="737" y="625"/>
                </a:lnTo>
                <a:lnTo>
                  <a:pt x="740" y="635"/>
                </a:lnTo>
                <a:lnTo>
                  <a:pt x="738" y="637"/>
                </a:lnTo>
                <a:lnTo>
                  <a:pt x="738" y="641"/>
                </a:lnTo>
                <a:lnTo>
                  <a:pt x="735" y="639"/>
                </a:lnTo>
                <a:lnTo>
                  <a:pt x="725" y="639"/>
                </a:lnTo>
                <a:lnTo>
                  <a:pt x="721" y="642"/>
                </a:lnTo>
                <a:lnTo>
                  <a:pt x="724" y="644"/>
                </a:lnTo>
                <a:lnTo>
                  <a:pt x="730" y="644"/>
                </a:lnTo>
                <a:lnTo>
                  <a:pt x="729" y="646"/>
                </a:lnTo>
                <a:lnTo>
                  <a:pt x="742" y="642"/>
                </a:lnTo>
                <a:lnTo>
                  <a:pt x="744" y="644"/>
                </a:lnTo>
                <a:lnTo>
                  <a:pt x="745" y="650"/>
                </a:lnTo>
                <a:lnTo>
                  <a:pt x="743" y="654"/>
                </a:lnTo>
                <a:lnTo>
                  <a:pt x="742" y="665"/>
                </a:lnTo>
                <a:lnTo>
                  <a:pt x="737" y="660"/>
                </a:lnTo>
                <a:lnTo>
                  <a:pt x="726" y="663"/>
                </a:lnTo>
                <a:lnTo>
                  <a:pt x="725" y="666"/>
                </a:lnTo>
                <a:lnTo>
                  <a:pt x="730" y="668"/>
                </a:lnTo>
                <a:lnTo>
                  <a:pt x="729" y="669"/>
                </a:lnTo>
                <a:lnTo>
                  <a:pt x="729" y="673"/>
                </a:lnTo>
                <a:lnTo>
                  <a:pt x="724" y="674"/>
                </a:lnTo>
                <a:lnTo>
                  <a:pt x="725" y="677"/>
                </a:lnTo>
                <a:lnTo>
                  <a:pt x="723" y="680"/>
                </a:lnTo>
                <a:lnTo>
                  <a:pt x="723" y="683"/>
                </a:lnTo>
                <a:lnTo>
                  <a:pt x="726" y="687"/>
                </a:lnTo>
                <a:lnTo>
                  <a:pt x="735" y="678"/>
                </a:lnTo>
                <a:lnTo>
                  <a:pt x="739" y="677"/>
                </a:lnTo>
                <a:lnTo>
                  <a:pt x="744" y="677"/>
                </a:lnTo>
                <a:lnTo>
                  <a:pt x="747" y="682"/>
                </a:lnTo>
                <a:lnTo>
                  <a:pt x="749" y="689"/>
                </a:lnTo>
                <a:lnTo>
                  <a:pt x="747" y="697"/>
                </a:lnTo>
                <a:lnTo>
                  <a:pt x="749" y="699"/>
                </a:lnTo>
                <a:lnTo>
                  <a:pt x="748" y="704"/>
                </a:lnTo>
                <a:lnTo>
                  <a:pt x="747" y="712"/>
                </a:lnTo>
                <a:lnTo>
                  <a:pt x="749" y="717"/>
                </a:lnTo>
                <a:lnTo>
                  <a:pt x="753" y="718"/>
                </a:lnTo>
                <a:lnTo>
                  <a:pt x="755" y="718"/>
                </a:lnTo>
                <a:lnTo>
                  <a:pt x="755" y="716"/>
                </a:lnTo>
                <a:lnTo>
                  <a:pt x="758" y="714"/>
                </a:lnTo>
                <a:lnTo>
                  <a:pt x="758" y="718"/>
                </a:lnTo>
                <a:lnTo>
                  <a:pt x="762" y="718"/>
                </a:lnTo>
                <a:lnTo>
                  <a:pt x="766" y="734"/>
                </a:lnTo>
                <a:lnTo>
                  <a:pt x="772" y="741"/>
                </a:lnTo>
                <a:lnTo>
                  <a:pt x="767" y="748"/>
                </a:lnTo>
                <a:lnTo>
                  <a:pt x="766" y="755"/>
                </a:lnTo>
                <a:lnTo>
                  <a:pt x="755" y="758"/>
                </a:lnTo>
                <a:lnTo>
                  <a:pt x="755" y="752"/>
                </a:lnTo>
                <a:lnTo>
                  <a:pt x="754" y="750"/>
                </a:lnTo>
                <a:lnTo>
                  <a:pt x="752" y="751"/>
                </a:lnTo>
                <a:lnTo>
                  <a:pt x="752" y="756"/>
                </a:lnTo>
                <a:lnTo>
                  <a:pt x="748" y="757"/>
                </a:lnTo>
                <a:lnTo>
                  <a:pt x="750" y="760"/>
                </a:lnTo>
                <a:lnTo>
                  <a:pt x="757" y="761"/>
                </a:lnTo>
                <a:lnTo>
                  <a:pt x="757" y="767"/>
                </a:lnTo>
                <a:lnTo>
                  <a:pt x="759" y="768"/>
                </a:lnTo>
                <a:lnTo>
                  <a:pt x="766" y="779"/>
                </a:lnTo>
                <a:lnTo>
                  <a:pt x="774" y="780"/>
                </a:lnTo>
                <a:lnTo>
                  <a:pt x="771" y="781"/>
                </a:lnTo>
                <a:lnTo>
                  <a:pt x="762" y="780"/>
                </a:lnTo>
                <a:lnTo>
                  <a:pt x="762" y="784"/>
                </a:lnTo>
                <a:lnTo>
                  <a:pt x="759" y="782"/>
                </a:lnTo>
                <a:lnTo>
                  <a:pt x="753" y="786"/>
                </a:lnTo>
                <a:lnTo>
                  <a:pt x="750" y="794"/>
                </a:lnTo>
                <a:lnTo>
                  <a:pt x="748" y="796"/>
                </a:lnTo>
                <a:lnTo>
                  <a:pt x="750" y="806"/>
                </a:lnTo>
                <a:lnTo>
                  <a:pt x="749" y="809"/>
                </a:lnTo>
                <a:lnTo>
                  <a:pt x="745" y="823"/>
                </a:lnTo>
                <a:lnTo>
                  <a:pt x="743" y="826"/>
                </a:lnTo>
                <a:lnTo>
                  <a:pt x="737" y="826"/>
                </a:lnTo>
                <a:lnTo>
                  <a:pt x="734" y="830"/>
                </a:lnTo>
                <a:lnTo>
                  <a:pt x="729" y="831"/>
                </a:lnTo>
                <a:lnTo>
                  <a:pt x="733" y="836"/>
                </a:lnTo>
                <a:lnTo>
                  <a:pt x="730" y="843"/>
                </a:lnTo>
                <a:lnTo>
                  <a:pt x="726" y="843"/>
                </a:lnTo>
                <a:lnTo>
                  <a:pt x="730" y="849"/>
                </a:lnTo>
                <a:lnTo>
                  <a:pt x="718" y="852"/>
                </a:lnTo>
                <a:lnTo>
                  <a:pt x="716" y="845"/>
                </a:lnTo>
                <a:lnTo>
                  <a:pt x="714" y="841"/>
                </a:lnTo>
                <a:lnTo>
                  <a:pt x="704" y="840"/>
                </a:lnTo>
                <a:lnTo>
                  <a:pt x="703" y="843"/>
                </a:lnTo>
                <a:lnTo>
                  <a:pt x="701" y="853"/>
                </a:lnTo>
                <a:lnTo>
                  <a:pt x="705" y="850"/>
                </a:lnTo>
                <a:lnTo>
                  <a:pt x="705" y="857"/>
                </a:lnTo>
                <a:lnTo>
                  <a:pt x="710" y="854"/>
                </a:lnTo>
                <a:lnTo>
                  <a:pt x="713" y="854"/>
                </a:lnTo>
                <a:lnTo>
                  <a:pt x="709" y="863"/>
                </a:lnTo>
                <a:lnTo>
                  <a:pt x="723" y="865"/>
                </a:lnTo>
                <a:lnTo>
                  <a:pt x="721" y="873"/>
                </a:lnTo>
                <a:lnTo>
                  <a:pt x="718" y="873"/>
                </a:lnTo>
                <a:lnTo>
                  <a:pt x="711" y="868"/>
                </a:lnTo>
                <a:lnTo>
                  <a:pt x="706" y="869"/>
                </a:lnTo>
                <a:lnTo>
                  <a:pt x="700" y="879"/>
                </a:lnTo>
                <a:lnTo>
                  <a:pt x="695" y="881"/>
                </a:lnTo>
                <a:lnTo>
                  <a:pt x="694" y="884"/>
                </a:lnTo>
                <a:lnTo>
                  <a:pt x="692" y="886"/>
                </a:lnTo>
                <a:lnTo>
                  <a:pt x="691" y="891"/>
                </a:lnTo>
                <a:lnTo>
                  <a:pt x="690" y="891"/>
                </a:lnTo>
                <a:lnTo>
                  <a:pt x="691" y="896"/>
                </a:lnTo>
                <a:lnTo>
                  <a:pt x="690" y="897"/>
                </a:lnTo>
                <a:lnTo>
                  <a:pt x="686" y="896"/>
                </a:lnTo>
                <a:lnTo>
                  <a:pt x="682" y="897"/>
                </a:lnTo>
                <a:lnTo>
                  <a:pt x="684" y="899"/>
                </a:lnTo>
                <a:lnTo>
                  <a:pt x="680" y="898"/>
                </a:lnTo>
                <a:lnTo>
                  <a:pt x="676" y="901"/>
                </a:lnTo>
                <a:lnTo>
                  <a:pt x="671" y="898"/>
                </a:lnTo>
                <a:lnTo>
                  <a:pt x="667" y="902"/>
                </a:lnTo>
                <a:lnTo>
                  <a:pt x="660" y="899"/>
                </a:lnTo>
                <a:lnTo>
                  <a:pt x="650" y="898"/>
                </a:lnTo>
                <a:lnTo>
                  <a:pt x="650" y="897"/>
                </a:lnTo>
                <a:lnTo>
                  <a:pt x="652" y="896"/>
                </a:lnTo>
                <a:lnTo>
                  <a:pt x="651" y="891"/>
                </a:lnTo>
                <a:lnTo>
                  <a:pt x="636" y="883"/>
                </a:lnTo>
                <a:lnTo>
                  <a:pt x="636" y="878"/>
                </a:lnTo>
                <a:lnTo>
                  <a:pt x="632" y="877"/>
                </a:lnTo>
                <a:lnTo>
                  <a:pt x="632" y="874"/>
                </a:lnTo>
                <a:lnTo>
                  <a:pt x="636" y="872"/>
                </a:lnTo>
                <a:lnTo>
                  <a:pt x="635" y="868"/>
                </a:lnTo>
                <a:lnTo>
                  <a:pt x="621" y="858"/>
                </a:lnTo>
                <a:lnTo>
                  <a:pt x="622" y="854"/>
                </a:lnTo>
                <a:lnTo>
                  <a:pt x="626" y="853"/>
                </a:lnTo>
                <a:lnTo>
                  <a:pt x="633" y="844"/>
                </a:lnTo>
                <a:lnTo>
                  <a:pt x="637" y="834"/>
                </a:lnTo>
                <a:lnTo>
                  <a:pt x="641" y="831"/>
                </a:lnTo>
                <a:lnTo>
                  <a:pt x="645" y="821"/>
                </a:lnTo>
                <a:lnTo>
                  <a:pt x="642" y="814"/>
                </a:lnTo>
                <a:lnTo>
                  <a:pt x="636" y="805"/>
                </a:lnTo>
                <a:lnTo>
                  <a:pt x="638" y="800"/>
                </a:lnTo>
                <a:lnTo>
                  <a:pt x="636" y="797"/>
                </a:lnTo>
                <a:lnTo>
                  <a:pt x="640" y="796"/>
                </a:lnTo>
                <a:lnTo>
                  <a:pt x="645" y="806"/>
                </a:lnTo>
                <a:lnTo>
                  <a:pt x="647" y="805"/>
                </a:lnTo>
                <a:lnTo>
                  <a:pt x="648" y="807"/>
                </a:lnTo>
                <a:lnTo>
                  <a:pt x="651" y="806"/>
                </a:lnTo>
                <a:lnTo>
                  <a:pt x="651" y="802"/>
                </a:lnTo>
                <a:lnTo>
                  <a:pt x="658" y="804"/>
                </a:lnTo>
                <a:lnTo>
                  <a:pt x="655" y="795"/>
                </a:lnTo>
                <a:lnTo>
                  <a:pt x="657" y="786"/>
                </a:lnTo>
                <a:lnTo>
                  <a:pt x="660" y="785"/>
                </a:lnTo>
                <a:lnTo>
                  <a:pt x="660" y="790"/>
                </a:lnTo>
                <a:lnTo>
                  <a:pt x="662" y="789"/>
                </a:lnTo>
                <a:lnTo>
                  <a:pt x="666" y="790"/>
                </a:lnTo>
                <a:lnTo>
                  <a:pt x="672" y="790"/>
                </a:lnTo>
                <a:lnTo>
                  <a:pt x="674" y="789"/>
                </a:lnTo>
                <a:lnTo>
                  <a:pt x="667" y="785"/>
                </a:lnTo>
                <a:lnTo>
                  <a:pt x="676" y="777"/>
                </a:lnTo>
                <a:lnTo>
                  <a:pt x="675" y="773"/>
                </a:lnTo>
                <a:lnTo>
                  <a:pt x="672" y="772"/>
                </a:lnTo>
                <a:lnTo>
                  <a:pt x="675" y="770"/>
                </a:lnTo>
                <a:lnTo>
                  <a:pt x="670" y="761"/>
                </a:lnTo>
                <a:lnTo>
                  <a:pt x="657" y="766"/>
                </a:lnTo>
                <a:lnTo>
                  <a:pt x="655" y="760"/>
                </a:lnTo>
                <a:lnTo>
                  <a:pt x="651" y="758"/>
                </a:lnTo>
                <a:lnTo>
                  <a:pt x="648" y="761"/>
                </a:lnTo>
                <a:lnTo>
                  <a:pt x="650" y="763"/>
                </a:lnTo>
                <a:lnTo>
                  <a:pt x="648" y="767"/>
                </a:lnTo>
                <a:lnTo>
                  <a:pt x="643" y="766"/>
                </a:lnTo>
                <a:lnTo>
                  <a:pt x="640" y="772"/>
                </a:lnTo>
                <a:lnTo>
                  <a:pt x="638" y="770"/>
                </a:lnTo>
                <a:lnTo>
                  <a:pt x="628" y="784"/>
                </a:lnTo>
                <a:lnTo>
                  <a:pt x="624" y="784"/>
                </a:lnTo>
                <a:lnTo>
                  <a:pt x="621" y="790"/>
                </a:lnTo>
                <a:lnTo>
                  <a:pt x="622" y="795"/>
                </a:lnTo>
                <a:lnTo>
                  <a:pt x="609" y="805"/>
                </a:lnTo>
                <a:lnTo>
                  <a:pt x="607" y="804"/>
                </a:lnTo>
                <a:lnTo>
                  <a:pt x="608" y="797"/>
                </a:lnTo>
                <a:lnTo>
                  <a:pt x="598" y="791"/>
                </a:lnTo>
                <a:lnTo>
                  <a:pt x="585" y="779"/>
                </a:lnTo>
                <a:lnTo>
                  <a:pt x="590" y="755"/>
                </a:lnTo>
                <a:lnTo>
                  <a:pt x="597" y="755"/>
                </a:lnTo>
                <a:lnTo>
                  <a:pt x="603" y="743"/>
                </a:lnTo>
                <a:lnTo>
                  <a:pt x="604" y="741"/>
                </a:lnTo>
                <a:lnTo>
                  <a:pt x="601" y="739"/>
                </a:lnTo>
                <a:lnTo>
                  <a:pt x="603" y="741"/>
                </a:lnTo>
                <a:lnTo>
                  <a:pt x="595" y="755"/>
                </a:lnTo>
                <a:lnTo>
                  <a:pt x="590" y="753"/>
                </a:lnTo>
                <a:lnTo>
                  <a:pt x="589" y="756"/>
                </a:lnTo>
                <a:lnTo>
                  <a:pt x="588" y="765"/>
                </a:lnTo>
                <a:lnTo>
                  <a:pt x="577" y="766"/>
                </a:lnTo>
                <a:lnTo>
                  <a:pt x="575" y="760"/>
                </a:lnTo>
                <a:lnTo>
                  <a:pt x="573" y="768"/>
                </a:lnTo>
                <a:lnTo>
                  <a:pt x="570" y="767"/>
                </a:lnTo>
                <a:lnTo>
                  <a:pt x="545" y="777"/>
                </a:lnTo>
                <a:lnTo>
                  <a:pt x="544" y="777"/>
                </a:lnTo>
                <a:lnTo>
                  <a:pt x="543" y="773"/>
                </a:lnTo>
                <a:lnTo>
                  <a:pt x="531" y="775"/>
                </a:lnTo>
                <a:lnTo>
                  <a:pt x="527" y="771"/>
                </a:lnTo>
                <a:lnTo>
                  <a:pt x="524" y="770"/>
                </a:lnTo>
                <a:lnTo>
                  <a:pt x="512" y="770"/>
                </a:lnTo>
                <a:lnTo>
                  <a:pt x="506" y="772"/>
                </a:lnTo>
                <a:lnTo>
                  <a:pt x="504" y="772"/>
                </a:lnTo>
                <a:lnTo>
                  <a:pt x="504" y="768"/>
                </a:lnTo>
                <a:lnTo>
                  <a:pt x="495" y="766"/>
                </a:lnTo>
                <a:lnTo>
                  <a:pt x="492" y="760"/>
                </a:lnTo>
                <a:lnTo>
                  <a:pt x="487" y="758"/>
                </a:lnTo>
                <a:lnTo>
                  <a:pt x="480" y="760"/>
                </a:lnTo>
                <a:lnTo>
                  <a:pt x="481" y="763"/>
                </a:lnTo>
                <a:lnTo>
                  <a:pt x="473" y="767"/>
                </a:lnTo>
                <a:lnTo>
                  <a:pt x="467" y="766"/>
                </a:lnTo>
                <a:lnTo>
                  <a:pt x="465" y="762"/>
                </a:lnTo>
                <a:lnTo>
                  <a:pt x="468" y="753"/>
                </a:lnTo>
                <a:lnTo>
                  <a:pt x="466" y="752"/>
                </a:lnTo>
                <a:lnTo>
                  <a:pt x="461" y="741"/>
                </a:lnTo>
                <a:lnTo>
                  <a:pt x="458" y="739"/>
                </a:lnTo>
                <a:lnTo>
                  <a:pt x="458" y="743"/>
                </a:lnTo>
                <a:lnTo>
                  <a:pt x="457" y="741"/>
                </a:lnTo>
                <a:lnTo>
                  <a:pt x="453" y="747"/>
                </a:lnTo>
                <a:lnTo>
                  <a:pt x="456" y="750"/>
                </a:lnTo>
                <a:lnTo>
                  <a:pt x="453" y="750"/>
                </a:lnTo>
                <a:lnTo>
                  <a:pt x="453" y="756"/>
                </a:lnTo>
                <a:lnTo>
                  <a:pt x="451" y="760"/>
                </a:lnTo>
                <a:lnTo>
                  <a:pt x="442" y="748"/>
                </a:lnTo>
                <a:lnTo>
                  <a:pt x="443" y="746"/>
                </a:lnTo>
                <a:lnTo>
                  <a:pt x="439" y="743"/>
                </a:lnTo>
                <a:lnTo>
                  <a:pt x="441" y="741"/>
                </a:lnTo>
                <a:lnTo>
                  <a:pt x="439" y="742"/>
                </a:lnTo>
                <a:lnTo>
                  <a:pt x="442" y="746"/>
                </a:lnTo>
                <a:lnTo>
                  <a:pt x="441" y="747"/>
                </a:lnTo>
                <a:lnTo>
                  <a:pt x="439" y="752"/>
                </a:lnTo>
                <a:lnTo>
                  <a:pt x="443" y="755"/>
                </a:lnTo>
                <a:lnTo>
                  <a:pt x="441" y="763"/>
                </a:lnTo>
                <a:lnTo>
                  <a:pt x="444" y="767"/>
                </a:lnTo>
                <a:lnTo>
                  <a:pt x="441" y="771"/>
                </a:lnTo>
                <a:lnTo>
                  <a:pt x="437" y="767"/>
                </a:lnTo>
                <a:lnTo>
                  <a:pt x="429" y="768"/>
                </a:lnTo>
                <a:lnTo>
                  <a:pt x="428" y="766"/>
                </a:lnTo>
                <a:lnTo>
                  <a:pt x="427" y="767"/>
                </a:lnTo>
                <a:lnTo>
                  <a:pt x="424" y="757"/>
                </a:lnTo>
                <a:lnTo>
                  <a:pt x="418" y="748"/>
                </a:lnTo>
                <a:lnTo>
                  <a:pt x="414" y="751"/>
                </a:lnTo>
                <a:lnTo>
                  <a:pt x="410" y="757"/>
                </a:lnTo>
                <a:lnTo>
                  <a:pt x="414" y="762"/>
                </a:lnTo>
                <a:lnTo>
                  <a:pt x="398" y="752"/>
                </a:lnTo>
                <a:lnTo>
                  <a:pt x="391" y="746"/>
                </a:lnTo>
                <a:lnTo>
                  <a:pt x="383" y="746"/>
                </a:lnTo>
                <a:lnTo>
                  <a:pt x="349" y="760"/>
                </a:lnTo>
                <a:lnTo>
                  <a:pt x="340" y="770"/>
                </a:lnTo>
                <a:lnTo>
                  <a:pt x="341" y="776"/>
                </a:lnTo>
                <a:lnTo>
                  <a:pt x="337" y="785"/>
                </a:lnTo>
                <a:lnTo>
                  <a:pt x="326" y="795"/>
                </a:lnTo>
                <a:lnTo>
                  <a:pt x="320" y="795"/>
                </a:lnTo>
                <a:lnTo>
                  <a:pt x="306" y="789"/>
                </a:lnTo>
                <a:lnTo>
                  <a:pt x="302" y="784"/>
                </a:lnTo>
                <a:lnTo>
                  <a:pt x="301" y="772"/>
                </a:lnTo>
                <a:lnTo>
                  <a:pt x="297" y="770"/>
                </a:lnTo>
                <a:lnTo>
                  <a:pt x="292" y="767"/>
                </a:lnTo>
                <a:lnTo>
                  <a:pt x="286" y="771"/>
                </a:lnTo>
                <a:lnTo>
                  <a:pt x="276" y="765"/>
                </a:lnTo>
                <a:lnTo>
                  <a:pt x="273" y="760"/>
                </a:lnTo>
                <a:lnTo>
                  <a:pt x="276" y="757"/>
                </a:lnTo>
                <a:lnTo>
                  <a:pt x="273" y="753"/>
                </a:lnTo>
                <a:lnTo>
                  <a:pt x="279" y="751"/>
                </a:lnTo>
                <a:lnTo>
                  <a:pt x="279" y="748"/>
                </a:lnTo>
                <a:lnTo>
                  <a:pt x="278" y="729"/>
                </a:lnTo>
                <a:lnTo>
                  <a:pt x="273" y="724"/>
                </a:lnTo>
                <a:lnTo>
                  <a:pt x="268" y="727"/>
                </a:lnTo>
                <a:lnTo>
                  <a:pt x="259" y="723"/>
                </a:lnTo>
                <a:lnTo>
                  <a:pt x="260" y="719"/>
                </a:lnTo>
                <a:lnTo>
                  <a:pt x="260" y="714"/>
                </a:lnTo>
                <a:lnTo>
                  <a:pt x="269" y="713"/>
                </a:lnTo>
                <a:lnTo>
                  <a:pt x="271" y="709"/>
                </a:lnTo>
                <a:lnTo>
                  <a:pt x="268" y="699"/>
                </a:lnTo>
                <a:lnTo>
                  <a:pt x="259" y="695"/>
                </a:lnTo>
                <a:lnTo>
                  <a:pt x="248" y="698"/>
                </a:lnTo>
                <a:lnTo>
                  <a:pt x="240" y="697"/>
                </a:lnTo>
                <a:lnTo>
                  <a:pt x="239" y="694"/>
                </a:lnTo>
                <a:lnTo>
                  <a:pt x="248" y="684"/>
                </a:lnTo>
                <a:lnTo>
                  <a:pt x="245" y="675"/>
                </a:lnTo>
                <a:lnTo>
                  <a:pt x="252" y="669"/>
                </a:lnTo>
                <a:lnTo>
                  <a:pt x="252" y="664"/>
                </a:lnTo>
                <a:lnTo>
                  <a:pt x="259" y="661"/>
                </a:lnTo>
                <a:lnTo>
                  <a:pt x="259" y="656"/>
                </a:lnTo>
                <a:lnTo>
                  <a:pt x="264" y="658"/>
                </a:lnTo>
                <a:lnTo>
                  <a:pt x="260" y="651"/>
                </a:lnTo>
                <a:lnTo>
                  <a:pt x="263" y="649"/>
                </a:lnTo>
                <a:lnTo>
                  <a:pt x="263" y="645"/>
                </a:lnTo>
                <a:lnTo>
                  <a:pt x="269" y="645"/>
                </a:lnTo>
                <a:lnTo>
                  <a:pt x="269" y="644"/>
                </a:lnTo>
                <a:lnTo>
                  <a:pt x="272" y="640"/>
                </a:lnTo>
                <a:lnTo>
                  <a:pt x="276" y="640"/>
                </a:lnTo>
                <a:lnTo>
                  <a:pt x="279" y="632"/>
                </a:lnTo>
                <a:lnTo>
                  <a:pt x="286" y="630"/>
                </a:lnTo>
                <a:lnTo>
                  <a:pt x="287" y="632"/>
                </a:lnTo>
                <a:lnTo>
                  <a:pt x="298" y="635"/>
                </a:lnTo>
                <a:lnTo>
                  <a:pt x="305" y="631"/>
                </a:lnTo>
                <a:lnTo>
                  <a:pt x="306" y="630"/>
                </a:lnTo>
                <a:lnTo>
                  <a:pt x="305" y="626"/>
                </a:lnTo>
                <a:lnTo>
                  <a:pt x="312" y="616"/>
                </a:lnTo>
                <a:lnTo>
                  <a:pt x="312" y="612"/>
                </a:lnTo>
                <a:lnTo>
                  <a:pt x="316" y="612"/>
                </a:lnTo>
                <a:lnTo>
                  <a:pt x="321" y="615"/>
                </a:lnTo>
                <a:lnTo>
                  <a:pt x="327" y="608"/>
                </a:lnTo>
                <a:lnTo>
                  <a:pt x="323" y="602"/>
                </a:lnTo>
                <a:lnTo>
                  <a:pt x="326" y="600"/>
                </a:lnTo>
                <a:lnTo>
                  <a:pt x="328" y="592"/>
                </a:lnTo>
                <a:lnTo>
                  <a:pt x="330" y="602"/>
                </a:lnTo>
                <a:lnTo>
                  <a:pt x="332" y="597"/>
                </a:lnTo>
                <a:lnTo>
                  <a:pt x="334" y="597"/>
                </a:lnTo>
                <a:lnTo>
                  <a:pt x="330" y="612"/>
                </a:lnTo>
                <a:lnTo>
                  <a:pt x="341" y="611"/>
                </a:lnTo>
                <a:lnTo>
                  <a:pt x="351" y="602"/>
                </a:lnTo>
                <a:lnTo>
                  <a:pt x="355" y="605"/>
                </a:lnTo>
                <a:lnTo>
                  <a:pt x="354" y="614"/>
                </a:lnTo>
                <a:lnTo>
                  <a:pt x="356" y="615"/>
                </a:lnTo>
                <a:lnTo>
                  <a:pt x="350" y="620"/>
                </a:lnTo>
                <a:lnTo>
                  <a:pt x="344" y="620"/>
                </a:lnTo>
                <a:lnTo>
                  <a:pt x="342" y="622"/>
                </a:lnTo>
                <a:lnTo>
                  <a:pt x="345" y="622"/>
                </a:lnTo>
                <a:lnTo>
                  <a:pt x="349" y="631"/>
                </a:lnTo>
                <a:lnTo>
                  <a:pt x="356" y="630"/>
                </a:lnTo>
                <a:lnTo>
                  <a:pt x="357" y="634"/>
                </a:lnTo>
                <a:lnTo>
                  <a:pt x="361" y="630"/>
                </a:lnTo>
                <a:lnTo>
                  <a:pt x="369" y="632"/>
                </a:lnTo>
                <a:lnTo>
                  <a:pt x="364" y="639"/>
                </a:lnTo>
                <a:lnTo>
                  <a:pt x="365" y="640"/>
                </a:lnTo>
                <a:lnTo>
                  <a:pt x="373" y="639"/>
                </a:lnTo>
                <a:lnTo>
                  <a:pt x="374" y="642"/>
                </a:lnTo>
                <a:lnTo>
                  <a:pt x="381" y="634"/>
                </a:lnTo>
                <a:lnTo>
                  <a:pt x="384" y="637"/>
                </a:lnTo>
                <a:lnTo>
                  <a:pt x="386" y="637"/>
                </a:lnTo>
                <a:lnTo>
                  <a:pt x="386" y="634"/>
                </a:lnTo>
                <a:lnTo>
                  <a:pt x="389" y="635"/>
                </a:lnTo>
                <a:lnTo>
                  <a:pt x="391" y="636"/>
                </a:lnTo>
                <a:lnTo>
                  <a:pt x="393" y="644"/>
                </a:lnTo>
                <a:lnTo>
                  <a:pt x="400" y="641"/>
                </a:lnTo>
                <a:lnTo>
                  <a:pt x="400" y="637"/>
                </a:lnTo>
                <a:lnTo>
                  <a:pt x="404" y="637"/>
                </a:lnTo>
                <a:lnTo>
                  <a:pt x="405" y="630"/>
                </a:lnTo>
                <a:lnTo>
                  <a:pt x="409" y="630"/>
                </a:lnTo>
                <a:lnTo>
                  <a:pt x="414" y="634"/>
                </a:lnTo>
                <a:lnTo>
                  <a:pt x="408" y="641"/>
                </a:lnTo>
                <a:lnTo>
                  <a:pt x="410" y="640"/>
                </a:lnTo>
                <a:lnTo>
                  <a:pt x="423" y="625"/>
                </a:lnTo>
                <a:lnTo>
                  <a:pt x="436" y="621"/>
                </a:lnTo>
                <a:lnTo>
                  <a:pt x="434" y="616"/>
                </a:lnTo>
                <a:lnTo>
                  <a:pt x="424" y="611"/>
                </a:lnTo>
                <a:lnTo>
                  <a:pt x="437" y="612"/>
                </a:lnTo>
                <a:lnTo>
                  <a:pt x="438" y="616"/>
                </a:lnTo>
                <a:lnTo>
                  <a:pt x="441" y="620"/>
                </a:lnTo>
                <a:lnTo>
                  <a:pt x="442" y="615"/>
                </a:lnTo>
                <a:lnTo>
                  <a:pt x="438" y="607"/>
                </a:lnTo>
                <a:lnTo>
                  <a:pt x="434" y="605"/>
                </a:lnTo>
                <a:lnTo>
                  <a:pt x="432" y="606"/>
                </a:lnTo>
                <a:lnTo>
                  <a:pt x="429" y="603"/>
                </a:lnTo>
                <a:lnTo>
                  <a:pt x="433" y="600"/>
                </a:lnTo>
                <a:lnTo>
                  <a:pt x="428" y="593"/>
                </a:lnTo>
                <a:lnTo>
                  <a:pt x="420" y="596"/>
                </a:lnTo>
                <a:lnTo>
                  <a:pt x="418" y="593"/>
                </a:lnTo>
                <a:lnTo>
                  <a:pt x="412" y="593"/>
                </a:lnTo>
                <a:lnTo>
                  <a:pt x="408" y="597"/>
                </a:lnTo>
                <a:lnTo>
                  <a:pt x="404" y="596"/>
                </a:lnTo>
                <a:lnTo>
                  <a:pt x="405" y="590"/>
                </a:lnTo>
                <a:lnTo>
                  <a:pt x="404" y="587"/>
                </a:lnTo>
                <a:lnTo>
                  <a:pt x="404" y="582"/>
                </a:lnTo>
                <a:lnTo>
                  <a:pt x="398" y="582"/>
                </a:lnTo>
                <a:lnTo>
                  <a:pt x="398" y="578"/>
                </a:lnTo>
                <a:lnTo>
                  <a:pt x="405" y="568"/>
                </a:lnTo>
                <a:lnTo>
                  <a:pt x="405" y="563"/>
                </a:lnTo>
                <a:lnTo>
                  <a:pt x="396" y="562"/>
                </a:lnTo>
                <a:lnTo>
                  <a:pt x="396" y="556"/>
                </a:lnTo>
                <a:lnTo>
                  <a:pt x="394" y="553"/>
                </a:lnTo>
                <a:lnTo>
                  <a:pt x="391" y="554"/>
                </a:lnTo>
                <a:lnTo>
                  <a:pt x="388" y="552"/>
                </a:lnTo>
                <a:lnTo>
                  <a:pt x="388" y="549"/>
                </a:lnTo>
                <a:lnTo>
                  <a:pt x="384" y="553"/>
                </a:lnTo>
                <a:lnTo>
                  <a:pt x="380" y="552"/>
                </a:lnTo>
                <a:lnTo>
                  <a:pt x="378" y="551"/>
                </a:lnTo>
                <a:lnTo>
                  <a:pt x="380" y="547"/>
                </a:lnTo>
                <a:lnTo>
                  <a:pt x="379" y="537"/>
                </a:lnTo>
                <a:lnTo>
                  <a:pt x="385" y="537"/>
                </a:lnTo>
                <a:lnTo>
                  <a:pt x="389" y="535"/>
                </a:lnTo>
                <a:lnTo>
                  <a:pt x="386" y="535"/>
                </a:lnTo>
                <a:lnTo>
                  <a:pt x="388" y="533"/>
                </a:lnTo>
                <a:lnTo>
                  <a:pt x="395" y="533"/>
                </a:lnTo>
                <a:lnTo>
                  <a:pt x="390" y="532"/>
                </a:lnTo>
                <a:lnTo>
                  <a:pt x="391" y="527"/>
                </a:lnTo>
                <a:lnTo>
                  <a:pt x="388" y="524"/>
                </a:lnTo>
                <a:lnTo>
                  <a:pt x="390" y="523"/>
                </a:lnTo>
                <a:lnTo>
                  <a:pt x="389" y="520"/>
                </a:lnTo>
                <a:lnTo>
                  <a:pt x="381" y="520"/>
                </a:lnTo>
                <a:lnTo>
                  <a:pt x="386" y="518"/>
                </a:lnTo>
                <a:lnTo>
                  <a:pt x="386" y="515"/>
                </a:lnTo>
                <a:lnTo>
                  <a:pt x="384" y="515"/>
                </a:lnTo>
                <a:lnTo>
                  <a:pt x="383" y="509"/>
                </a:lnTo>
                <a:lnTo>
                  <a:pt x="386" y="506"/>
                </a:lnTo>
                <a:lnTo>
                  <a:pt x="384" y="504"/>
                </a:lnTo>
                <a:lnTo>
                  <a:pt x="388" y="501"/>
                </a:lnTo>
                <a:lnTo>
                  <a:pt x="388" y="499"/>
                </a:lnTo>
                <a:lnTo>
                  <a:pt x="385" y="498"/>
                </a:lnTo>
                <a:lnTo>
                  <a:pt x="380" y="503"/>
                </a:lnTo>
                <a:lnTo>
                  <a:pt x="381" y="499"/>
                </a:lnTo>
                <a:lnTo>
                  <a:pt x="379" y="496"/>
                </a:lnTo>
                <a:lnTo>
                  <a:pt x="374" y="499"/>
                </a:lnTo>
                <a:lnTo>
                  <a:pt x="374" y="504"/>
                </a:lnTo>
                <a:lnTo>
                  <a:pt x="369" y="505"/>
                </a:lnTo>
                <a:lnTo>
                  <a:pt x="365" y="510"/>
                </a:lnTo>
                <a:lnTo>
                  <a:pt x="364" y="508"/>
                </a:lnTo>
                <a:lnTo>
                  <a:pt x="360" y="509"/>
                </a:lnTo>
                <a:lnTo>
                  <a:pt x="357" y="508"/>
                </a:lnTo>
                <a:lnTo>
                  <a:pt x="356" y="510"/>
                </a:lnTo>
                <a:lnTo>
                  <a:pt x="350" y="508"/>
                </a:lnTo>
                <a:lnTo>
                  <a:pt x="349" y="514"/>
                </a:lnTo>
                <a:lnTo>
                  <a:pt x="351" y="515"/>
                </a:lnTo>
                <a:lnTo>
                  <a:pt x="351" y="520"/>
                </a:lnTo>
                <a:lnTo>
                  <a:pt x="356" y="532"/>
                </a:lnTo>
                <a:lnTo>
                  <a:pt x="354" y="533"/>
                </a:lnTo>
                <a:lnTo>
                  <a:pt x="347" y="529"/>
                </a:lnTo>
                <a:lnTo>
                  <a:pt x="339" y="532"/>
                </a:lnTo>
                <a:lnTo>
                  <a:pt x="337" y="535"/>
                </a:lnTo>
                <a:lnTo>
                  <a:pt x="334" y="535"/>
                </a:lnTo>
                <a:lnTo>
                  <a:pt x="335" y="528"/>
                </a:lnTo>
                <a:lnTo>
                  <a:pt x="326" y="524"/>
                </a:lnTo>
                <a:lnTo>
                  <a:pt x="321" y="530"/>
                </a:lnTo>
                <a:lnTo>
                  <a:pt x="316" y="532"/>
                </a:lnTo>
                <a:lnTo>
                  <a:pt x="316" y="534"/>
                </a:lnTo>
                <a:lnTo>
                  <a:pt x="312" y="532"/>
                </a:lnTo>
                <a:lnTo>
                  <a:pt x="313" y="528"/>
                </a:lnTo>
                <a:lnTo>
                  <a:pt x="311" y="527"/>
                </a:lnTo>
                <a:lnTo>
                  <a:pt x="316" y="517"/>
                </a:lnTo>
                <a:lnTo>
                  <a:pt x="315" y="513"/>
                </a:lnTo>
                <a:lnTo>
                  <a:pt x="313" y="515"/>
                </a:lnTo>
                <a:lnTo>
                  <a:pt x="315" y="517"/>
                </a:lnTo>
                <a:lnTo>
                  <a:pt x="311" y="522"/>
                </a:lnTo>
                <a:lnTo>
                  <a:pt x="310" y="520"/>
                </a:lnTo>
                <a:lnTo>
                  <a:pt x="312" y="518"/>
                </a:lnTo>
                <a:lnTo>
                  <a:pt x="305" y="519"/>
                </a:lnTo>
                <a:lnTo>
                  <a:pt x="303" y="515"/>
                </a:lnTo>
                <a:lnTo>
                  <a:pt x="302" y="517"/>
                </a:lnTo>
                <a:lnTo>
                  <a:pt x="305" y="523"/>
                </a:lnTo>
                <a:lnTo>
                  <a:pt x="302" y="527"/>
                </a:lnTo>
                <a:lnTo>
                  <a:pt x="299" y="519"/>
                </a:lnTo>
                <a:lnTo>
                  <a:pt x="293" y="517"/>
                </a:lnTo>
                <a:lnTo>
                  <a:pt x="289" y="520"/>
                </a:lnTo>
                <a:lnTo>
                  <a:pt x="287" y="518"/>
                </a:lnTo>
                <a:lnTo>
                  <a:pt x="286" y="519"/>
                </a:lnTo>
                <a:lnTo>
                  <a:pt x="284" y="518"/>
                </a:lnTo>
                <a:lnTo>
                  <a:pt x="273" y="520"/>
                </a:lnTo>
                <a:lnTo>
                  <a:pt x="268" y="524"/>
                </a:lnTo>
                <a:lnTo>
                  <a:pt x="260" y="522"/>
                </a:lnTo>
                <a:lnTo>
                  <a:pt x="254" y="525"/>
                </a:lnTo>
                <a:lnTo>
                  <a:pt x="258" y="522"/>
                </a:lnTo>
                <a:lnTo>
                  <a:pt x="254" y="522"/>
                </a:lnTo>
                <a:lnTo>
                  <a:pt x="248" y="513"/>
                </a:lnTo>
                <a:lnTo>
                  <a:pt x="248" y="509"/>
                </a:lnTo>
                <a:lnTo>
                  <a:pt x="245" y="509"/>
                </a:lnTo>
                <a:lnTo>
                  <a:pt x="243" y="505"/>
                </a:lnTo>
                <a:lnTo>
                  <a:pt x="243" y="499"/>
                </a:lnTo>
                <a:lnTo>
                  <a:pt x="240" y="498"/>
                </a:lnTo>
                <a:lnTo>
                  <a:pt x="238" y="494"/>
                </a:lnTo>
                <a:lnTo>
                  <a:pt x="233" y="491"/>
                </a:lnTo>
                <a:lnTo>
                  <a:pt x="233" y="489"/>
                </a:lnTo>
                <a:lnTo>
                  <a:pt x="228" y="481"/>
                </a:lnTo>
                <a:lnTo>
                  <a:pt x="220" y="478"/>
                </a:lnTo>
                <a:lnTo>
                  <a:pt x="219" y="474"/>
                </a:lnTo>
                <a:lnTo>
                  <a:pt x="208" y="470"/>
                </a:lnTo>
                <a:lnTo>
                  <a:pt x="201" y="466"/>
                </a:lnTo>
                <a:lnTo>
                  <a:pt x="197" y="467"/>
                </a:lnTo>
                <a:lnTo>
                  <a:pt x="190" y="462"/>
                </a:lnTo>
                <a:lnTo>
                  <a:pt x="186" y="464"/>
                </a:lnTo>
                <a:lnTo>
                  <a:pt x="184" y="460"/>
                </a:lnTo>
                <a:lnTo>
                  <a:pt x="180" y="460"/>
                </a:lnTo>
                <a:lnTo>
                  <a:pt x="177" y="462"/>
                </a:lnTo>
                <a:lnTo>
                  <a:pt x="174" y="460"/>
                </a:lnTo>
                <a:lnTo>
                  <a:pt x="174" y="457"/>
                </a:lnTo>
                <a:lnTo>
                  <a:pt x="169" y="451"/>
                </a:lnTo>
                <a:lnTo>
                  <a:pt x="167" y="446"/>
                </a:lnTo>
                <a:lnTo>
                  <a:pt x="169" y="447"/>
                </a:lnTo>
                <a:lnTo>
                  <a:pt x="170" y="445"/>
                </a:lnTo>
                <a:lnTo>
                  <a:pt x="162" y="441"/>
                </a:lnTo>
                <a:lnTo>
                  <a:pt x="163" y="438"/>
                </a:lnTo>
                <a:lnTo>
                  <a:pt x="157" y="435"/>
                </a:lnTo>
                <a:lnTo>
                  <a:pt x="150" y="433"/>
                </a:lnTo>
                <a:lnTo>
                  <a:pt x="150" y="431"/>
                </a:lnTo>
                <a:lnTo>
                  <a:pt x="143" y="430"/>
                </a:lnTo>
                <a:lnTo>
                  <a:pt x="142" y="418"/>
                </a:lnTo>
                <a:lnTo>
                  <a:pt x="134" y="416"/>
                </a:lnTo>
                <a:lnTo>
                  <a:pt x="131" y="407"/>
                </a:lnTo>
                <a:lnTo>
                  <a:pt x="132" y="404"/>
                </a:lnTo>
                <a:lnTo>
                  <a:pt x="129" y="402"/>
                </a:lnTo>
                <a:lnTo>
                  <a:pt x="128" y="402"/>
                </a:lnTo>
                <a:lnTo>
                  <a:pt x="129" y="401"/>
                </a:lnTo>
                <a:lnTo>
                  <a:pt x="122" y="388"/>
                </a:lnTo>
                <a:lnTo>
                  <a:pt x="117" y="384"/>
                </a:lnTo>
                <a:lnTo>
                  <a:pt x="104" y="364"/>
                </a:lnTo>
                <a:lnTo>
                  <a:pt x="100" y="360"/>
                </a:lnTo>
                <a:lnTo>
                  <a:pt x="95" y="350"/>
                </a:lnTo>
                <a:lnTo>
                  <a:pt x="93" y="349"/>
                </a:lnTo>
                <a:lnTo>
                  <a:pt x="94" y="347"/>
                </a:lnTo>
                <a:lnTo>
                  <a:pt x="92" y="345"/>
                </a:lnTo>
                <a:lnTo>
                  <a:pt x="93" y="344"/>
                </a:lnTo>
                <a:lnTo>
                  <a:pt x="83" y="320"/>
                </a:lnTo>
                <a:lnTo>
                  <a:pt x="92" y="277"/>
                </a:lnTo>
                <a:lnTo>
                  <a:pt x="97" y="266"/>
                </a:lnTo>
                <a:lnTo>
                  <a:pt x="97" y="248"/>
                </a:lnTo>
                <a:lnTo>
                  <a:pt x="79" y="227"/>
                </a:lnTo>
                <a:lnTo>
                  <a:pt x="69" y="217"/>
                </a:lnTo>
                <a:lnTo>
                  <a:pt x="58" y="211"/>
                </a:lnTo>
                <a:lnTo>
                  <a:pt x="45" y="187"/>
                </a:lnTo>
                <a:lnTo>
                  <a:pt x="27" y="183"/>
                </a:lnTo>
                <a:lnTo>
                  <a:pt x="17" y="165"/>
                </a:lnTo>
                <a:lnTo>
                  <a:pt x="15" y="155"/>
                </a:lnTo>
                <a:lnTo>
                  <a:pt x="5" y="144"/>
                </a:lnTo>
                <a:lnTo>
                  <a:pt x="6" y="136"/>
                </a:lnTo>
                <a:lnTo>
                  <a:pt x="1" y="126"/>
                </a:lnTo>
                <a:lnTo>
                  <a:pt x="0" y="107"/>
                </a:lnTo>
                <a:lnTo>
                  <a:pt x="5" y="96"/>
                </a:lnTo>
                <a:lnTo>
                  <a:pt x="5" y="90"/>
                </a:lnTo>
                <a:lnTo>
                  <a:pt x="10" y="85"/>
                </a:lnTo>
                <a:lnTo>
                  <a:pt x="11" y="76"/>
                </a:lnTo>
                <a:lnTo>
                  <a:pt x="19" y="68"/>
                </a:lnTo>
                <a:lnTo>
                  <a:pt x="19" y="63"/>
                </a:lnTo>
                <a:lnTo>
                  <a:pt x="27" y="57"/>
                </a:lnTo>
                <a:lnTo>
                  <a:pt x="27" y="52"/>
                </a:lnTo>
                <a:lnTo>
                  <a:pt x="29" y="52"/>
                </a:lnTo>
                <a:lnTo>
                  <a:pt x="30" y="47"/>
                </a:lnTo>
                <a:lnTo>
                  <a:pt x="34" y="39"/>
                </a:lnTo>
                <a:lnTo>
                  <a:pt x="41" y="33"/>
                </a:lnTo>
                <a:lnTo>
                  <a:pt x="61" y="27"/>
                </a:lnTo>
                <a:lnTo>
                  <a:pt x="65" y="22"/>
                </a:lnTo>
                <a:lnTo>
                  <a:pt x="66" y="23"/>
                </a:lnTo>
                <a:lnTo>
                  <a:pt x="75" y="20"/>
                </a:lnTo>
                <a:lnTo>
                  <a:pt x="78" y="17"/>
                </a:lnTo>
                <a:lnTo>
                  <a:pt x="84" y="14"/>
                </a:lnTo>
                <a:lnTo>
                  <a:pt x="88" y="8"/>
                </a:lnTo>
                <a:lnTo>
                  <a:pt x="94" y="9"/>
                </a:lnTo>
                <a:lnTo>
                  <a:pt x="108" y="4"/>
                </a:lnTo>
                <a:close/>
                <a:moveTo>
                  <a:pt x="672" y="772"/>
                </a:moveTo>
                <a:lnTo>
                  <a:pt x="687" y="767"/>
                </a:lnTo>
                <a:lnTo>
                  <a:pt x="690" y="762"/>
                </a:lnTo>
                <a:lnTo>
                  <a:pt x="687" y="766"/>
                </a:lnTo>
                <a:lnTo>
                  <a:pt x="672" y="772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546120" y="277920"/>
            <a:ext cx="582120" cy="510840"/>
            <a:chOff x="546120" y="277920"/>
            <a:chExt cx="582120" cy="510840"/>
          </a:xfrm>
        </p:grpSpPr>
        <p:sp>
          <p:nvSpPr>
            <p:cNvPr id="4" name=""/>
            <p:cNvSpPr/>
            <p:nvPr/>
          </p:nvSpPr>
          <p:spPr>
            <a:xfrm flipH="1">
              <a:off x="546120" y="277920"/>
              <a:ext cx="134640" cy="137160"/>
            </a:xfrm>
            <a:custGeom>
              <a:avLst/>
              <a:gdLst/>
              <a:ahLst/>
              <a:rect l="l" t="t" r="r" b="b"/>
              <a:pathLst>
                <a:path w="883" h="1266">
                  <a:moveTo>
                    <a:pt x="0" y="1173"/>
                  </a:moveTo>
                  <a:cubicBezTo>
                    <a:pt x="105" y="1127"/>
                    <a:pt x="215" y="1090"/>
                    <a:pt x="316" y="1035"/>
                  </a:cubicBezTo>
                  <a:cubicBezTo>
                    <a:pt x="544" y="911"/>
                    <a:pt x="789" y="587"/>
                    <a:pt x="883" y="349"/>
                  </a:cubicBezTo>
                  <a:cubicBezTo>
                    <a:pt x="881" y="270"/>
                    <a:pt x="881" y="191"/>
                    <a:pt x="877" y="112"/>
                  </a:cubicBezTo>
                  <a:cubicBezTo>
                    <a:pt x="876" y="93"/>
                    <a:pt x="873" y="16"/>
                    <a:pt x="844" y="6"/>
                  </a:cubicBezTo>
                  <a:cubicBezTo>
                    <a:pt x="829" y="1"/>
                    <a:pt x="813" y="2"/>
                    <a:pt x="798" y="0"/>
                  </a:cubicBezTo>
                  <a:cubicBezTo>
                    <a:pt x="731" y="16"/>
                    <a:pt x="700" y="50"/>
                    <a:pt x="653" y="99"/>
                  </a:cubicBezTo>
                  <a:cubicBezTo>
                    <a:pt x="617" y="208"/>
                    <a:pt x="677" y="51"/>
                    <a:pt x="587" y="178"/>
                  </a:cubicBezTo>
                  <a:cubicBezTo>
                    <a:pt x="577" y="192"/>
                    <a:pt x="552" y="303"/>
                    <a:pt x="547" y="323"/>
                  </a:cubicBezTo>
                  <a:cubicBezTo>
                    <a:pt x="545" y="341"/>
                    <a:pt x="544" y="358"/>
                    <a:pt x="541" y="376"/>
                  </a:cubicBezTo>
                  <a:cubicBezTo>
                    <a:pt x="537" y="398"/>
                    <a:pt x="530" y="420"/>
                    <a:pt x="527" y="442"/>
                  </a:cubicBezTo>
                  <a:cubicBezTo>
                    <a:pt x="521" y="490"/>
                    <a:pt x="514" y="587"/>
                    <a:pt x="514" y="587"/>
                  </a:cubicBezTo>
                  <a:cubicBezTo>
                    <a:pt x="525" y="878"/>
                    <a:pt x="508" y="835"/>
                    <a:pt x="541" y="1009"/>
                  </a:cubicBezTo>
                  <a:cubicBezTo>
                    <a:pt x="553" y="1075"/>
                    <a:pt x="564" y="1141"/>
                    <a:pt x="580" y="1206"/>
                  </a:cubicBezTo>
                  <a:cubicBezTo>
                    <a:pt x="594" y="1262"/>
                    <a:pt x="605" y="1245"/>
                    <a:pt x="587" y="1266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5" name=""/>
            <p:cNvGraphicFramePr/>
            <p:nvPr/>
          </p:nvGraphicFramePr>
          <p:xfrm>
            <a:off x="673200" y="395640"/>
            <a:ext cx="455040" cy="393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73200" y="395640"/>
                      <a:ext cx="455040" cy="39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4200" y="1100160"/>
            <a:ext cx="6864480" cy="115560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0" lang="en-US" sz="2000" spc="-1" strike="noStrike">
                <a:solidFill>
                  <a:srgbClr val="2bffff"/>
                </a:solidFill>
                <a:latin typeface="Arial"/>
              </a:rPr>
              <a:t>MODELE DE PROGRAMMES D ’INTERVENTION </a:t>
            </a:r>
            <a:br>
              <a:rPr sz="2000"/>
            </a:br>
            <a:r>
              <a:rPr b="0" lang="en-US" sz="2000" spc="-1" strike="noStrike">
                <a:solidFill>
                  <a:srgbClr val="2bffff"/>
                </a:solidFill>
                <a:latin typeface="Arial"/>
              </a:rPr>
              <a:t>SUR L ’OBSERVANCE AUX ANTIRÉTROVIRAUX </a:t>
            </a:r>
            <a:br>
              <a:rPr sz="2000"/>
            </a:br>
            <a:endParaRPr b="0" lang="en-US" sz="2000" spc="-1" strike="noStrike">
              <a:solidFill>
                <a:srgbClr val="2b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90400" y="2476080"/>
            <a:ext cx="6220080" cy="126540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1680" bIns="31680" anchor="t">
            <a:noAutofit/>
          </a:bodyPr>
          <a:p>
            <a:pPr indent="0" algn="ctr">
              <a:buNone/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Catherine Tourette-Turgis,</a:t>
            </a:r>
            <a:br>
              <a:rPr sz="2000"/>
            </a:b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aryline Rébillon</a:t>
            </a:r>
            <a:br>
              <a:rPr sz="2000"/>
            </a:b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COMMENT DIRE, Par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Décembre 2002, São Paulo (Brésil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3920" y="3759120"/>
            <a:ext cx="124776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3560" y="115920"/>
            <a:ext cx="6862680" cy="59544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1" lang="en-US" sz="2000" spc="-1" strike="noStrike">
                <a:solidFill>
                  <a:srgbClr val="2bffff"/>
                </a:solidFill>
                <a:latin typeface="Arial"/>
              </a:rPr>
              <a:t>Exemples de programmes</a:t>
            </a:r>
            <a:endParaRPr b="0" lang="en-US" sz="2000" spc="-1" strike="noStrike">
              <a:solidFill>
                <a:srgbClr val="2b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4880" y="984240"/>
            <a:ext cx="5877000" cy="722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1680" bIns="31680" anchor="t">
            <a:noAutofit/>
          </a:bodyPr>
          <a:p>
            <a:pPr marL="379440" indent="-379440">
              <a:spcBef>
                <a:spcPts val="499"/>
              </a:spcBef>
              <a:buClr>
                <a:srgbClr val="ffffff"/>
              </a:buClr>
              <a:buSzPct val="125000"/>
              <a:buFont typeface="Arial"/>
              <a:buAutoNum type="arabicPeriod"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 consultation d’observance du CHU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 N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58760" y="1898640"/>
            <a:ext cx="588492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1680" bIns="31680" anchor="t">
            <a:noAutofit/>
          </a:bodyPr>
          <a:p>
            <a:pPr marL="379440" indent="-3794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125000"/>
              <a:buFont typeface="Arial"/>
              <a:buAutoNum type="arabicPeriod" startAt="2"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La consultation de préparation au traitement du CHU de Fort de France (Martiniqu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04840" y="2840040"/>
            <a:ext cx="589428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1680" bIns="31680" anchor="t">
            <a:noAutofit/>
          </a:bodyPr>
          <a:p>
            <a:pPr marL="379440" indent="-3794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125000"/>
              <a:buFont typeface="Arial"/>
              <a:buAutoNum type="arabicPeriod" startAt="3"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La consultation d’observance et de prévention de l’association Kiosque Info Sida (Pari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821200" y="4535640"/>
            <a:ext cx="129384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1680" bIns="3168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0" lang="en-US" sz="1000" spc="-1" strike="noStrike">
                <a:solidFill>
                  <a:srgbClr val="000020"/>
                </a:solidFill>
                <a:latin typeface="Arial"/>
              </a:rPr>
              <a:t>C</a:t>
            </a:r>
            <a:r>
              <a:rPr b="0" lang="en-US" sz="1000" spc="-1" strike="noStrike">
                <a:solidFill>
                  <a:srgbClr val="f71742"/>
                </a:solidFill>
                <a:latin typeface="Arial"/>
              </a:rPr>
              <a:t>o</a:t>
            </a:r>
            <a:r>
              <a:rPr b="0" lang="en-US" sz="1000" spc="-1" strike="noStrike">
                <a:solidFill>
                  <a:srgbClr val="000020"/>
                </a:solidFill>
                <a:latin typeface="Arial"/>
              </a:rPr>
              <a:t>mment Dir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4200" y="133200"/>
            <a:ext cx="6864480" cy="6033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1" lang="en-US" sz="2000" spc="-1" strike="noStrike">
                <a:solidFill>
                  <a:srgbClr val="2bffff"/>
                </a:solidFill>
                <a:latin typeface="Arial"/>
              </a:rPr>
              <a:t>1. Consultation « Observance » de Nice</a:t>
            </a:r>
            <a:endParaRPr b="0" lang="en-US" sz="2000" spc="-1" strike="noStrike">
              <a:solidFill>
                <a:srgbClr val="2b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101600" y="1145880"/>
            <a:ext cx="5988240" cy="35244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1680" bIns="31680" anchor="t">
            <a:noAutofit/>
          </a:bodyPr>
          <a:p>
            <a:pPr>
              <a:spcBef>
                <a:spcPts val="425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Public cible 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060560" y="2630520"/>
            <a:ext cx="601488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1680" bIns="31680" anchor="t">
            <a:noAutofit/>
          </a:bodyPr>
          <a:p>
            <a:pPr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Fréquence des entretiens :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44720" y="2986200"/>
            <a:ext cx="6022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1680" bIns="31680" anchor="t">
            <a:noAutofit/>
          </a:bodyPr>
          <a:p>
            <a:pPr lvl="1" marL="32544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SzPct val="125000"/>
              <a:buFont typeface="Wingdings" charset="2"/>
              <a:buChar char=""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4 entretiens (40 mns) sur 6 mois (1 entretien / 2 mois calés sur la fréquence des consultations médicale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87560" y="1901880"/>
            <a:ext cx="601668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1680" bIns="31680" anchor="t">
            <a:noAutofit/>
          </a:bodyPr>
          <a:p>
            <a:pPr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Intervenants :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65240" y="2219400"/>
            <a:ext cx="601488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1680" bIns="31680" anchor="t">
            <a:noAutofit/>
          </a:bodyPr>
          <a:p>
            <a:pPr lvl="1" marL="32544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SzPct val="125000"/>
              <a:buFont typeface="Wingdings" charset="2"/>
              <a:buChar char=""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 infirmières des 3 services, 1 médecin coordinateu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14560" y="1476360"/>
            <a:ext cx="60163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1680" bIns="31680" anchor="t">
            <a:noAutofit/>
          </a:bodyPr>
          <a:p>
            <a:pPr lvl="1" marL="32544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SzPct val="125000"/>
              <a:buFont typeface="Wingdings" charset="2"/>
              <a:buChar char=""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atients en traitement suivis dans 3 services du CHU N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46160" y="3556080"/>
            <a:ext cx="601668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1680" bIns="31680" anchor="t">
            <a:noAutofit/>
          </a:bodyPr>
          <a:p>
            <a:pPr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Outils :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79640" y="3956040"/>
            <a:ext cx="60163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1680" bIns="31680" anchor="t">
            <a:noAutofit/>
          </a:bodyPr>
          <a:p>
            <a:pPr lvl="1" marL="325440"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SzPct val="125000"/>
              <a:buFont typeface="Wingdings" charset="2"/>
              <a:buChar char=""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28880" y="3968640"/>
            <a:ext cx="6024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1680" bIns="31680" anchor="t">
            <a:noAutofit/>
          </a:bodyPr>
          <a:p>
            <a:pPr lvl="1" marL="32544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SzPct val="125000"/>
              <a:buFont typeface="Wingdings" charset="2"/>
              <a:buChar char=""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uide d’entretien, fiche diagnostic infirmier, fiche de suivi insérée dans le dossier médical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821200" y="4535640"/>
            <a:ext cx="129384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1680" bIns="3168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0" lang="en-US" sz="1000" spc="-1" strike="noStrike">
                <a:solidFill>
                  <a:srgbClr val="000020"/>
                </a:solidFill>
                <a:latin typeface="Arial"/>
              </a:rPr>
              <a:t>C</a:t>
            </a:r>
            <a:r>
              <a:rPr b="0" lang="en-US" sz="1000" spc="-1" strike="noStrike">
                <a:solidFill>
                  <a:srgbClr val="f71742"/>
                </a:solidFill>
                <a:latin typeface="Arial"/>
              </a:rPr>
              <a:t>o</a:t>
            </a:r>
            <a:r>
              <a:rPr b="0" lang="en-US" sz="1000" spc="-1" strike="noStrike">
                <a:solidFill>
                  <a:srgbClr val="000020"/>
                </a:solidFill>
                <a:latin typeface="Arial"/>
              </a:rPr>
              <a:t>mment Dir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4200" y="204840"/>
            <a:ext cx="6864480" cy="59544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1" lang="en-US" sz="2000" spc="-1" strike="noStrike">
                <a:solidFill>
                  <a:srgbClr val="2bffff"/>
                </a:solidFill>
                <a:latin typeface="Arial"/>
                <a:ea typeface="Times New Roman"/>
              </a:rPr>
              <a:t>2. Consultation de préparation au traitement du CHU de Fort de France (Martinique)</a:t>
            </a:r>
            <a:endParaRPr b="0" lang="en-US" sz="2000" spc="-1" strike="noStrike">
              <a:solidFill>
                <a:srgbClr val="2b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25560" y="865080"/>
            <a:ext cx="5875200" cy="31608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1680" bIns="31680" anchor="t">
            <a:noAutofit/>
          </a:bodyPr>
          <a:p>
            <a:pPr>
              <a:spcBef>
                <a:spcPts val="499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Public cible 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00080" y="1301760"/>
            <a:ext cx="3967560" cy="2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400" bIns="32400" anchor="t">
            <a:spAutoFit/>
          </a:bodyPr>
          <a:p>
            <a:pPr lvl="1" marL="32544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Indication à un traitement antirétrovir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86040" y="1657440"/>
            <a:ext cx="2541240" cy="2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400" bIns="32400" anchor="t">
            <a:spAutoFit/>
          </a:bodyPr>
          <a:p>
            <a:pPr lvl="1" marL="32544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atients jamais traité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88560" y="2001960"/>
            <a:ext cx="510012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400" bIns="32400" anchor="t">
            <a:spAutoFit/>
          </a:bodyPr>
          <a:p>
            <a:pPr lvl="1" marL="32544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atients déjà traités et en arrêt de traitement depuis 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au moins 1 moi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14840" y="2516040"/>
            <a:ext cx="17888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400" bIns="32400" anchor="t">
            <a:spAutoFit/>
          </a:bodyPr>
          <a:p>
            <a:pPr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Intervenants :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24560" y="2935440"/>
            <a:ext cx="2655360" cy="2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400" bIns="32400" anchor="t">
            <a:spAutoFit/>
          </a:bodyPr>
          <a:p>
            <a:pPr lvl="1" marL="32544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édecins prescripteu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27440" y="3236760"/>
            <a:ext cx="3947760" cy="2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400" bIns="32400" anchor="t">
            <a:spAutoFit/>
          </a:bodyPr>
          <a:p>
            <a:pPr lvl="1" marL="32544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 conseillère thérapeutique (infirmière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10160" y="3538440"/>
            <a:ext cx="11138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400" bIns="32400" anchor="t">
            <a:spAutoFit/>
          </a:bodyPr>
          <a:p>
            <a:pPr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Outils :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14480" y="3898800"/>
            <a:ext cx="4892400" cy="2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400" bIns="32400" anchor="t">
            <a:spAutoFit/>
          </a:bodyPr>
          <a:p>
            <a:pPr lvl="1" marL="32544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SzPct val="125000"/>
              <a:buFont typeface="Wingdings" charset="2"/>
              <a:buChar char=""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uide d’entretien, Fiche diagnostic, Fiche de suiv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821200" y="4535640"/>
            <a:ext cx="129384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1680" bIns="3168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0" lang="en-US" sz="1000" spc="-1" strike="noStrike">
                <a:solidFill>
                  <a:srgbClr val="000020"/>
                </a:solidFill>
                <a:latin typeface="Arial"/>
              </a:rPr>
              <a:t>C</a:t>
            </a:r>
            <a:r>
              <a:rPr b="0" lang="en-US" sz="1000" spc="-1" strike="noStrike">
                <a:solidFill>
                  <a:srgbClr val="f71742"/>
                </a:solidFill>
                <a:latin typeface="Arial"/>
              </a:rPr>
              <a:t>o</a:t>
            </a:r>
            <a:r>
              <a:rPr b="0" lang="en-US" sz="1000" spc="-1" strike="noStrike">
                <a:solidFill>
                  <a:srgbClr val="000020"/>
                </a:solidFill>
                <a:latin typeface="Arial"/>
              </a:rPr>
              <a:t>mment Dir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14200" y="286920"/>
            <a:ext cx="6864480" cy="59364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1680" bIns="31680" anchor="ctr">
            <a:noAutofit/>
          </a:bodyPr>
          <a:p>
            <a:pPr indent="0" algn="r">
              <a:buNone/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0" lang="en-US" sz="1400" spc="-1" strike="noStrike">
                <a:solidFill>
                  <a:srgbClr val="2bffff"/>
                </a:solidFill>
                <a:latin typeface="Arial"/>
                <a:ea typeface="Times New Roman"/>
              </a:rPr>
              <a:t>2. Consultation de préparation au traitement </a:t>
            </a:r>
            <a:br>
              <a:rPr sz="1400"/>
            </a:br>
            <a:r>
              <a:rPr b="0" lang="en-US" sz="1400" spc="-1" strike="noStrike">
                <a:solidFill>
                  <a:srgbClr val="2bffff"/>
                </a:solidFill>
                <a:latin typeface="Arial"/>
                <a:ea typeface="Times New Roman"/>
              </a:rPr>
              <a:t>du CHU de Fort de France (Martinique)</a:t>
            </a:r>
            <a:br>
              <a:rPr sz="1400"/>
            </a:br>
            <a:endParaRPr b="0" lang="en-US" sz="1400" spc="-1" strike="noStrike">
              <a:solidFill>
                <a:srgbClr val="2b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925560" y="1037880"/>
            <a:ext cx="5875200" cy="51444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1680" bIns="31680" anchor="t">
            <a:noAutofit/>
          </a:bodyPr>
          <a:p>
            <a:pPr>
              <a:spcBef>
                <a:spcPts val="4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Fréquence des entretiens 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65400" y="2620800"/>
            <a:ext cx="1662120" cy="220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65400" y="2373480"/>
            <a:ext cx="0" cy="990360"/>
          </a:xfrm>
          <a:prstGeom prst="line">
            <a:avLst/>
          </a:prstGeom>
          <a:ln w="57240">
            <a:solidFill>
              <a:srgbClr val="ff0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253200" y="2373480"/>
            <a:ext cx="0" cy="990360"/>
          </a:xfrm>
          <a:prstGeom prst="line">
            <a:avLst/>
          </a:prstGeom>
          <a:ln w="57240">
            <a:solidFill>
              <a:srgbClr val="ff0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73760" y="1963440"/>
            <a:ext cx="1472040" cy="3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400" bIns="32400" anchor="ctr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mic Sans MS"/>
              </a:rPr>
              <a:t>Entretien n°2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9880" y="1972800"/>
            <a:ext cx="1472040" cy="3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400" bIns="32400" anchor="ctr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mic Sans MS"/>
              </a:rPr>
              <a:t>Entretien n°1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91080" y="1963440"/>
            <a:ext cx="1472040" cy="3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400" bIns="32400" anchor="ctr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mic Sans MS"/>
              </a:rPr>
              <a:t>Entretien n°3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55840" y="2844360"/>
            <a:ext cx="1220760" cy="3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400" bIns="32400" anchor="ctr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mic Sans MS"/>
              </a:rPr>
              <a:t>Simulation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742920" y="2568240"/>
            <a:ext cx="1702440" cy="3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400" bIns="32400" anchor="ctr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mic Sans MS"/>
              </a:rPr>
              <a:t>Traitement réel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09880" y="2813040"/>
            <a:ext cx="4129200" cy="330120"/>
          </a:xfrm>
          <a:prstGeom prst="rightArrow">
            <a:avLst>
              <a:gd name="adj1" fmla="val 66667"/>
              <a:gd name="adj2" fmla="val 81245"/>
            </a:avLst>
          </a:prstGeom>
          <a:solidFill>
            <a:srgbClr val="66ffff"/>
          </a:solidFill>
          <a:ln w="12600">
            <a:solidFill>
              <a:srgbClr val="00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27520" y="2373480"/>
            <a:ext cx="0" cy="990360"/>
          </a:xfrm>
          <a:prstGeom prst="line">
            <a:avLst/>
          </a:prstGeom>
          <a:ln w="57240">
            <a:solidFill>
              <a:srgbClr val="ff0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9920" y="3393720"/>
            <a:ext cx="384120" cy="3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400" bIns="32400" anchor="ctr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mic Sans MS"/>
              </a:rPr>
              <a:t>J-7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749680" y="3393720"/>
            <a:ext cx="313920" cy="3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400" bIns="32400" anchor="ctr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mic Sans MS"/>
              </a:rPr>
              <a:t>J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21000" y="3393720"/>
            <a:ext cx="437400" cy="3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400" bIns="32400" anchor="ctr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mic Sans MS"/>
              </a:rPr>
              <a:t>J15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821200" y="4535640"/>
            <a:ext cx="129384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1680" bIns="3168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0" lang="en-US" sz="1000" spc="-1" strike="noStrike">
                <a:solidFill>
                  <a:srgbClr val="000020"/>
                </a:solidFill>
                <a:latin typeface="Arial"/>
              </a:rPr>
              <a:t>C</a:t>
            </a:r>
            <a:r>
              <a:rPr b="0" lang="en-US" sz="1000" spc="-1" strike="noStrike">
                <a:solidFill>
                  <a:srgbClr val="f71742"/>
                </a:solidFill>
                <a:latin typeface="Arial"/>
              </a:rPr>
              <a:t>o</a:t>
            </a:r>
            <a:r>
              <a:rPr b="0" lang="en-US" sz="1000" spc="-1" strike="noStrike">
                <a:solidFill>
                  <a:srgbClr val="000020"/>
                </a:solidFill>
                <a:latin typeface="Arial"/>
              </a:rPr>
              <a:t>mment Dir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14200" y="286920"/>
            <a:ext cx="6864480" cy="59364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1680" bIns="31680" anchor="ctr">
            <a:noAutofit/>
          </a:bodyPr>
          <a:p>
            <a:pPr indent="0" algn="r">
              <a:buNone/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0" lang="en-US" sz="1400" spc="-1" strike="noStrike">
                <a:solidFill>
                  <a:srgbClr val="2bffff"/>
                </a:solidFill>
                <a:latin typeface="Arial"/>
                <a:ea typeface="Times New Roman"/>
              </a:rPr>
              <a:t>2. Consultation de préparation au traitement </a:t>
            </a:r>
            <a:br>
              <a:rPr sz="1400"/>
            </a:br>
            <a:r>
              <a:rPr b="0" lang="en-US" sz="1400" spc="-1" strike="noStrike">
                <a:solidFill>
                  <a:srgbClr val="2bffff"/>
                </a:solidFill>
                <a:latin typeface="Arial"/>
                <a:ea typeface="Times New Roman"/>
              </a:rPr>
              <a:t>du CHU de Fort de France (Martinique)</a:t>
            </a:r>
            <a:br>
              <a:rPr sz="1400"/>
            </a:br>
            <a:endParaRPr b="0" lang="en-US" sz="1400" spc="-1" strike="noStrike">
              <a:solidFill>
                <a:srgbClr val="2b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821200" y="4535640"/>
            <a:ext cx="129384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1680" bIns="3168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0" lang="en-US" sz="1000" spc="-1" strike="noStrike">
                <a:solidFill>
                  <a:srgbClr val="000020"/>
                </a:solidFill>
                <a:latin typeface="Arial"/>
              </a:rPr>
              <a:t>C</a:t>
            </a:r>
            <a:r>
              <a:rPr b="0" lang="en-US" sz="1000" spc="-1" strike="noStrike">
                <a:solidFill>
                  <a:srgbClr val="f71742"/>
                </a:solidFill>
                <a:latin typeface="Arial"/>
              </a:rPr>
              <a:t>o</a:t>
            </a:r>
            <a:r>
              <a:rPr b="0" lang="en-US" sz="1000" spc="-1" strike="noStrike">
                <a:solidFill>
                  <a:srgbClr val="000020"/>
                </a:solidFill>
                <a:latin typeface="Arial"/>
              </a:rPr>
              <a:t>mment Dir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7200" y="1954080"/>
            <a:ext cx="240048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400" bIns="324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Comic Sans MS"/>
              </a:rPr>
              <a:t>Entretien n°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14"/>
              </a:spcBef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mic Sans MS"/>
              </a:rPr>
              <a:t>Diagnostic des besoins pour pouvoir prendre son traitement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14"/>
              </a:spcBef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mic Sans MS"/>
              </a:rPr>
              <a:t>Mesure du degré d’adhésion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14"/>
              </a:spcBef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mic Sans MS"/>
              </a:rPr>
              <a:t>Capacité de l ’environnement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60200" y="3260880"/>
            <a:ext cx="2400480" cy="1217160"/>
            <a:chOff x="160200" y="3260880"/>
            <a:chExt cx="2400480" cy="1217160"/>
          </a:xfrm>
        </p:grpSpPr>
        <p:sp>
          <p:nvSpPr>
            <p:cNvPr id="142" name=""/>
            <p:cNvSpPr/>
            <p:nvPr/>
          </p:nvSpPr>
          <p:spPr>
            <a:xfrm>
              <a:off x="160200" y="3577320"/>
              <a:ext cx="2400480" cy="90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650880"/>
                  <a:tab algn="l" pos="1301760"/>
                  <a:tab algn="l" pos="1952640"/>
                  <a:tab algn="l" pos="2603520"/>
                  <a:tab algn="l" pos="3254400"/>
                  <a:tab algn="l" pos="3905280"/>
                  <a:tab algn="l" pos="4556160"/>
                  <a:tab algn="l" pos="5207040"/>
                  <a:tab algn="l" pos="5857920"/>
                  <a:tab algn="l" pos="6508800"/>
                  <a:tab algn="l" pos="7159680"/>
                  <a:tab algn="l" pos="7810560"/>
                  <a:tab algn="l" pos="8461440"/>
                  <a:tab algn="l" pos="9112320"/>
                  <a:tab algn="l" pos="9763200"/>
                  <a:tab algn="l" pos="10414080"/>
                </a:tabLst>
              </a:pPr>
              <a:r>
                <a:rPr b="0" lang="en-US" sz="1400" spc="-1" strike="noStrike" u="sng">
                  <a:solidFill>
                    <a:srgbClr val="ffffff"/>
                  </a:solidFill>
                  <a:uFillTx/>
                  <a:latin typeface="Comic Sans MS"/>
                </a:rPr>
                <a:t>Simul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814"/>
                </a:spcBef>
                <a:tabLst>
                  <a:tab algn="l" pos="0"/>
                  <a:tab algn="l" pos="650880"/>
                  <a:tab algn="l" pos="1301760"/>
                  <a:tab algn="l" pos="1952640"/>
                  <a:tab algn="l" pos="2603520"/>
                  <a:tab algn="l" pos="3254400"/>
                  <a:tab algn="l" pos="3905280"/>
                  <a:tab algn="l" pos="4556160"/>
                  <a:tab algn="l" pos="5207040"/>
                  <a:tab algn="l" pos="5857920"/>
                  <a:tab algn="l" pos="6508800"/>
                  <a:tab algn="l" pos="7159680"/>
                  <a:tab algn="l" pos="7810560"/>
                  <a:tab algn="l" pos="8461440"/>
                  <a:tab algn="l" pos="9112320"/>
                  <a:tab algn="l" pos="9763200"/>
                  <a:tab algn="l" pos="1041408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Comic Sans MS"/>
                </a:rPr>
                <a:t>Reproduction du déroulement du traitement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814"/>
                </a:spcBef>
                <a:tabLst>
                  <a:tab algn="l" pos="0"/>
                  <a:tab algn="l" pos="650880"/>
                  <a:tab algn="l" pos="1301760"/>
                  <a:tab algn="l" pos="1952640"/>
                  <a:tab algn="l" pos="2603520"/>
                  <a:tab algn="l" pos="3254400"/>
                  <a:tab algn="l" pos="3905280"/>
                  <a:tab algn="l" pos="4556160"/>
                  <a:tab algn="l" pos="5207040"/>
                  <a:tab algn="l" pos="5857920"/>
                  <a:tab algn="l" pos="6508800"/>
                  <a:tab algn="l" pos="7159680"/>
                  <a:tab algn="l" pos="7810560"/>
                  <a:tab algn="l" pos="8461440"/>
                  <a:tab algn="l" pos="9112320"/>
                  <a:tab algn="l" pos="9763200"/>
                  <a:tab algn="l" pos="1041408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Comic Sans MS"/>
                </a:rPr>
                <a:t>Une semaine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49000" y="3260880"/>
              <a:ext cx="294840" cy="316440"/>
            </a:xfrm>
            <a:prstGeom prst="downArrow">
              <a:avLst>
                <a:gd name="adj1" fmla="val 50000"/>
                <a:gd name="adj2" fmla="val 26832"/>
              </a:avLst>
            </a:prstGeom>
            <a:solidFill>
              <a:srgbClr val="1278de"/>
            </a:solidFill>
            <a:ln w="12600">
              <a:solidFill>
                <a:srgbClr val="7dff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149640" y="1871640"/>
            <a:ext cx="2400120" cy="2437200"/>
            <a:chOff x="3149640" y="1871640"/>
            <a:chExt cx="2400120" cy="2437200"/>
          </a:xfrm>
        </p:grpSpPr>
        <p:sp>
          <p:nvSpPr>
            <p:cNvPr id="145" name=""/>
            <p:cNvSpPr/>
            <p:nvPr/>
          </p:nvSpPr>
          <p:spPr>
            <a:xfrm>
              <a:off x="3149640" y="1871640"/>
              <a:ext cx="2400120" cy="127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2760" rIns="32760" tIns="16560" bIns="1656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650880"/>
                  <a:tab algn="l" pos="1301760"/>
                  <a:tab algn="l" pos="1952640"/>
                  <a:tab algn="l" pos="2603520"/>
                  <a:tab algn="l" pos="3254400"/>
                  <a:tab algn="l" pos="3905280"/>
                  <a:tab algn="l" pos="4556160"/>
                  <a:tab algn="l" pos="5207040"/>
                  <a:tab algn="l" pos="5857920"/>
                  <a:tab algn="l" pos="6508800"/>
                  <a:tab algn="l" pos="7159680"/>
                  <a:tab algn="l" pos="7810560"/>
                  <a:tab algn="l" pos="8461440"/>
                  <a:tab algn="l" pos="9112320"/>
                  <a:tab algn="l" pos="9763200"/>
                  <a:tab algn="l" pos="10414080"/>
                </a:tabLst>
              </a:pPr>
              <a:r>
                <a:rPr b="0" lang="en-US" sz="1400" spc="-1" strike="noStrike" u="sng">
                  <a:solidFill>
                    <a:srgbClr val="ffffff"/>
                  </a:solidFill>
                  <a:uFillTx/>
                  <a:latin typeface="Comic Sans MS"/>
                </a:rPr>
                <a:t>Entretien n°3 </a:t>
              </a: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(J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5</a:t>
              </a: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) ou 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814"/>
                </a:spcBef>
                <a:tabLst>
                  <a:tab algn="l" pos="0"/>
                  <a:tab algn="l" pos="650880"/>
                  <a:tab algn="l" pos="1301760"/>
                  <a:tab algn="l" pos="1952640"/>
                  <a:tab algn="l" pos="2603520"/>
                  <a:tab algn="l" pos="3254400"/>
                  <a:tab algn="l" pos="3905280"/>
                  <a:tab algn="l" pos="4556160"/>
                  <a:tab algn="l" pos="5207040"/>
                  <a:tab algn="l" pos="5857920"/>
                  <a:tab algn="l" pos="6508800"/>
                  <a:tab algn="l" pos="7159680"/>
                  <a:tab algn="l" pos="7810560"/>
                  <a:tab algn="l" pos="8461440"/>
                  <a:tab algn="l" pos="9112320"/>
                  <a:tab algn="l" pos="9763200"/>
                  <a:tab algn="l" pos="1041408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Comic Sans MS"/>
                </a:rPr>
                <a:t>Impact du traitement sur la vie quotidienne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814"/>
                </a:spcBef>
                <a:tabLst>
                  <a:tab algn="l" pos="0"/>
                  <a:tab algn="l" pos="650880"/>
                  <a:tab algn="l" pos="1301760"/>
                  <a:tab algn="l" pos="1952640"/>
                  <a:tab algn="l" pos="2603520"/>
                  <a:tab algn="l" pos="3254400"/>
                  <a:tab algn="l" pos="3905280"/>
                  <a:tab algn="l" pos="4556160"/>
                  <a:tab algn="l" pos="5207040"/>
                  <a:tab algn="l" pos="5857920"/>
                  <a:tab algn="l" pos="6508800"/>
                  <a:tab algn="l" pos="7159680"/>
                  <a:tab algn="l" pos="7810560"/>
                  <a:tab algn="l" pos="8461440"/>
                  <a:tab algn="l" pos="9112320"/>
                  <a:tab algn="l" pos="9763200"/>
                  <a:tab algn="l" pos="1041408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Comic Sans MS"/>
                </a:rPr>
                <a:t>Exploration des routin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814"/>
                </a:spcBef>
                <a:tabLst>
                  <a:tab algn="l" pos="0"/>
                  <a:tab algn="l" pos="650880"/>
                  <a:tab algn="l" pos="1301760"/>
                  <a:tab algn="l" pos="1952640"/>
                  <a:tab algn="l" pos="2603520"/>
                  <a:tab algn="l" pos="3254400"/>
                  <a:tab algn="l" pos="3905280"/>
                  <a:tab algn="l" pos="4556160"/>
                  <a:tab algn="l" pos="5207040"/>
                  <a:tab algn="l" pos="5857920"/>
                  <a:tab algn="l" pos="6508800"/>
                  <a:tab algn="l" pos="7159680"/>
                  <a:tab algn="l" pos="7810560"/>
                  <a:tab algn="l" pos="8461440"/>
                  <a:tab algn="l" pos="9112320"/>
                  <a:tab algn="l" pos="9763200"/>
                  <a:tab algn="l" pos="1041408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Comic Sans MS"/>
                </a:rPr>
                <a:t>Anticipation des événements de non-observance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229920" y="3150720"/>
              <a:ext cx="1964160" cy="24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2760" rIns="32760" tIns="16560" bIns="1656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650880"/>
                  <a:tab algn="l" pos="1301760"/>
                  <a:tab algn="l" pos="1952640"/>
                  <a:tab algn="l" pos="2603520"/>
                  <a:tab algn="l" pos="3254400"/>
                  <a:tab algn="l" pos="3905280"/>
                  <a:tab algn="l" pos="4556160"/>
                  <a:tab algn="l" pos="5207040"/>
                  <a:tab algn="l" pos="5857920"/>
                  <a:tab algn="l" pos="6508800"/>
                  <a:tab algn="l" pos="7159680"/>
                  <a:tab algn="l" pos="7810560"/>
                  <a:tab algn="l" pos="8461440"/>
                  <a:tab algn="l" pos="9112320"/>
                  <a:tab algn="l" pos="9763200"/>
                  <a:tab algn="l" pos="10414080"/>
                </a:tabLst>
              </a:pPr>
              <a:r>
                <a:rPr b="0" i="1" lang="en-US" sz="1400" spc="-1" strike="noStrike">
                  <a:solidFill>
                    <a:srgbClr val="7dfffc"/>
                  </a:solidFill>
                  <a:latin typeface="Tahoma"/>
                </a:rPr>
                <a:t>Début du traitem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 rot="18900000">
              <a:off x="4798440" y="3934440"/>
              <a:ext cx="294840" cy="316080"/>
            </a:xfrm>
            <a:prstGeom prst="downArrow">
              <a:avLst>
                <a:gd name="adj1" fmla="val 50000"/>
                <a:gd name="adj2" fmla="val 26801"/>
              </a:avLst>
            </a:prstGeom>
            <a:solidFill>
              <a:srgbClr val="1278de"/>
            </a:solidFill>
            <a:ln w="12600">
              <a:solidFill>
                <a:srgbClr val="7dff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2760" rIns="32760" tIns="16200" bIns="162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497120" y="3708000"/>
              <a:ext cx="54936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2760" rIns="32760" tIns="16560" bIns="1656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650880"/>
                  <a:tab algn="l" pos="1301760"/>
                  <a:tab algn="l" pos="1952640"/>
                  <a:tab algn="l" pos="2603520"/>
                  <a:tab algn="l" pos="3254400"/>
                  <a:tab algn="l" pos="3905280"/>
                  <a:tab algn="l" pos="4556160"/>
                  <a:tab algn="l" pos="5207040"/>
                  <a:tab algn="l" pos="5857920"/>
                  <a:tab algn="l" pos="6508800"/>
                  <a:tab algn="l" pos="7159680"/>
                  <a:tab algn="l" pos="7810560"/>
                  <a:tab algn="l" pos="8461440"/>
                  <a:tab algn="l" pos="9112320"/>
                  <a:tab algn="l" pos="9763200"/>
                  <a:tab algn="l" pos="10414080"/>
                </a:tabLst>
              </a:pPr>
              <a:r>
                <a:rPr b="0" lang="en-US" sz="1300" spc="-1" strike="noStrike">
                  <a:solidFill>
                    <a:srgbClr val="7dfffc"/>
                  </a:solidFill>
                  <a:latin typeface="Comic Sans MS"/>
                </a:rPr>
                <a:t>OUI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 flipV="1" rot="18900000">
              <a:off x="4275360" y="3487320"/>
              <a:ext cx="294840" cy="316080"/>
            </a:xfrm>
            <a:prstGeom prst="downArrow">
              <a:avLst>
                <a:gd name="adj1" fmla="val 50000"/>
                <a:gd name="adj2" fmla="val 26801"/>
              </a:avLst>
            </a:prstGeom>
            <a:solidFill>
              <a:srgbClr val="1278de"/>
            </a:solidFill>
            <a:ln w="12600">
              <a:solidFill>
                <a:srgbClr val="7dff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2760" rIns="32760" tIns="16200" bIns="162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2325600" y="3807000"/>
            <a:ext cx="2500200" cy="1142640"/>
            <a:chOff x="2325600" y="3807000"/>
            <a:chExt cx="2500200" cy="1142640"/>
          </a:xfrm>
        </p:grpSpPr>
        <p:sp>
          <p:nvSpPr>
            <p:cNvPr id="151" name=""/>
            <p:cNvSpPr/>
            <p:nvPr/>
          </p:nvSpPr>
          <p:spPr>
            <a:xfrm>
              <a:off x="2868480" y="3807000"/>
              <a:ext cx="1957320" cy="11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650880"/>
                  <a:tab algn="l" pos="1301760"/>
                  <a:tab algn="l" pos="1952640"/>
                  <a:tab algn="l" pos="2603520"/>
                  <a:tab algn="l" pos="3254400"/>
                  <a:tab algn="l" pos="3905280"/>
                  <a:tab algn="l" pos="4556160"/>
                  <a:tab algn="l" pos="5207040"/>
                  <a:tab algn="l" pos="5857920"/>
                  <a:tab algn="l" pos="6508800"/>
                  <a:tab algn="l" pos="7159680"/>
                  <a:tab algn="l" pos="7810560"/>
                  <a:tab algn="l" pos="8461440"/>
                  <a:tab algn="l" pos="9112320"/>
                  <a:tab algn="l" pos="9763200"/>
                  <a:tab algn="l" pos="10414080"/>
                </a:tabLst>
              </a:pPr>
              <a:r>
                <a:rPr b="0" lang="en-US" sz="1400" spc="-1" strike="noStrike" u="sng">
                  <a:solidFill>
                    <a:srgbClr val="ffffff"/>
                  </a:solidFill>
                  <a:uFillTx/>
                  <a:latin typeface="Comic Sans MS"/>
                </a:rPr>
                <a:t>Entretien n°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814"/>
                </a:spcBef>
                <a:tabLst>
                  <a:tab algn="l" pos="0"/>
                  <a:tab algn="l" pos="650880"/>
                  <a:tab algn="l" pos="1301760"/>
                  <a:tab algn="l" pos="1952640"/>
                  <a:tab algn="l" pos="2603520"/>
                  <a:tab algn="l" pos="3254400"/>
                  <a:tab algn="l" pos="3905280"/>
                  <a:tab algn="l" pos="4556160"/>
                  <a:tab algn="l" pos="5207040"/>
                  <a:tab algn="l" pos="5857920"/>
                  <a:tab algn="l" pos="6508800"/>
                  <a:tab algn="l" pos="7159680"/>
                  <a:tab algn="l" pos="7810560"/>
                  <a:tab algn="l" pos="8461440"/>
                  <a:tab algn="l" pos="9112320"/>
                  <a:tab algn="l" pos="9763200"/>
                  <a:tab algn="l" pos="1041408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Comic Sans MS"/>
                </a:rPr>
                <a:t>Vécu de la simulation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814"/>
                </a:spcBef>
                <a:tabLst>
                  <a:tab algn="l" pos="0"/>
                  <a:tab algn="l" pos="650880"/>
                  <a:tab algn="l" pos="1301760"/>
                  <a:tab algn="l" pos="1952640"/>
                  <a:tab algn="l" pos="2603520"/>
                  <a:tab algn="l" pos="3254400"/>
                  <a:tab algn="l" pos="3905280"/>
                  <a:tab algn="l" pos="4556160"/>
                  <a:tab algn="l" pos="5207040"/>
                  <a:tab algn="l" pos="5857920"/>
                  <a:tab algn="l" pos="6508800"/>
                  <a:tab algn="l" pos="7159680"/>
                  <a:tab algn="l" pos="7810560"/>
                  <a:tab algn="l" pos="8461440"/>
                  <a:tab algn="l" pos="9112320"/>
                  <a:tab algn="l" pos="9763200"/>
                  <a:tab algn="l" pos="1041408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Comic Sans MS"/>
                </a:rPr>
                <a:t>Identifier et résoudre les difficulté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814"/>
                </a:spcBef>
                <a:tabLst>
                  <a:tab algn="l" pos="0"/>
                  <a:tab algn="l" pos="650880"/>
                  <a:tab algn="l" pos="1301760"/>
                  <a:tab algn="l" pos="1952640"/>
                  <a:tab algn="l" pos="2603520"/>
                  <a:tab algn="l" pos="3254400"/>
                  <a:tab algn="l" pos="3905280"/>
                  <a:tab algn="l" pos="4556160"/>
                  <a:tab algn="l" pos="5207040"/>
                  <a:tab algn="l" pos="5857920"/>
                  <a:tab algn="l" pos="6508800"/>
                  <a:tab algn="l" pos="7159680"/>
                  <a:tab algn="l" pos="7810560"/>
                  <a:tab algn="l" pos="8461440"/>
                  <a:tab algn="l" pos="9112320"/>
                  <a:tab algn="l" pos="9763200"/>
                  <a:tab algn="l" pos="1041408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Comic Sans MS"/>
                </a:rPr>
                <a:t>Plan d ’action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16200000">
              <a:off x="2328480" y="4195080"/>
              <a:ext cx="302400" cy="308160"/>
            </a:xfrm>
            <a:prstGeom prst="downArrow">
              <a:avLst>
                <a:gd name="adj1" fmla="val 50000"/>
                <a:gd name="adj2" fmla="val 25476"/>
              </a:avLst>
            </a:prstGeom>
            <a:solidFill>
              <a:srgbClr val="1278de"/>
            </a:solidFill>
            <a:ln w="12600">
              <a:solidFill>
                <a:srgbClr val="7dff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5612760" y="2573280"/>
            <a:ext cx="1624320" cy="1815480"/>
            <a:chOff x="5612760" y="2573280"/>
            <a:chExt cx="1624320" cy="1815480"/>
          </a:xfrm>
        </p:grpSpPr>
        <p:sp>
          <p:nvSpPr>
            <p:cNvPr id="154" name=""/>
            <p:cNvSpPr/>
            <p:nvPr/>
          </p:nvSpPr>
          <p:spPr>
            <a:xfrm>
              <a:off x="5788440" y="2573280"/>
              <a:ext cx="1448640" cy="10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080" rIns="46080" tIns="23040" bIns="2304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650880"/>
                  <a:tab algn="l" pos="1301760"/>
                  <a:tab algn="l" pos="1952640"/>
                  <a:tab algn="l" pos="2603520"/>
                  <a:tab algn="l" pos="3254400"/>
                  <a:tab algn="l" pos="3905280"/>
                  <a:tab algn="l" pos="4556160"/>
                  <a:tab algn="l" pos="5207040"/>
                  <a:tab algn="l" pos="5857920"/>
                  <a:tab algn="l" pos="6508800"/>
                  <a:tab algn="l" pos="7159680"/>
                  <a:tab algn="l" pos="7810560"/>
                  <a:tab algn="l" pos="8461440"/>
                  <a:tab algn="l" pos="9112320"/>
                  <a:tab algn="l" pos="9763200"/>
                  <a:tab algn="l" pos="10414080"/>
                </a:tabLst>
              </a:pPr>
              <a:r>
                <a:rPr b="0" lang="fr-FR" sz="1400" spc="-1" strike="noStrike" u="sng">
                  <a:solidFill>
                    <a:srgbClr val="ffffff"/>
                  </a:solidFill>
                  <a:uFillTx/>
                  <a:latin typeface="Comic Sans MS"/>
                </a:rPr>
                <a:t>Entretien n°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814"/>
                </a:spcBef>
                <a:tabLst>
                  <a:tab algn="l" pos="0"/>
                  <a:tab algn="l" pos="650880"/>
                  <a:tab algn="l" pos="1301760"/>
                  <a:tab algn="l" pos="1952640"/>
                  <a:tab algn="l" pos="2603520"/>
                  <a:tab algn="l" pos="3254400"/>
                  <a:tab algn="l" pos="3905280"/>
                  <a:tab algn="l" pos="4556160"/>
                  <a:tab algn="l" pos="5207040"/>
                  <a:tab algn="l" pos="5857920"/>
                  <a:tab algn="l" pos="6508800"/>
                  <a:tab algn="l" pos="7159680"/>
                  <a:tab algn="l" pos="7810560"/>
                  <a:tab algn="l" pos="8461440"/>
                  <a:tab algn="l" pos="9112320"/>
                  <a:tab algn="l" pos="9763200"/>
                  <a:tab algn="l" pos="10414080"/>
                </a:tabLst>
              </a:pPr>
              <a:r>
                <a:rPr b="0" lang="fr-FR" sz="1300" spc="-1" strike="noStrike">
                  <a:solidFill>
                    <a:srgbClr val="ffffff"/>
                  </a:solidFill>
                  <a:latin typeface="Comic Sans MS"/>
                </a:rPr>
                <a:t>Evaluation du plan d ’action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814"/>
                </a:spcBef>
                <a:tabLst>
                  <a:tab algn="l" pos="0"/>
                  <a:tab algn="l" pos="650880"/>
                  <a:tab algn="l" pos="1301760"/>
                  <a:tab algn="l" pos="1952640"/>
                  <a:tab algn="l" pos="2603520"/>
                  <a:tab algn="l" pos="3254400"/>
                  <a:tab algn="l" pos="3905280"/>
                  <a:tab algn="l" pos="4556160"/>
                  <a:tab algn="l" pos="5207040"/>
                  <a:tab algn="l" pos="5857920"/>
                  <a:tab algn="l" pos="6508800"/>
                  <a:tab algn="l" pos="7159680"/>
                  <a:tab algn="l" pos="7810560"/>
                  <a:tab algn="l" pos="8461440"/>
                  <a:tab algn="l" pos="9112320"/>
                  <a:tab algn="l" pos="9763200"/>
                  <a:tab algn="l" pos="10414080"/>
                </a:tabLst>
              </a:pPr>
              <a:r>
                <a:rPr b="0" lang="fr-FR" sz="1300" spc="-1" strike="noStrike">
                  <a:solidFill>
                    <a:srgbClr val="ffffff"/>
                  </a:solidFill>
                  <a:latin typeface="Comic Sans MS"/>
                </a:rPr>
                <a:t>Autre plan d ’action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 rot="2700000">
              <a:off x="5681160" y="3982320"/>
              <a:ext cx="294840" cy="316440"/>
            </a:xfrm>
            <a:prstGeom prst="downArrow">
              <a:avLst>
                <a:gd name="adj1" fmla="val 50000"/>
                <a:gd name="adj2" fmla="val 26832"/>
              </a:avLst>
            </a:prstGeom>
            <a:solidFill>
              <a:srgbClr val="1278de"/>
            </a:solidFill>
            <a:ln w="12600">
              <a:solidFill>
                <a:srgbClr val="7dff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6080" rIns="46080" tIns="23040" bIns="2304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802120" y="3708360"/>
              <a:ext cx="5500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080" rIns="46080" tIns="23040" bIns="2304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650880"/>
                  <a:tab algn="l" pos="1301760"/>
                  <a:tab algn="l" pos="1952640"/>
                  <a:tab algn="l" pos="2603520"/>
                  <a:tab algn="l" pos="3254400"/>
                  <a:tab algn="l" pos="3905280"/>
                  <a:tab algn="l" pos="4556160"/>
                  <a:tab algn="l" pos="5207040"/>
                  <a:tab algn="l" pos="5857920"/>
                  <a:tab algn="l" pos="6508800"/>
                  <a:tab algn="l" pos="7159680"/>
                  <a:tab algn="l" pos="7810560"/>
                  <a:tab algn="l" pos="8461440"/>
                  <a:tab algn="l" pos="9112320"/>
                  <a:tab algn="l" pos="9763200"/>
                  <a:tab algn="l" pos="10414080"/>
                </a:tabLst>
              </a:pPr>
              <a:r>
                <a:rPr b="0" lang="en-US" sz="1300" spc="-1" strike="noStrike">
                  <a:solidFill>
                    <a:srgbClr val="e979d9"/>
                  </a:solidFill>
                  <a:latin typeface="Comic Sans MS"/>
                </a:rPr>
                <a:t>NON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10800000">
              <a:off x="6284880" y="3783600"/>
              <a:ext cx="509760" cy="605160"/>
            </a:xfrm>
            <a:custGeom>
              <a:avLst/>
              <a:gdLst>
                <a:gd name="textAreaLeft" fmla="*/ 0 w 509760"/>
                <a:gd name="textAreaRight" fmla="*/ 510120 w 509760"/>
                <a:gd name="textAreaTop" fmla="*/ 0 h 605160"/>
                <a:gd name="textAreaBottom" fmla="*/ 605520 h 605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1278de"/>
            </a:solidFill>
            <a:ln w="12600">
              <a:solidFill>
                <a:srgbClr val="7dff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6080" rIns="46080" tIns="23040" bIns="2304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593640" y="882720"/>
            <a:ext cx="5778720" cy="60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400" bIns="324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scription du traitement par le médeci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nsultation avec le conseiller thérapeutiqu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4200" y="204840"/>
            <a:ext cx="6864480" cy="59544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1" lang="en-US" sz="2000" spc="-1" strike="noStrike">
                <a:solidFill>
                  <a:srgbClr val="2bffff"/>
                </a:solidFill>
                <a:latin typeface="Arial"/>
              </a:rPr>
              <a:t>3. Consultation « Observance et prévention» de l’association KIOSQUE INFO SIDA (Paris)</a:t>
            </a:r>
            <a:endParaRPr b="0" lang="en-US" sz="2000" spc="-1" strike="noStrike">
              <a:solidFill>
                <a:srgbClr val="2b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952560" y="1109520"/>
            <a:ext cx="5875200" cy="31608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1680" bIns="31680" anchor="t">
            <a:noAutofit/>
          </a:bodyPr>
          <a:p>
            <a:pPr>
              <a:spcBef>
                <a:spcPts val="499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Public cible 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11600" y="1463760"/>
            <a:ext cx="4827240" cy="2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400" bIns="32400" anchor="t">
            <a:spAutoFit/>
          </a:bodyPr>
          <a:p>
            <a:pPr lvl="1" marL="32544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ersonnes en traitement ou en arrêt de traite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70920" y="1846440"/>
            <a:ext cx="17888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400" bIns="32400" anchor="t">
            <a:spAutoFit/>
          </a:bodyPr>
          <a:p>
            <a:pPr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Intervenants :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10160" y="2257560"/>
            <a:ext cx="3117240" cy="2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400" bIns="32400" anchor="t">
            <a:spAutoFit/>
          </a:bodyPr>
          <a:p>
            <a:pPr lvl="1" marL="32544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5 counselors (psychologue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83160" y="2577960"/>
            <a:ext cx="11138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400" bIns="32400" anchor="t">
            <a:spAutoFit/>
          </a:bodyPr>
          <a:p>
            <a:pPr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Outils :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00440" y="3003480"/>
            <a:ext cx="3837960" cy="2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400" bIns="32400" anchor="t">
            <a:spAutoFit/>
          </a:bodyPr>
          <a:p>
            <a:pPr lvl="1" marL="32544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SzPct val="125000"/>
              <a:buFont typeface="Wingdings" charset="2"/>
              <a:buChar char=""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Guide d’entretien ; Autoquestionnai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821200" y="4535640"/>
            <a:ext cx="129384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1680" bIns="3168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0" lang="en-US" sz="1000" spc="-1" strike="noStrike">
                <a:solidFill>
                  <a:srgbClr val="000020"/>
                </a:solidFill>
                <a:latin typeface="Arial"/>
              </a:rPr>
              <a:t>C</a:t>
            </a:r>
            <a:r>
              <a:rPr b="0" lang="en-US" sz="1000" spc="-1" strike="noStrike">
                <a:solidFill>
                  <a:srgbClr val="f71742"/>
                </a:solidFill>
                <a:latin typeface="Arial"/>
              </a:rPr>
              <a:t>o</a:t>
            </a:r>
            <a:r>
              <a:rPr b="0" lang="en-US" sz="1000" spc="-1" strike="noStrike">
                <a:solidFill>
                  <a:srgbClr val="000020"/>
                </a:solidFill>
                <a:latin typeface="Arial"/>
              </a:rPr>
              <a:t>mment Dir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6520" y="3322800"/>
            <a:ext cx="3124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400" bIns="32400" anchor="t">
            <a:spAutoFit/>
          </a:bodyPr>
          <a:p>
            <a:pPr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Fréquence des entretiens :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13760" y="3765600"/>
            <a:ext cx="3866760" cy="2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400" bIns="32400" anchor="t">
            <a:spAutoFit/>
          </a:bodyPr>
          <a:p>
            <a:pPr lvl="1" marL="32544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SzPct val="125000"/>
              <a:buFont typeface="Wingdings" charset="2"/>
              <a:buChar char=""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 entretiens à intervalle de 15/20 jou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4200" y="286920"/>
            <a:ext cx="6864480" cy="59364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1680" bIns="31680" anchor="ctr">
            <a:noAutofit/>
          </a:bodyPr>
          <a:p>
            <a:pPr indent="0" algn="r">
              <a:buNone/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0" lang="en-US" sz="1400" spc="-1" strike="noStrike">
                <a:solidFill>
                  <a:srgbClr val="2bffff"/>
                </a:solidFill>
                <a:latin typeface="Arial"/>
              </a:rPr>
              <a:t>3. Consultation «Observance et prévention» </a:t>
            </a:r>
            <a:br>
              <a:rPr sz="1400"/>
            </a:br>
            <a:r>
              <a:rPr b="0" lang="en-US" sz="1400" spc="-1" strike="noStrike">
                <a:solidFill>
                  <a:srgbClr val="2bffff"/>
                </a:solidFill>
                <a:latin typeface="Arial"/>
              </a:rPr>
              <a:t>de l’association KIOSQUE INFO SIDA (Paris)</a:t>
            </a:r>
            <a:endParaRPr b="0" lang="en-US" sz="1400" spc="-1" strike="noStrike">
              <a:solidFill>
                <a:srgbClr val="2b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281240" y="1353960"/>
            <a:ext cx="2252520" cy="30816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078440" y="1353960"/>
            <a:ext cx="2120760" cy="31370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5821200" y="4535640"/>
            <a:ext cx="129384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1680" bIns="3168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0" lang="en-US" sz="1000" spc="-1" strike="noStrike">
                <a:solidFill>
                  <a:srgbClr val="000020"/>
                </a:solidFill>
                <a:latin typeface="Arial"/>
              </a:rPr>
              <a:t>C</a:t>
            </a:r>
            <a:r>
              <a:rPr b="0" lang="en-US" sz="1000" spc="-1" strike="noStrike">
                <a:solidFill>
                  <a:srgbClr val="f71742"/>
                </a:solidFill>
                <a:latin typeface="Arial"/>
              </a:rPr>
              <a:t>o</a:t>
            </a:r>
            <a:r>
              <a:rPr b="0" lang="en-US" sz="1000" spc="-1" strike="noStrike">
                <a:solidFill>
                  <a:srgbClr val="000020"/>
                </a:solidFill>
                <a:latin typeface="Arial"/>
              </a:rPr>
              <a:t>mment Dir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4200" y="123480"/>
            <a:ext cx="6864480" cy="62244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1" lang="en-US" sz="2000" spc="-1" strike="noStrike">
                <a:solidFill>
                  <a:srgbClr val="2bffff"/>
                </a:solidFill>
                <a:latin typeface="Arial"/>
              </a:rPr>
              <a:t>Leçons apprises</a:t>
            </a:r>
            <a:endParaRPr b="0" lang="en-US" sz="2000" spc="-1" strike="noStrike">
              <a:solidFill>
                <a:srgbClr val="2b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066320" y="2358720"/>
            <a:ext cx="5877000" cy="10033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1680" bIns="31680" anchor="t">
            <a:noAutofit/>
          </a:bodyPr>
          <a:p>
            <a:pPr marL="379440" indent="-379440">
              <a:spcBef>
                <a:spcPts val="425"/>
              </a:spcBef>
              <a:buClr>
                <a:srgbClr val="ffffff"/>
              </a:buClr>
              <a:buSzPct val="105000"/>
              <a:buFont typeface="Arial"/>
              <a:buChar char="•"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1" lang="fr-FR" sz="1700" spc="-1" strike="noStrike">
                <a:solidFill>
                  <a:srgbClr val="ffffff"/>
                </a:solidFill>
                <a:latin typeface="Arial"/>
              </a:rPr>
              <a:t>Existence d’un consensus mais persistance d’un dissensus sur l’intérêt et la pertinence de consultations d’observance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31760" y="1182600"/>
            <a:ext cx="5877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1680" bIns="31680" anchor="t">
            <a:noAutofit/>
          </a:bodyPr>
          <a:p>
            <a:pPr marL="379440" indent="-37944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SzPct val="105000"/>
              <a:buFont typeface="Arial"/>
              <a:buChar char="•"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Connaissances produites par la recherche scientifique non facilement transférables dans les pratique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821200" y="4535640"/>
            <a:ext cx="129384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1680" bIns="3168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0" lang="en-US" sz="1000" spc="-1" strike="noStrike">
                <a:solidFill>
                  <a:srgbClr val="000020"/>
                </a:solidFill>
                <a:latin typeface="Arial"/>
              </a:rPr>
              <a:t>C</a:t>
            </a:r>
            <a:r>
              <a:rPr b="0" lang="en-US" sz="1000" spc="-1" strike="noStrike">
                <a:solidFill>
                  <a:srgbClr val="f71742"/>
                </a:solidFill>
                <a:latin typeface="Arial"/>
              </a:rPr>
              <a:t>o</a:t>
            </a:r>
            <a:r>
              <a:rPr b="0" lang="en-US" sz="1000" spc="-1" strike="noStrike">
                <a:solidFill>
                  <a:srgbClr val="000020"/>
                </a:solidFill>
                <a:latin typeface="Arial"/>
              </a:rPr>
              <a:t>mment Dir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4200" y="123480"/>
            <a:ext cx="6864480" cy="62244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0" lang="en-US" sz="2000" spc="-1" strike="noStrike">
                <a:solidFill>
                  <a:srgbClr val="2bffff"/>
                </a:solidFill>
                <a:latin typeface="Arial"/>
              </a:rPr>
              <a:t>Leçons apprises</a:t>
            </a:r>
            <a:endParaRPr b="0" lang="en-US" sz="2000" spc="-1" strike="noStrike">
              <a:solidFill>
                <a:srgbClr val="2b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925560" y="874800"/>
            <a:ext cx="5875200" cy="102240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1680" bIns="31680" anchor="t">
            <a:noAutofit/>
          </a:bodyPr>
          <a:p>
            <a:pPr marL="379440" indent="-379440">
              <a:spcBef>
                <a:spcPts val="425"/>
              </a:spcBef>
              <a:buClr>
                <a:srgbClr val="ffffff"/>
              </a:buClr>
              <a:buSzPct val="105000"/>
              <a:buFont typeface="Arial"/>
              <a:buChar char="•"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1" lang="fr-FR" sz="1700" spc="-1" strike="noStrike">
                <a:solidFill>
                  <a:srgbClr val="ffffff"/>
                </a:solidFill>
                <a:latin typeface="Arial"/>
              </a:rPr>
              <a:t>Existence de facilitateurs à la mise en place, au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79440" indent="0">
              <a:spcBef>
                <a:spcPts val="425"/>
              </a:spcBef>
              <a:buNone/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1" lang="fr-FR" sz="1700" spc="-1" strike="noStrike">
                <a:solidFill>
                  <a:srgbClr val="ffffff"/>
                </a:solidFill>
                <a:latin typeface="Arial"/>
              </a:rPr>
              <a:t>déroulement et à la pérennisation de consultations ou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79440" indent="0">
              <a:spcBef>
                <a:spcPts val="425"/>
              </a:spcBef>
              <a:buNone/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1" lang="fr-FR" sz="1700" spc="-1" strike="noStrike">
                <a:solidFill>
                  <a:srgbClr val="ffffff"/>
                </a:solidFill>
                <a:latin typeface="Arial"/>
              </a:rPr>
              <a:t>des initiatives « observance » 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932040" y="1960560"/>
            <a:ext cx="5646600" cy="27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400" bIns="32400" anchor="t">
            <a:spAutoFit/>
          </a:bodyPr>
          <a:p>
            <a:pPr lvl="1" marL="325440">
              <a:lnSpc>
                <a:spcPct val="100000"/>
              </a:lnSpc>
              <a:spcBef>
                <a:spcPts val="814"/>
              </a:spcBef>
              <a:buClr>
                <a:srgbClr val="ffffff"/>
              </a:buClr>
              <a:buSzPct val="110000"/>
              <a:buFont typeface="Wingdings" charset="2"/>
              <a:buChar char=""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0" lang="fr-FR" sz="1300" spc="-1" strike="noStrike">
                <a:solidFill>
                  <a:srgbClr val="ffffff"/>
                </a:solidFill>
                <a:latin typeface="Arial"/>
              </a:rPr>
              <a:t>connaissance partagée d’un problème à résoudre,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lvl="1" marL="325440">
              <a:lnSpc>
                <a:spcPct val="100000"/>
              </a:lnSpc>
              <a:spcBef>
                <a:spcPts val="814"/>
              </a:spcBef>
              <a:buClr>
                <a:srgbClr val="ffffff"/>
              </a:buClr>
              <a:buSzPct val="110000"/>
              <a:buFont typeface="Wingdings" charset="2"/>
              <a:buChar char=""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0" lang="fr-FR" sz="1300" spc="-1" strike="noStrike">
                <a:solidFill>
                  <a:srgbClr val="ffffff"/>
                </a:solidFill>
                <a:latin typeface="Arial"/>
              </a:rPr>
              <a:t>adhésion moyenne ou haute des équipes au projet,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lvl="1" marL="325440">
              <a:lnSpc>
                <a:spcPct val="100000"/>
              </a:lnSpc>
              <a:spcBef>
                <a:spcPts val="814"/>
              </a:spcBef>
              <a:buClr>
                <a:srgbClr val="ffffff"/>
              </a:buClr>
              <a:buSzPct val="110000"/>
              <a:buFont typeface="Wingdings" charset="2"/>
              <a:buChar char=""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0" lang="fr-FR" sz="1300" spc="-1" strike="noStrike">
                <a:solidFill>
                  <a:srgbClr val="ffffff"/>
                </a:solidFill>
                <a:latin typeface="Arial"/>
              </a:rPr>
              <a:t>moyens en ressources humaines,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lvl="1" marL="325440">
              <a:lnSpc>
                <a:spcPct val="100000"/>
              </a:lnSpc>
              <a:spcBef>
                <a:spcPts val="814"/>
              </a:spcBef>
              <a:buClr>
                <a:srgbClr val="ffffff"/>
              </a:buClr>
              <a:buSzPct val="110000"/>
              <a:buFont typeface="Wingdings" charset="2"/>
              <a:buChar char=""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0" lang="fr-FR" sz="1300" spc="-1" strike="noStrike">
                <a:solidFill>
                  <a:srgbClr val="ffffff"/>
                </a:solidFill>
                <a:latin typeface="Arial"/>
              </a:rPr>
              <a:t>engagement fort de l’institution,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lvl="1" marL="325440">
              <a:lnSpc>
                <a:spcPct val="100000"/>
              </a:lnSpc>
              <a:spcBef>
                <a:spcPts val="814"/>
              </a:spcBef>
              <a:buClr>
                <a:srgbClr val="ffffff"/>
              </a:buClr>
              <a:buSzPct val="110000"/>
              <a:buFont typeface="Wingdings" charset="2"/>
              <a:buChar char=""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0" lang="fr-FR" sz="1300" spc="-1" strike="noStrike">
                <a:solidFill>
                  <a:srgbClr val="ffffff"/>
                </a:solidFill>
                <a:latin typeface="Arial"/>
              </a:rPr>
              <a:t>tolérance au dérangement institutionnel,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lvl="1" marL="325440">
              <a:lnSpc>
                <a:spcPct val="100000"/>
              </a:lnSpc>
              <a:spcBef>
                <a:spcPts val="814"/>
              </a:spcBef>
              <a:buClr>
                <a:srgbClr val="ffffff"/>
              </a:buClr>
              <a:buSzPct val="110000"/>
              <a:buFont typeface="Wingdings" charset="2"/>
              <a:buChar char=""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0" lang="fr-FR" sz="1300" spc="-1" strike="noStrike">
                <a:solidFill>
                  <a:srgbClr val="ffffff"/>
                </a:solidFill>
                <a:latin typeface="Arial"/>
              </a:rPr>
              <a:t>perception des bénéfices de l’action (par et pour les patients, les soignants, les institutions),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lvl="1" marL="325440">
              <a:lnSpc>
                <a:spcPct val="100000"/>
              </a:lnSpc>
              <a:spcBef>
                <a:spcPts val="814"/>
              </a:spcBef>
              <a:buClr>
                <a:srgbClr val="ffffff"/>
              </a:buClr>
              <a:buSzPct val="110000"/>
              <a:buFont typeface="Wingdings" charset="2"/>
              <a:buChar char=""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0" lang="fr-FR" sz="1300" spc="-1" strike="noStrike">
                <a:solidFill>
                  <a:srgbClr val="ffffff"/>
                </a:solidFill>
                <a:latin typeface="Arial"/>
              </a:rPr>
              <a:t>accompagnement et soutien des équipes par des intervenants extérieurs,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lvl="1" marL="325440">
              <a:lnSpc>
                <a:spcPct val="100000"/>
              </a:lnSpc>
              <a:spcBef>
                <a:spcPts val="814"/>
              </a:spcBef>
              <a:buClr>
                <a:srgbClr val="ffffff"/>
              </a:buClr>
              <a:buSzPct val="110000"/>
              <a:buFont typeface="Wingdings" charset="2"/>
              <a:buChar char=""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0" lang="fr-FR" sz="1300" spc="-1" strike="noStrike">
                <a:solidFill>
                  <a:srgbClr val="ffffff"/>
                </a:solidFill>
                <a:latin typeface="Arial"/>
              </a:rPr>
              <a:t>utilisation d’outils de traçabilité et de lisibilité…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821200" y="4535640"/>
            <a:ext cx="129384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1680" bIns="3168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0" lang="en-US" sz="1000" spc="-1" strike="noStrike">
                <a:solidFill>
                  <a:srgbClr val="000020"/>
                </a:solidFill>
                <a:latin typeface="Arial"/>
              </a:rPr>
              <a:t>C</a:t>
            </a:r>
            <a:r>
              <a:rPr b="0" lang="en-US" sz="1000" spc="-1" strike="noStrike">
                <a:solidFill>
                  <a:srgbClr val="f71742"/>
                </a:solidFill>
                <a:latin typeface="Arial"/>
              </a:rPr>
              <a:t>o</a:t>
            </a:r>
            <a:r>
              <a:rPr b="0" lang="en-US" sz="1000" spc="-1" strike="noStrike">
                <a:solidFill>
                  <a:srgbClr val="000020"/>
                </a:solidFill>
                <a:latin typeface="Arial"/>
              </a:rPr>
              <a:t>mment Dir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14200" y="123480"/>
            <a:ext cx="6864480" cy="62244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0" lang="en-US" sz="2000" spc="-1" strike="noStrike">
                <a:solidFill>
                  <a:srgbClr val="2bffff"/>
                </a:solidFill>
                <a:latin typeface="Arial"/>
              </a:rPr>
              <a:t>Leçons apprises</a:t>
            </a:r>
            <a:endParaRPr b="0" lang="en-US" sz="2000" spc="-1" strike="noStrike">
              <a:solidFill>
                <a:srgbClr val="2b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898560" y="1174320"/>
            <a:ext cx="5875200" cy="122868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1680" bIns="31680" anchor="t">
            <a:noAutofit/>
          </a:bodyPr>
          <a:p>
            <a:pPr marL="379440" indent="-379440">
              <a:spcBef>
                <a:spcPts val="425"/>
              </a:spcBef>
              <a:buClr>
                <a:srgbClr val="ffffff"/>
              </a:buClr>
              <a:buSzPct val="105000"/>
              <a:buFont typeface="Arial"/>
              <a:buChar char="•"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Les pratiques émergentes autour de l’observanc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79440" indent="0">
              <a:spcBef>
                <a:spcPts val="425"/>
              </a:spcBef>
              <a:buNone/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thérapeutique ont une capacité à générer de modèles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79440" indent="0">
              <a:spcBef>
                <a:spcPts val="425"/>
              </a:spcBef>
              <a:buNone/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théoriques innovants dans le domaine de la santé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821200" y="4535640"/>
            <a:ext cx="129384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1680" bIns="3168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0" lang="en-US" sz="1000" spc="-1" strike="noStrike">
                <a:solidFill>
                  <a:srgbClr val="000020"/>
                </a:solidFill>
                <a:latin typeface="Arial"/>
              </a:rPr>
              <a:t>C</a:t>
            </a:r>
            <a:r>
              <a:rPr b="0" lang="en-US" sz="1000" spc="-1" strike="noStrike">
                <a:solidFill>
                  <a:srgbClr val="f71742"/>
                </a:solidFill>
                <a:latin typeface="Arial"/>
              </a:rPr>
              <a:t>o</a:t>
            </a:r>
            <a:r>
              <a:rPr b="0" lang="en-US" sz="1000" spc="-1" strike="noStrike">
                <a:solidFill>
                  <a:srgbClr val="000020"/>
                </a:solidFill>
                <a:latin typeface="Arial"/>
              </a:rPr>
              <a:t>mment Dir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4200" y="286920"/>
            <a:ext cx="6864480" cy="59364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1" lang="en-US" sz="2000" spc="-1" strike="noStrike">
                <a:solidFill>
                  <a:srgbClr val="2bffff"/>
                </a:solidFill>
                <a:latin typeface="Arial"/>
              </a:rPr>
              <a:t>Préalables à l’intervention</a:t>
            </a:r>
            <a:endParaRPr b="0" lang="en-US" sz="2000" spc="-1" strike="noStrike">
              <a:solidFill>
                <a:srgbClr val="2b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33480" y="1199880"/>
            <a:ext cx="5867280" cy="57780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1680" bIns="31680" anchor="t">
            <a:noAutofit/>
          </a:bodyPr>
          <a:p>
            <a:pPr>
              <a:spcBef>
                <a:spcPts val="4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L’efficacité thérapeutique des ARV nécessite une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   observance haute à plus de 95 %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852560"/>
            <a:ext cx="58658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1680" bIns="31680" anchor="t">
            <a:noAutofit/>
          </a:bodyPr>
          <a:p>
            <a:pPr lvl="1" marL="325440">
              <a:lnSpc>
                <a:spcPct val="100000"/>
              </a:lnSpc>
              <a:spcBef>
                <a:spcPts val="349"/>
              </a:spcBef>
              <a:buClr>
                <a:srgbClr val="2bffff"/>
              </a:buClr>
              <a:buSzPct val="125000"/>
              <a:buFont typeface="Wingdings" charset="2"/>
              <a:buChar char=""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0" lang="en-US" sz="1700" spc="-1" strike="noStrike">
                <a:solidFill>
                  <a:srgbClr val="7af2f2"/>
                </a:solidFill>
                <a:latin typeface="Arial"/>
              </a:rPr>
              <a:t>Comment aider un patient à parvenir à ce résultat ?</a:t>
            </a:r>
            <a:r>
              <a:rPr b="0" lang="en-US" sz="1400" spc="-1" strike="noStrike">
                <a:solidFill>
                  <a:srgbClr val="7af2f2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57240" y="3059280"/>
            <a:ext cx="581328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1680" bIns="31680" anchor="t">
            <a:noAutofit/>
          </a:bodyPr>
          <a:p>
            <a:pPr lvl="1" marL="325440">
              <a:lnSpc>
                <a:spcPct val="100000"/>
              </a:lnSpc>
              <a:spcBef>
                <a:spcPts val="425"/>
              </a:spcBef>
              <a:buClr>
                <a:srgbClr val="2bffff"/>
              </a:buClr>
              <a:buSzPct val="125000"/>
              <a:buFont typeface="Wingdings" charset="2"/>
              <a:buChar char=""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0" lang="en-US" sz="1700" spc="-1" strike="noStrike">
                <a:solidFill>
                  <a:srgbClr val="7af2f2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7af2f2"/>
                </a:solidFill>
                <a:latin typeface="Arial"/>
              </a:rPr>
              <a:t>A quels moments intervenir ?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1" marL="325440">
              <a:lnSpc>
                <a:spcPct val="100000"/>
              </a:lnSpc>
              <a:spcBef>
                <a:spcPts val="425"/>
              </a:spcBef>
              <a:buClr>
                <a:srgbClr val="2bffff"/>
              </a:buClr>
              <a:buSzPct val="125000"/>
              <a:buFont typeface="Wingdings" charset="2"/>
              <a:buChar char=""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0" lang="en-US" sz="1700" spc="-1" strike="noStrike">
                <a:solidFill>
                  <a:srgbClr val="7af2f2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7af2f2"/>
                </a:solidFill>
                <a:latin typeface="Arial"/>
              </a:rPr>
              <a:t>Y-a-t-il des moments clés ?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34920" y="2387520"/>
            <a:ext cx="58676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1680" bIns="31680" anchor="t">
            <a:noAutofit/>
          </a:bodyPr>
          <a:p>
            <a:pPr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L’observance est une variable dynamique qui fluctue tout au long du suivi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499000" y="4535640"/>
            <a:ext cx="161604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1680" bIns="3168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0" lang="en-US" sz="1000" spc="-1" strike="noStrike">
                <a:solidFill>
                  <a:srgbClr val="000020"/>
                </a:solidFill>
                <a:latin typeface="Arial"/>
              </a:rPr>
              <a:t>C</a:t>
            </a:r>
            <a:r>
              <a:rPr b="0" lang="en-US" sz="1000" spc="-1" strike="noStrike">
                <a:solidFill>
                  <a:srgbClr val="f71742"/>
                </a:solidFill>
                <a:latin typeface="Arial"/>
              </a:rPr>
              <a:t>o</a:t>
            </a:r>
            <a:r>
              <a:rPr b="0" lang="en-US" sz="1000" spc="-1" strike="noStrike">
                <a:solidFill>
                  <a:srgbClr val="000020"/>
                </a:solidFill>
                <a:latin typeface="Arial"/>
              </a:rPr>
              <a:t>mment Dir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268360" y="214200"/>
            <a:ext cx="2998800" cy="45482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3376440" y="4083120"/>
            <a:ext cx="855720" cy="5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866880" y="596880"/>
            <a:ext cx="5684760" cy="32907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938160" y="4535640"/>
            <a:ext cx="617688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1680" bIns="3168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http://www.counselingvih.org</a:t>
            </a:r>
            <a:r>
              <a:rPr b="0" lang="fr-FR" sz="1000" spc="-1" strike="noStrike">
                <a:solidFill>
                  <a:srgbClr val="000020"/>
                </a:solidFill>
                <a:latin typeface="Arial"/>
              </a:rPr>
              <a:t>     Un projet </a:t>
            </a:r>
            <a:r>
              <a:rPr b="0" i="1" lang="fr-FR" sz="1000" spc="-1" strike="noStrike">
                <a:solidFill>
                  <a:srgbClr val="000020"/>
                </a:solidFill>
                <a:latin typeface="Arial"/>
              </a:rPr>
              <a:t>Counseling, Santé et Développement</a:t>
            </a:r>
            <a:r>
              <a:rPr b="0" lang="fr-FR" sz="1000" spc="-1" strike="noStrike">
                <a:solidFill>
                  <a:srgbClr val="000020"/>
                </a:solidFill>
                <a:latin typeface="Arial"/>
              </a:rPr>
              <a:t> &amp; </a:t>
            </a:r>
            <a:r>
              <a:rPr b="0" i="1" lang="fr-FR" sz="1000" spc="-1" strike="noStrike">
                <a:solidFill>
                  <a:srgbClr val="000020"/>
                </a:solidFill>
                <a:latin typeface="Arial"/>
              </a:rPr>
              <a:t>C</a:t>
            </a:r>
            <a:r>
              <a:rPr b="0" i="1" lang="fr-FR" sz="1000" spc="-1" strike="noStrike">
                <a:solidFill>
                  <a:srgbClr val="f71742"/>
                </a:solidFill>
                <a:latin typeface="Arial"/>
              </a:rPr>
              <a:t>o</a:t>
            </a:r>
            <a:r>
              <a:rPr b="0" i="1" lang="fr-FR" sz="1000" spc="-1" strike="noStrike">
                <a:solidFill>
                  <a:srgbClr val="000020"/>
                </a:solidFill>
                <a:latin typeface="Arial"/>
              </a:rPr>
              <a:t>mment Dir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3560" y="404640"/>
            <a:ext cx="6862680" cy="59544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1" lang="en-US" sz="2000" spc="-1" strike="noStrike">
                <a:solidFill>
                  <a:srgbClr val="2bffff"/>
                </a:solidFill>
                <a:latin typeface="Arial"/>
              </a:rPr>
              <a:t>Préalables à l’intervention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700"/>
            </a:br>
            <a:endParaRPr b="0" lang="en-US" sz="1700" spc="-1" strike="noStrike">
              <a:solidFill>
                <a:srgbClr val="2b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42840" y="1265400"/>
            <a:ext cx="5910480" cy="93024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1680" bIns="31680" anchor="t">
            <a:noAutofit/>
          </a:bodyPr>
          <a:p>
            <a:pPr marL="379440" indent="-379440">
              <a:spcBef>
                <a:spcPts val="4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L’observance est associée à des facteurs liés au vécu des traitements et aux événements survenant dans la vie du patien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77760" y="2289240"/>
            <a:ext cx="591192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1680" bIns="31680" anchor="t">
            <a:noAutofit/>
          </a:bodyPr>
          <a:p>
            <a:pPr lvl="1" marL="650880" indent="-325440">
              <a:lnSpc>
                <a:spcPct val="100000"/>
              </a:lnSpc>
              <a:spcBef>
                <a:spcPts val="425"/>
              </a:spcBef>
              <a:buClr>
                <a:srgbClr val="2bffff"/>
              </a:buClr>
              <a:buSzPct val="125000"/>
              <a:buFont typeface="Wingdings" charset="2"/>
              <a:buChar char=""/>
              <a:tabLst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0" lang="en-US" sz="1700" spc="-1" strike="noStrike">
                <a:solidFill>
                  <a:srgbClr val="2bffff"/>
                </a:solidFill>
                <a:latin typeface="Arial"/>
              </a:rPr>
              <a:t>Comment aider le patient à réduire les obstacles rencontrés dans son suivi de soin et dans la prise de son traitement ?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821200" y="4535640"/>
            <a:ext cx="129384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1680" bIns="3168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0" lang="en-US" sz="1000" spc="-1" strike="noStrike">
                <a:solidFill>
                  <a:srgbClr val="000020"/>
                </a:solidFill>
                <a:latin typeface="Arial"/>
              </a:rPr>
              <a:t>C</a:t>
            </a:r>
            <a:r>
              <a:rPr b="0" lang="en-US" sz="1000" spc="-1" strike="noStrike">
                <a:solidFill>
                  <a:srgbClr val="f71742"/>
                </a:solidFill>
                <a:latin typeface="Arial"/>
              </a:rPr>
              <a:t>o</a:t>
            </a:r>
            <a:r>
              <a:rPr b="0" lang="en-US" sz="1000" spc="-1" strike="noStrike">
                <a:solidFill>
                  <a:srgbClr val="000020"/>
                </a:solidFill>
                <a:latin typeface="Arial"/>
              </a:rPr>
              <a:t>mment Dir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4200" y="286920"/>
            <a:ext cx="6864480" cy="59364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1" lang="en-US" sz="2000" spc="-1" strike="noStrike">
                <a:solidFill>
                  <a:srgbClr val="2bffff"/>
                </a:solidFill>
                <a:latin typeface="Arial"/>
              </a:rPr>
              <a:t>Principes d’orientation pour  </a:t>
            </a:r>
            <a:br>
              <a:rPr sz="2000"/>
            </a:br>
            <a:r>
              <a:rPr b="1" lang="en-US" sz="2000" spc="-1" strike="noStrike">
                <a:solidFill>
                  <a:srgbClr val="2bffff"/>
                </a:solidFill>
                <a:latin typeface="Arial"/>
              </a:rPr>
              <a:t>l’ élaboration d’un modèle d’intervention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700"/>
            </a:br>
            <a:endParaRPr b="0" lang="en-US" sz="1700" spc="-1" strike="noStrike">
              <a:solidFill>
                <a:srgbClr val="2b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2480" y="1265400"/>
            <a:ext cx="5875560" cy="62208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1680" bIns="31680" anchor="t">
            <a:noAutofit/>
          </a:bodyPr>
          <a:p>
            <a:pPr marL="379440" indent="-379440">
              <a:spcBef>
                <a:spcPts val="425"/>
              </a:spcBef>
              <a:buClr>
                <a:srgbClr val="ffffff"/>
              </a:buClr>
              <a:buSzPct val="125000"/>
              <a:buFont typeface="Arial"/>
              <a:buAutoNum type="arabicPeriod"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Construction d’une </a:t>
            </a:r>
            <a:r>
              <a:rPr b="1" lang="en-US" sz="1700" spc="-1" strike="noStrike" u="sng">
                <a:solidFill>
                  <a:srgbClr val="ffffff"/>
                </a:solidFill>
                <a:uFillTx/>
                <a:latin typeface="Arial"/>
              </a:rPr>
              <a:t>définition opérationnelle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 de l’observance thérapeutiqu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50760" y="2097000"/>
            <a:ext cx="57261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1680" bIns="31680" anchor="t">
            <a:noAutofit/>
          </a:bodyPr>
          <a:p>
            <a:pPr marL="379440" indent="-379440"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SzPct val="125000"/>
              <a:buFont typeface="Arial"/>
              <a:buAutoNum type="arabicPeriod" startAt="2"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Choix d’une </a:t>
            </a:r>
            <a:r>
              <a:rPr b="1" lang="en-US" sz="1700" spc="-1" strike="noStrike" u="sng">
                <a:solidFill>
                  <a:srgbClr val="ffffff"/>
                </a:solidFill>
                <a:uFillTx/>
                <a:latin typeface="Arial"/>
              </a:rPr>
              <a:t>approche centrée sur la personne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00000" y="2830680"/>
            <a:ext cx="57358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1680" bIns="31680" anchor="t">
            <a:noAutofit/>
          </a:bodyPr>
          <a:p>
            <a:pPr marL="379440" indent="-379440"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SzPct val="125000"/>
              <a:buFont typeface="Arial"/>
              <a:buAutoNum type="arabicPeriod" startAt="3"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Conception d’une </a:t>
            </a:r>
            <a:r>
              <a:rPr b="1" lang="en-US" sz="1700" spc="-1" strike="noStrike" u="sng">
                <a:solidFill>
                  <a:srgbClr val="ffffff"/>
                </a:solidFill>
                <a:uFillTx/>
                <a:latin typeface="Arial"/>
              </a:rPr>
              <a:t>intervention brève et structurée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05040" y="3497400"/>
            <a:ext cx="583056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1680" bIns="31680" anchor="t">
            <a:noAutofit/>
          </a:bodyPr>
          <a:p>
            <a:pPr marL="379440" indent="-379440"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SzPct val="125000"/>
              <a:buFont typeface="Arial"/>
              <a:buAutoNum type="arabicPeriod" startAt="4"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Mise en œuvre de la </a:t>
            </a:r>
            <a:r>
              <a:rPr b="1" lang="en-US" sz="1700" spc="-1" strike="noStrike" u="sng">
                <a:solidFill>
                  <a:srgbClr val="ffffff"/>
                </a:solidFill>
                <a:uFillTx/>
                <a:latin typeface="Arial"/>
              </a:rPr>
              <a:t>formation et du suivi 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des équipes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821200" y="4535640"/>
            <a:ext cx="129384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1680" bIns="3168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0" lang="en-US" sz="1000" spc="-1" strike="noStrike">
                <a:solidFill>
                  <a:srgbClr val="000020"/>
                </a:solidFill>
                <a:latin typeface="Arial"/>
              </a:rPr>
              <a:t>C</a:t>
            </a:r>
            <a:r>
              <a:rPr b="0" lang="en-US" sz="1000" spc="-1" strike="noStrike">
                <a:solidFill>
                  <a:srgbClr val="f71742"/>
                </a:solidFill>
                <a:latin typeface="Arial"/>
              </a:rPr>
              <a:t>o</a:t>
            </a:r>
            <a:r>
              <a:rPr b="0" lang="en-US" sz="1000" spc="-1" strike="noStrike">
                <a:solidFill>
                  <a:srgbClr val="000020"/>
                </a:solidFill>
                <a:latin typeface="Arial"/>
              </a:rPr>
              <a:t>mment Dir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4200" y="132840"/>
            <a:ext cx="6864480" cy="5209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1" lang="en-US" sz="2000" spc="-1" strike="noStrike">
                <a:solidFill>
                  <a:srgbClr val="2bffff"/>
                </a:solidFill>
                <a:latin typeface="Arial"/>
              </a:rPr>
              <a:t>1. une définition opérationnelle</a:t>
            </a:r>
            <a:endParaRPr b="0" lang="en-US" sz="2000" spc="-1" strike="noStrike">
              <a:solidFill>
                <a:srgbClr val="2b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98200" y="930240"/>
            <a:ext cx="5902200" cy="97488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1680" bIns="31680" anchor="t">
            <a:noAutofit/>
          </a:bodyPr>
          <a:p>
            <a:pPr marL="379440" indent="0" algn="just">
              <a:spcBef>
                <a:spcPts val="425"/>
              </a:spcBef>
              <a:buNone/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L’observance thérapeutique désigne les </a:t>
            </a:r>
            <a:r>
              <a:rPr b="1" lang="en-US" sz="1700" spc="-1" strike="noStrike" u="sng">
                <a:solidFill>
                  <a:srgbClr val="ffffff"/>
                </a:solidFill>
                <a:uFillTx/>
                <a:latin typeface="Arial"/>
              </a:rPr>
              <a:t>capacité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79440" indent="0" algn="just">
              <a:spcBef>
                <a:spcPts val="425"/>
              </a:spcBef>
              <a:buNone/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d’une personne à prendre un traitement selon un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79440" indent="0" algn="just">
              <a:spcBef>
                <a:spcPts val="425"/>
              </a:spcBef>
              <a:buNone/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prescription donnée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884320" y="4025880"/>
            <a:ext cx="2102040" cy="652320"/>
          </a:xfrm>
          <a:prstGeom prst="ellipse">
            <a:avLst/>
          </a:prstGeom>
          <a:solidFill>
            <a:srgbClr val="66ffff"/>
          </a:solidFill>
          <a:ln w="12600">
            <a:solidFill>
              <a:srgbClr val="00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400" bIns="32400" anchor="ctr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1" lang="en-US" sz="1300" spc="-1" strike="noStrike">
                <a:solidFill>
                  <a:srgbClr val="000099"/>
                </a:solidFill>
                <a:latin typeface="Comic Sans MS"/>
              </a:rPr>
              <a:t>comportementaux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1246320" y="3560400"/>
            <a:ext cx="1666800" cy="371880"/>
          </a:xfrm>
          <a:prstGeom prst="ellipse">
            <a:avLst/>
          </a:prstGeom>
          <a:solidFill>
            <a:srgbClr val="66ffff"/>
          </a:solidFill>
          <a:ln w="12600">
            <a:solidFill>
              <a:srgbClr val="00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400" bIns="32400" anchor="ctr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1" lang="en-US" sz="1300" spc="-1" strike="noStrike">
                <a:solidFill>
                  <a:srgbClr val="000099"/>
                </a:solidFill>
                <a:latin typeface="Comic Sans MS"/>
              </a:rPr>
              <a:t>émotionnel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5108400" y="3539520"/>
            <a:ext cx="1386000" cy="372240"/>
          </a:xfrm>
          <a:prstGeom prst="ellipse">
            <a:avLst/>
          </a:prstGeom>
          <a:solidFill>
            <a:srgbClr val="66ffff"/>
          </a:solidFill>
          <a:ln w="12600">
            <a:solidFill>
              <a:srgbClr val="00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400" bIns="32400" anchor="ctr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1" lang="en-US" sz="1300" spc="-1" strike="noStrike">
                <a:solidFill>
                  <a:srgbClr val="000099"/>
                </a:solidFill>
                <a:latin typeface="Comic Sans MS"/>
              </a:rPr>
              <a:t>sociaux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824200" y="3196800"/>
            <a:ext cx="2165400" cy="371880"/>
          </a:xfrm>
          <a:prstGeom prst="ellipse">
            <a:avLst/>
          </a:prstGeom>
          <a:solidFill>
            <a:srgbClr val="66ffff"/>
          </a:solidFill>
          <a:ln w="12600">
            <a:solidFill>
              <a:srgbClr val="00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400" bIns="32400" anchor="ctr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1" lang="en-US" sz="1300" spc="-1" strike="noStrike">
                <a:solidFill>
                  <a:srgbClr val="000099"/>
                </a:solidFill>
                <a:latin typeface="Comic Sans MS"/>
              </a:rPr>
              <a:t>cognitif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34920" y="2044800"/>
            <a:ext cx="5902560" cy="9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1680" bIns="31680" anchor="t">
            <a:noAutofit/>
          </a:bodyPr>
          <a:p>
            <a:pPr marL="379440" indent="-379440"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Ces capacités sont influencées positivement ou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79440" indent="-379440"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négativement par </a:t>
            </a:r>
            <a:r>
              <a:rPr b="1" lang="en-US" sz="1700" spc="-1" strike="noStrike" u="sng">
                <a:solidFill>
                  <a:srgbClr val="ffffff"/>
                </a:solidFill>
                <a:uFillTx/>
                <a:latin typeface="Arial"/>
              </a:rPr>
              <a:t>des co-facteurs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 qui interagissent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79440" indent="-379440"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entre eux :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821200" y="4535640"/>
            <a:ext cx="129384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1680" bIns="3168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0" lang="en-US" sz="1000" spc="-1" strike="noStrike">
                <a:solidFill>
                  <a:srgbClr val="000020"/>
                </a:solidFill>
                <a:latin typeface="Arial"/>
              </a:rPr>
              <a:t>C</a:t>
            </a:r>
            <a:r>
              <a:rPr b="0" lang="en-US" sz="1000" spc="-1" strike="noStrike">
                <a:solidFill>
                  <a:srgbClr val="f71742"/>
                </a:solidFill>
                <a:latin typeface="Arial"/>
              </a:rPr>
              <a:t>o</a:t>
            </a:r>
            <a:r>
              <a:rPr b="0" lang="en-US" sz="1000" spc="-1" strike="noStrike">
                <a:solidFill>
                  <a:srgbClr val="000020"/>
                </a:solidFill>
                <a:latin typeface="Arial"/>
              </a:rPr>
              <a:t>mment Dir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229280" y="3262320"/>
            <a:ext cx="17506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400" bIns="32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omic Sans MS"/>
              </a:rPr>
              <a:t>Émotionnels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Vécu de la séropositivité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Vie affective, amoureuse et sexuel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Incertitude, dépression, stress…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27240" y="3270240"/>
            <a:ext cx="201924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400" bIns="32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omic Sans MS"/>
              </a:rPr>
              <a:t>Comportementaux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Stratégies mises en place pour la prise des traitement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Routin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Compétences et savoirs-fair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36560" y="1030320"/>
            <a:ext cx="1467000" cy="10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400" bIns="32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omic Sans MS"/>
              </a:rPr>
              <a:t>Cognitifs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Motiv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Attent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In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Croyances…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237200" y="1074600"/>
            <a:ext cx="155556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400" bIns="324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omic Sans MS"/>
              </a:rPr>
              <a:t>Sociaux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Soutien de l’entoura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Communication sur la séropositivité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Conditions sociales d’existence…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821200" y="4535640"/>
            <a:ext cx="129384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1680" bIns="3168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0" lang="en-US" sz="1000" spc="-1" strike="noStrike">
                <a:solidFill>
                  <a:srgbClr val="000020"/>
                </a:solidFill>
                <a:latin typeface="Arial"/>
              </a:rPr>
              <a:t>C</a:t>
            </a:r>
            <a:r>
              <a:rPr b="0" lang="en-US" sz="1000" spc="-1" strike="noStrike">
                <a:solidFill>
                  <a:srgbClr val="f71742"/>
                </a:solidFill>
                <a:latin typeface="Arial"/>
              </a:rPr>
              <a:t>o</a:t>
            </a:r>
            <a:r>
              <a:rPr b="0" lang="en-US" sz="1000" spc="-1" strike="noStrike">
                <a:solidFill>
                  <a:srgbClr val="000020"/>
                </a:solidFill>
                <a:latin typeface="Arial"/>
              </a:rPr>
              <a:t>mment Dir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4200" y="213840"/>
            <a:ext cx="6864480" cy="57780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1" lang="en-US" sz="2000" spc="-1" strike="noStrike">
                <a:solidFill>
                  <a:srgbClr val="2bffff"/>
                </a:solidFill>
                <a:latin typeface="Arial"/>
              </a:rPr>
              <a:t>2. Une approche centrée sur la personne</a:t>
            </a:r>
            <a:endParaRPr b="0" lang="en-US" sz="2000" spc="-1" strike="noStrike">
              <a:solidFill>
                <a:srgbClr val="2b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985320" y="1101240"/>
            <a:ext cx="5877000" cy="57780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1680" bIns="31680" anchor="t">
            <a:noAutofit/>
          </a:bodyPr>
          <a:p>
            <a:pPr marL="3794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Un counseling spécifique fondé sur 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94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postulats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7760" y="1917720"/>
            <a:ext cx="58770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1680" bIns="31680" anchor="t">
            <a:noAutofit/>
          </a:bodyPr>
          <a:p>
            <a:pPr marL="379440" indent="-379440">
              <a:lnSpc>
                <a:spcPct val="75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a personne ne doit pas disparaître derrière son traite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88920" y="2371680"/>
            <a:ext cx="5911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1680" bIns="31680" anchor="t">
            <a:noAutofit/>
          </a:bodyPr>
          <a:p>
            <a:pPr marL="379440" indent="-379440">
              <a:lnSpc>
                <a:spcPct val="75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a motivation est un processus dynamique qui se génère et se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intient sous certaines condi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79560" y="2979720"/>
            <a:ext cx="59562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1680" bIns="31680" anchor="t">
            <a:noAutofit/>
          </a:bodyPr>
          <a:p>
            <a:pPr marL="379440" indent="-379440">
              <a:lnSpc>
                <a:spcPct val="75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’observance dépend des stratégies d’ajustement de la personne au traitement mais aussi à la séropositivité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82800" y="3541680"/>
            <a:ext cx="59450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1680" bIns="31680" anchor="t">
            <a:noAutofit/>
          </a:bodyPr>
          <a:p>
            <a:pPr marL="379440" indent="-379440">
              <a:lnSpc>
                <a:spcPct val="75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l faut anticiper avec la personne un ensemble d’incidents critiques et le doter de compétences pour y faire fac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821200" y="4535640"/>
            <a:ext cx="129384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1680" bIns="3168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0" lang="en-US" sz="1000" spc="-1" strike="noStrike">
                <a:solidFill>
                  <a:srgbClr val="000020"/>
                </a:solidFill>
                <a:latin typeface="Arial"/>
              </a:rPr>
              <a:t>C</a:t>
            </a:r>
            <a:r>
              <a:rPr b="0" lang="en-US" sz="1000" spc="-1" strike="noStrike">
                <a:solidFill>
                  <a:srgbClr val="f71742"/>
                </a:solidFill>
                <a:latin typeface="Arial"/>
              </a:rPr>
              <a:t>o</a:t>
            </a:r>
            <a:r>
              <a:rPr b="0" lang="en-US" sz="1000" spc="-1" strike="noStrike">
                <a:solidFill>
                  <a:srgbClr val="000020"/>
                </a:solidFill>
                <a:latin typeface="Arial"/>
              </a:rPr>
              <a:t>mment Dir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4200" y="286920"/>
            <a:ext cx="6864480" cy="59364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1" lang="en-US" sz="2000" spc="-1" strike="noStrike">
                <a:solidFill>
                  <a:srgbClr val="2bffff"/>
                </a:solidFill>
                <a:latin typeface="Arial"/>
              </a:rPr>
              <a:t>3. Une intervention brève et structurée</a:t>
            </a:r>
            <a:endParaRPr b="0" lang="en-US" sz="2000" spc="-1" strike="noStrike">
              <a:solidFill>
                <a:srgbClr val="2b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25560" y="1434960"/>
            <a:ext cx="5875200" cy="47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1680" bIns="31680" anchor="t">
            <a:noAutofit/>
          </a:bodyPr>
          <a:p>
            <a:pPr>
              <a:spcBef>
                <a:spcPts val="4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4 entretiens de counsel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79560" y="2098800"/>
            <a:ext cx="58770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1680" bIns="3168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’intervenant dispose d’outils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90720" y="2689200"/>
            <a:ext cx="587664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1680" bIns="31680" anchor="t">
            <a:noAutofit/>
          </a:bodyPr>
          <a:p>
            <a:pPr lvl="1" marL="325440"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SzPct val="125000"/>
              <a:buFont typeface="Wingdings" charset="2"/>
              <a:buChar char=""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Un guide d’entretien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82800" y="3089160"/>
            <a:ext cx="5875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1680" bIns="31680" anchor="t">
            <a:noAutofit/>
          </a:bodyPr>
          <a:p>
            <a:pPr lvl="1" marL="325440"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SzPct val="125000"/>
              <a:buFont typeface="Wingdings" charset="2"/>
              <a:buChar char=""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Une fiche diagnostic observance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84240" y="3486240"/>
            <a:ext cx="58752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1680" bIns="31680" anchor="t">
            <a:noAutofit/>
          </a:bodyPr>
          <a:p>
            <a:pPr lvl="1" marL="325440"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SzPct val="125000"/>
              <a:buFont typeface="Wingdings" charset="2"/>
              <a:buChar char=""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Une fiche de suivi et d’évaluation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821200" y="4535640"/>
            <a:ext cx="129384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1680" bIns="3168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0" lang="en-US" sz="1000" spc="-1" strike="noStrike">
                <a:solidFill>
                  <a:srgbClr val="000020"/>
                </a:solidFill>
                <a:latin typeface="Arial"/>
              </a:rPr>
              <a:t>C</a:t>
            </a:r>
            <a:r>
              <a:rPr b="0" lang="en-US" sz="1000" spc="-1" strike="noStrike">
                <a:solidFill>
                  <a:srgbClr val="f71742"/>
                </a:solidFill>
                <a:latin typeface="Arial"/>
              </a:rPr>
              <a:t>o</a:t>
            </a:r>
            <a:r>
              <a:rPr b="0" lang="en-US" sz="1000" spc="-1" strike="noStrike">
                <a:solidFill>
                  <a:srgbClr val="000020"/>
                </a:solidFill>
                <a:latin typeface="Arial"/>
              </a:rPr>
              <a:t>mment Dir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4200" y="231840"/>
            <a:ext cx="6864480" cy="4953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1" lang="en-US" sz="2000" spc="-1" strike="noStrike">
                <a:solidFill>
                  <a:srgbClr val="2bffff"/>
                </a:solidFill>
                <a:latin typeface="Arial"/>
              </a:rPr>
              <a:t>4. Formation et suivi des intervenants</a:t>
            </a:r>
            <a:endParaRPr b="0" lang="en-US" sz="2000" spc="-1" strike="noStrike">
              <a:solidFill>
                <a:srgbClr val="2b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925200" y="965160"/>
            <a:ext cx="6313320" cy="6415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1680" bIns="31680" anchor="t">
            <a:noAutofit/>
          </a:bodyPr>
          <a:p>
            <a:pPr>
              <a:spcBef>
                <a:spcPts val="4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mation initiale des équipes et des intervenants de 5 à 8 jou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90640" y="2660760"/>
            <a:ext cx="634824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1680" bIns="3168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ivi et appui méthodologique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2 jours/trimestre)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25560" y="3371760"/>
            <a:ext cx="587844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1680" bIns="31680" anchor="t">
            <a:noAutofit/>
          </a:bodyPr>
          <a:p>
            <a:pPr lvl="1" marL="325440"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SzPct val="125000"/>
              <a:buFont typeface="Wingdings" charset="2"/>
              <a:buChar char=""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analyse des difficultés rencontrées dans la pratique </a:t>
            </a:r>
            <a:br>
              <a:rPr sz="1700"/>
            </a:b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  et au niveau institutionnel,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1" marL="325440"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SzPct val="125000"/>
              <a:buFont typeface="Wingdings" charset="2"/>
              <a:buChar char=""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études de cas,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1" marL="325440"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SzPct val="125000"/>
              <a:buFont typeface="Wingdings" charset="2"/>
              <a:buChar char=""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gestion de crise…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25560" y="1654200"/>
            <a:ext cx="58705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1680" bIns="31680" anchor="t">
            <a:noAutofit/>
          </a:bodyPr>
          <a:p>
            <a:pPr lvl="1" marL="325440"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SzPct val="125000"/>
              <a:buFont typeface="Wingdings" charset="2"/>
              <a:buChar char=""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observance thérapeutique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1" marL="325440"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SzPct val="125000"/>
              <a:buFont typeface="Wingdings" charset="2"/>
              <a:buChar char=""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counseling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1" marL="325440"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SzPct val="125000"/>
              <a:buFont typeface="Wingdings" charset="2"/>
              <a:buChar char=""/>
              <a:tabLst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à l’utilisation des outils de la consultation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1200" y="4535640"/>
            <a:ext cx="129384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1680" bIns="3168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r>
              <a:rPr b="0" lang="en-US" sz="1000" spc="-1" strike="noStrike">
                <a:solidFill>
                  <a:srgbClr val="000020"/>
                </a:solidFill>
                <a:latin typeface="Arial"/>
              </a:rPr>
              <a:t>C</a:t>
            </a:r>
            <a:r>
              <a:rPr b="0" lang="en-US" sz="1000" spc="-1" strike="noStrike">
                <a:solidFill>
                  <a:srgbClr val="f71742"/>
                </a:solidFill>
                <a:latin typeface="Arial"/>
              </a:rPr>
              <a:t>o</a:t>
            </a:r>
            <a:r>
              <a:rPr b="0" lang="en-US" sz="1000" spc="-1" strike="noStrike">
                <a:solidFill>
                  <a:srgbClr val="000020"/>
                </a:solidFill>
                <a:latin typeface="Arial"/>
              </a:rPr>
              <a:t>mment Dir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5T03:11:06Z</dcterms:created>
  <dc:creator>Comment Dire</dc:creator>
  <dc:description/>
  <cp:keywords>Observance thérapeutique - Counseling - Modélisation intervention</cp:keywords>
  <dc:language>en-US</dc:language>
  <cp:lastModifiedBy>Maryline</cp:lastModifiedBy>
  <dcterms:modified xsi:type="dcterms:W3CDTF">2003-02-20T14:38:52Z</dcterms:modified>
  <cp:revision>164</cp:revision>
  <dc:subject>OBSERVANCE THERAPEUTIQUE - COUNSELING</dc:subject>
  <dc:title>CONFERENCE SAO PAULO 10-12-2002</dc:title>
</cp:coreProperties>
</file>