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46CA-4E70-4515-A6E4-5C8C0AD06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74DA-4EDD-4DF3-90F9-264A2742C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B2A2-BD78-4052-B20D-3E7DFB14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C0CA-F22E-49F5-8D35-AC8E0905E7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E9CD-2344-4041-A8B2-F525DDDD7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0EE5-2486-4C7F-87A2-91EA787D5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94D4-5A1C-4F39-8A44-792C598D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08B9-5CA1-4D6D-B05D-1577DE00D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A4CF-98B2-4804-8F57-E3867B73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B04F-5443-4D37-9AC7-DAEEF7AB4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C6CA-50C5-4C13-AFBA-BCEAB32A0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DDB2-670D-46A6-8DC1-CC9ADD21F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7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18C-E470-482F-9328-192C32342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533520" y="762120"/>
            <a:ext cx="7238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 qu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fau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a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r la maladie de Parkin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 Nicolas Fouillet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ntre Médical Beaulie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bo les b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clinique Côte Basque S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int Jean de Lu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it du diaporama recomposé par CTT pour des formateurs en ETP le 28 mars 2013 à usage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517680" y="276120"/>
            <a:ext cx="82422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tements pharmacologiques antiparkinson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L-Dopa ou lévodopa et potentia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-Agonistes dopaminer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Manta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-Anticholiner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numéro de diapositive 3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30F0-A411-44C0-9E0F-9898B14E2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-Une Chronologie des p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dapté à chaqu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366920" y="3962520"/>
            <a:ext cx="33948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1384200" y="1903320"/>
            <a:ext cx="1800" cy="294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398600" y="4861080"/>
            <a:ext cx="6678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1384200" y="3851280"/>
            <a:ext cx="234324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3441600" y="3851280"/>
            <a:ext cx="234324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5479920" y="3870360"/>
            <a:ext cx="2343240" cy="10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413000" y="3678120"/>
            <a:ext cx="6390720" cy="1001880"/>
            <a:chOff x="1413000" y="3678120"/>
            <a:chExt cx="6390720" cy="1001880"/>
          </a:xfrm>
        </p:grpSpPr>
        <p:sp>
          <p:nvSpPr>
            <p:cNvPr id="51" name="Freeform 8"/>
            <p:cNvSpPr/>
            <p:nvPr/>
          </p:nvSpPr>
          <p:spPr>
            <a:xfrm>
              <a:off x="1413000" y="3689280"/>
              <a:ext cx="2390400" cy="99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649" y="15369"/>
                  </a:lnTo>
                  <a:lnTo>
                    <a:pt x="3428" y="9554"/>
                  </a:lnTo>
                  <a:lnTo>
                    <a:pt x="4833" y="5815"/>
                  </a:lnTo>
                  <a:lnTo>
                    <a:pt x="7157" y="1869"/>
                  </a:lnTo>
                  <a:lnTo>
                    <a:pt x="9480" y="0"/>
                  </a:lnTo>
                  <a:lnTo>
                    <a:pt x="11388" y="0"/>
                  </a:lnTo>
                  <a:lnTo>
                    <a:pt x="12908" y="831"/>
                  </a:lnTo>
                  <a:lnTo>
                    <a:pt x="14988" y="3946"/>
                  </a:lnTo>
                  <a:lnTo>
                    <a:pt x="17068" y="8308"/>
                  </a:lnTo>
                  <a:lnTo>
                    <a:pt x="18760" y="11631"/>
                  </a:lnTo>
                  <a:lnTo>
                    <a:pt x="20137" y="11631"/>
                  </a:lnTo>
                  <a:lnTo>
                    <a:pt x="21600" y="9554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3811320" y="3678120"/>
              <a:ext cx="3992400" cy="88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013"/>
                  </a:moveTo>
                  <a:lnTo>
                    <a:pt x="936" y="6298"/>
                  </a:lnTo>
                  <a:lnTo>
                    <a:pt x="2224" y="2125"/>
                  </a:lnTo>
                  <a:lnTo>
                    <a:pt x="3564" y="39"/>
                  </a:lnTo>
                  <a:lnTo>
                    <a:pt x="4698" y="0"/>
                  </a:lnTo>
                  <a:lnTo>
                    <a:pt x="5780" y="1198"/>
                  </a:lnTo>
                  <a:lnTo>
                    <a:pt x="6922" y="3864"/>
                  </a:lnTo>
                  <a:lnTo>
                    <a:pt x="8202" y="9081"/>
                  </a:lnTo>
                  <a:lnTo>
                    <a:pt x="9026" y="12790"/>
                  </a:lnTo>
                  <a:lnTo>
                    <a:pt x="9645" y="14181"/>
                  </a:lnTo>
                  <a:lnTo>
                    <a:pt x="10572" y="11399"/>
                  </a:lnTo>
                  <a:lnTo>
                    <a:pt x="11758" y="7342"/>
                  </a:lnTo>
                  <a:lnTo>
                    <a:pt x="13767" y="2125"/>
                  </a:lnTo>
                  <a:lnTo>
                    <a:pt x="15159" y="1391"/>
                  </a:lnTo>
                  <a:lnTo>
                    <a:pt x="16911" y="2550"/>
                  </a:lnTo>
                  <a:lnTo>
                    <a:pt x="18482" y="6298"/>
                  </a:lnTo>
                  <a:lnTo>
                    <a:pt x="19951" y="12790"/>
                  </a:lnTo>
                  <a:lnTo>
                    <a:pt x="21600" y="2160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0"/>
          <p:cNvSpPr/>
          <p:nvPr/>
        </p:nvSpPr>
        <p:spPr>
          <a:xfrm>
            <a:off x="1072800" y="2230560"/>
            <a:ext cx="111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-D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sma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3657600" y="2895480"/>
            <a:ext cx="1295280" cy="96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3546360" y="2730600"/>
            <a:ext cx="54000" cy="428400"/>
          </a:xfrm>
          <a:prstGeom prst="line">
            <a:avLst/>
          </a:prstGeom>
          <a:ln w="255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562720" y="1981080"/>
            <a:ext cx="1600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KINES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VI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 DE D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757240" y="2209680"/>
            <a:ext cx="144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KINES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910080" y="35607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878040" y="4532400"/>
            <a:ext cx="58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339840" y="539640"/>
            <a:ext cx="859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luctuations :une vision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>
            <a:off x="541440" y="1371600"/>
            <a:ext cx="8196120" cy="1440"/>
          </a:xfrm>
          <a:prstGeom prst="line">
            <a:avLst/>
          </a:prstGeom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133720" y="5181480"/>
            <a:ext cx="5205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3048120" y="5181480"/>
            <a:ext cx="1511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toni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5452920" y="3036960"/>
            <a:ext cx="155880" cy="68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1065960" y="3886200"/>
            <a:ext cx="72392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4092480" y="2743200"/>
            <a:ext cx="1241640" cy="685800"/>
          </a:xfrm>
          <a:prstGeom prst="line">
            <a:avLst/>
          </a:prstGeom>
          <a:ln w="255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2133720" y="358128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248520" y="358128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4191120" y="3505320"/>
            <a:ext cx="83808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1905120" y="571500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2895120" y="5638680"/>
            <a:ext cx="18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kinésies de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9"/>
          <p:cNvSpPr/>
          <p:nvPr/>
        </p:nvSpPr>
        <p:spPr>
          <a:xfrm flipH="1">
            <a:off x="2743200" y="2819520"/>
            <a:ext cx="54000" cy="428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0"/>
          <p:cNvSpPr/>
          <p:nvPr/>
        </p:nvSpPr>
        <p:spPr>
          <a:xfrm>
            <a:off x="3733920" y="2590920"/>
            <a:ext cx="685800" cy="83808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1"/>
          <p:cNvSpPr/>
          <p:nvPr/>
        </p:nvSpPr>
        <p:spPr>
          <a:xfrm>
            <a:off x="1371600" y="2994120"/>
            <a:ext cx="3276720" cy="1882800"/>
          </a:xfrm>
          <a:custGeom>
            <a:avLst/>
            <a:gdLst/>
            <a:ahLst/>
            <a:rect l="l" t="t" r="r" b="b"/>
            <a:pathLst>
              <a:path w="21600" h="19750">
                <a:moveTo>
                  <a:pt x="0" y="19750"/>
                </a:moveTo>
                <a:cubicBezTo>
                  <a:pt x="1125" y="11684"/>
                  <a:pt x="2250" y="3618"/>
                  <a:pt x="3240" y="884"/>
                </a:cubicBezTo>
                <a:cubicBezTo>
                  <a:pt x="4230" y="-1850"/>
                  <a:pt x="5130" y="2525"/>
                  <a:pt x="5940" y="3345"/>
                </a:cubicBezTo>
                <a:cubicBezTo>
                  <a:pt x="6750" y="4165"/>
                  <a:pt x="7110" y="4302"/>
                  <a:pt x="8100" y="5806"/>
                </a:cubicBezTo>
                <a:cubicBezTo>
                  <a:pt x="9090" y="7309"/>
                  <a:pt x="10890" y="11001"/>
                  <a:pt x="11880" y="12368"/>
                </a:cubicBezTo>
                <a:cubicBezTo>
                  <a:pt x="12870" y="13735"/>
                  <a:pt x="12870" y="13461"/>
                  <a:pt x="14040" y="14008"/>
                </a:cubicBezTo>
                <a:cubicBezTo>
                  <a:pt x="15210" y="14555"/>
                  <a:pt x="17640" y="14692"/>
                  <a:pt x="18900" y="15649"/>
                </a:cubicBezTo>
                <a:cubicBezTo>
                  <a:pt x="20160" y="16606"/>
                  <a:pt x="21150" y="19066"/>
                  <a:pt x="21600" y="1975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1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73AC-69DB-4483-B830-3FF2E5631F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45600" cy="4178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746080" y="7034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ヒラギノ明朝 ProN W3"/>
              </a:rPr>
              <a:t>Ex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1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FD5-A8DA-4A3C-9E7F-2755FE69A2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2" descr="Capture d’écran 2012-05-01 à 16.37.26.png"/>
          <p:cNvPicPr/>
          <p:nvPr/>
        </p:nvPicPr>
        <p:blipFill>
          <a:blip r:embed="rId1"/>
          <a:stretch/>
        </p:blipFill>
        <p:spPr>
          <a:xfrm>
            <a:off x="179280" y="907920"/>
            <a:ext cx="87631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therine tourette-turgis</cp:lastModifiedBy>
  <dcterms:modified xsi:type="dcterms:W3CDTF">2013-03-28T16:29:37Z</dcterms:modified>
  <cp:revision>10</cp:revision>
  <dc:subject/>
  <dc:title>Présentation PowerPoint</dc:title>
</cp:coreProperties>
</file>