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FB44-C869-4C15-98C9-B0C587FAAF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refore, we designed a prospective controlled randomised study to measure the efficacy of a brief counselling intervention on adherence and on viral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 three Departments of Nice University Hospital, patients were randomly affected in two groups : an intervention group, and a control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inclusion criteria were patients with HAART during one month at least, including Protease inhibitors, Nucleoside reverse transcriptase, Non nucleoside reverse transcript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study protocol was previously established for a length of six months. In the control group, patients received usual care, and were asked to fill self-administrated-questionnaires. Viral load was measured at month 0 and month 6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 the intervention group, patients were invited to receive counselling. The counselling sessions were scheduled after their bi-monthly medical follow-up. The study offered sessions, and as in the control group, the patients were asked to fill self administrated-questionnaires before the intervention, and aft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adherence was measured by a self-administrated questionnai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adherence was defined by one hundred percent of doses taken during the last four d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 this questionnaire, items have been validated through previous studies, showing a high consistency between adherence announced by patients, and their viral lo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iral load was measured by RT-PCR, the limit of detection being at four hundred copies per m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program was conducted from June Nineteen Ninety-nine to October Two Thousand in 3 different Departments of the Nice University Hospit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t the beginning, three hundred and ten patients were asked for inclus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rate of inclusion was eighty-eight per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ne hundred and thirty-eight were in the IG, one hundred and thirty-six in the CG. Respectively eight and nine subjects were lost to follow-up, five and two were prescribed a structured treatment interruption at when self-administrated questionnaire was proposed at month 6. Finally, as a total ,one hundred and twenty-five patients were included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uring thestudy , forty per cent of the intervention group patients received four sessions of counseling; thirty percent received three; thirteen received two, and seven per cent were provided with only one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lobally, seventy percent of these patients  received three or more sessions  during the six month follow-up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oreover, the qualitative study shows that patients who eceived counselling developed skills to communicate with their physicians, and were more able to negotiate about care and treatment op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patients were less centred on treatment issues, and more ready to confront lif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oreover, the qualitative study shows that patients who eceived counselling developed skills to communicate with their physicians, and were more able to negotiate about care and treatment op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patients were less centred on treatment issues, and more ready to confront lif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t confirms that medication adherence counselling can be delivered by trained and supervised nur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herence counselling should address personal growth issues and prevention as we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90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4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90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4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6520" y="250200"/>
            <a:ext cx="84909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590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94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24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590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94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520" y="250200"/>
            <a:ext cx="84909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2819520"/>
              <a:ext cx="9144000" cy="4038480"/>
            </a:xfrm>
            <a:prstGeom prst="rect">
              <a:avLst/>
            </a:prstGeom>
            <a:solidFill>
              <a:srgbClr val="003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3048120"/>
            </a:xfrm>
            <a:prstGeom prst="rect">
              <a:avLst/>
            </a:prstGeom>
            <a:gradFill rotWithShape="0">
              <a:gsLst>
                <a:gs pos="0">
                  <a:srgbClr val="285c68"/>
                </a:gs>
                <a:gs pos="100000">
                  <a:srgbClr val="003d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876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Aft>
                <a:spcPts val="876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9080"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06640" indent="-289080">
              <a:spcAft>
                <a:spcPts val="876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568600" indent="-289080">
              <a:spcAft>
                <a:spcPts val="876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568600" indent="-289080"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568600" indent="-289080"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2819520"/>
              <a:ext cx="9144000" cy="4038480"/>
            </a:xfrm>
            <a:prstGeom prst="rect">
              <a:avLst/>
            </a:prstGeom>
            <a:solidFill>
              <a:srgbClr val="003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3048120"/>
            </a:xfrm>
            <a:prstGeom prst="rect">
              <a:avLst/>
            </a:prstGeom>
            <a:gradFill rotWithShape="0">
              <a:gsLst>
                <a:gs pos="0">
                  <a:srgbClr val="285c68"/>
                </a:gs>
                <a:gs pos="100000">
                  <a:srgbClr val="003d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2240" y="1102320"/>
            <a:ext cx="7139520" cy="16135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82080" y="6284880"/>
            <a:ext cx="780840" cy="420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6124680"/>
            <a:ext cx="476280" cy="5810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289320" y="152280"/>
            <a:ext cx="2565000" cy="579600"/>
            <a:chOff x="3289320" y="152280"/>
            <a:chExt cx="2565000" cy="579600"/>
          </a:xfrm>
        </p:grpSpPr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3777480" y="233280"/>
              <a:ext cx="2076840" cy="49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3289320" y="152280"/>
              <a:ext cx="436320" cy="465840"/>
              <a:chOff x="3289320" y="152280"/>
              <a:chExt cx="436320" cy="465840"/>
            </a:xfrm>
          </p:grpSpPr>
          <p:sp>
            <p:nvSpPr>
              <p:cNvPr id="50" name=""/>
              <p:cNvSpPr/>
              <p:nvPr/>
            </p:nvSpPr>
            <p:spPr>
              <a:xfrm>
                <a:off x="3301560" y="347400"/>
                <a:ext cx="424080" cy="64080"/>
              </a:xfrm>
              <a:custGeom>
                <a:avLst/>
                <a:gdLst/>
                <a:ahLst/>
                <a:rect l="l" t="t" r="r" b="b"/>
                <a:pathLst>
                  <a:path w="2993" h="436">
                    <a:moveTo>
                      <a:pt x="0" y="0"/>
                    </a:moveTo>
                    <a:lnTo>
                      <a:pt x="255" y="74"/>
                    </a:lnTo>
                    <a:lnTo>
                      <a:pt x="805" y="138"/>
                    </a:lnTo>
                    <a:lnTo>
                      <a:pt x="873" y="149"/>
                    </a:lnTo>
                    <a:lnTo>
                      <a:pt x="969" y="159"/>
                    </a:lnTo>
                    <a:lnTo>
                      <a:pt x="1009" y="165"/>
                    </a:lnTo>
                    <a:lnTo>
                      <a:pt x="1048" y="165"/>
                    </a:lnTo>
                    <a:lnTo>
                      <a:pt x="1077" y="159"/>
                    </a:lnTo>
                    <a:lnTo>
                      <a:pt x="1088" y="154"/>
                    </a:lnTo>
                    <a:lnTo>
                      <a:pt x="1094" y="149"/>
                    </a:lnTo>
                    <a:lnTo>
                      <a:pt x="1139" y="159"/>
                    </a:lnTo>
                    <a:lnTo>
                      <a:pt x="1156" y="165"/>
                    </a:lnTo>
                    <a:lnTo>
                      <a:pt x="1173" y="165"/>
                    </a:lnTo>
                    <a:lnTo>
                      <a:pt x="1219" y="165"/>
                    </a:lnTo>
                    <a:lnTo>
                      <a:pt x="1258" y="154"/>
                    </a:lnTo>
                    <a:lnTo>
                      <a:pt x="1281" y="149"/>
                    </a:lnTo>
                    <a:lnTo>
                      <a:pt x="1292" y="143"/>
                    </a:lnTo>
                    <a:lnTo>
                      <a:pt x="1321" y="149"/>
                    </a:lnTo>
                    <a:lnTo>
                      <a:pt x="1394" y="154"/>
                    </a:lnTo>
                    <a:lnTo>
                      <a:pt x="1474" y="165"/>
                    </a:lnTo>
                    <a:lnTo>
                      <a:pt x="1513" y="175"/>
                    </a:lnTo>
                    <a:lnTo>
                      <a:pt x="1536" y="180"/>
                    </a:lnTo>
                    <a:lnTo>
                      <a:pt x="1559" y="186"/>
                    </a:lnTo>
                    <a:lnTo>
                      <a:pt x="1581" y="186"/>
                    </a:lnTo>
                    <a:lnTo>
                      <a:pt x="1598" y="186"/>
                    </a:lnTo>
                    <a:lnTo>
                      <a:pt x="1621" y="186"/>
                    </a:lnTo>
                    <a:lnTo>
                      <a:pt x="1644" y="180"/>
                    </a:lnTo>
                    <a:lnTo>
                      <a:pt x="1683" y="170"/>
                    </a:lnTo>
                    <a:lnTo>
                      <a:pt x="1763" y="143"/>
                    </a:lnTo>
                    <a:lnTo>
                      <a:pt x="1797" y="133"/>
                    </a:lnTo>
                    <a:lnTo>
                      <a:pt x="1831" y="122"/>
                    </a:lnTo>
                    <a:lnTo>
                      <a:pt x="1853" y="117"/>
                    </a:lnTo>
                    <a:lnTo>
                      <a:pt x="1882" y="117"/>
                    </a:lnTo>
                    <a:lnTo>
                      <a:pt x="1904" y="122"/>
                    </a:lnTo>
                    <a:lnTo>
                      <a:pt x="1927" y="133"/>
                    </a:lnTo>
                    <a:lnTo>
                      <a:pt x="1950" y="138"/>
                    </a:lnTo>
                    <a:lnTo>
                      <a:pt x="1973" y="143"/>
                    </a:lnTo>
                    <a:lnTo>
                      <a:pt x="1995" y="138"/>
                    </a:lnTo>
                    <a:lnTo>
                      <a:pt x="2024" y="127"/>
                    </a:lnTo>
                    <a:lnTo>
                      <a:pt x="2012" y="101"/>
                    </a:lnTo>
                    <a:lnTo>
                      <a:pt x="2409" y="154"/>
                    </a:lnTo>
                    <a:lnTo>
                      <a:pt x="2505" y="133"/>
                    </a:lnTo>
                    <a:lnTo>
                      <a:pt x="2539" y="133"/>
                    </a:lnTo>
                    <a:lnTo>
                      <a:pt x="2573" y="138"/>
                    </a:lnTo>
                    <a:lnTo>
                      <a:pt x="2607" y="138"/>
                    </a:lnTo>
                    <a:lnTo>
                      <a:pt x="2647" y="143"/>
                    </a:lnTo>
                    <a:lnTo>
                      <a:pt x="2709" y="159"/>
                    </a:lnTo>
                    <a:lnTo>
                      <a:pt x="2772" y="175"/>
                    </a:lnTo>
                    <a:lnTo>
                      <a:pt x="2800" y="180"/>
                    </a:lnTo>
                    <a:lnTo>
                      <a:pt x="2829" y="180"/>
                    </a:lnTo>
                    <a:lnTo>
                      <a:pt x="2885" y="186"/>
                    </a:lnTo>
                    <a:lnTo>
                      <a:pt x="2919" y="191"/>
                    </a:lnTo>
                    <a:lnTo>
                      <a:pt x="2942" y="196"/>
                    </a:lnTo>
                    <a:lnTo>
                      <a:pt x="2970" y="207"/>
                    </a:lnTo>
                    <a:lnTo>
                      <a:pt x="2976" y="212"/>
                    </a:lnTo>
                    <a:lnTo>
                      <a:pt x="2987" y="223"/>
                    </a:lnTo>
                    <a:lnTo>
                      <a:pt x="2993" y="228"/>
                    </a:lnTo>
                    <a:lnTo>
                      <a:pt x="2965" y="271"/>
                    </a:lnTo>
                    <a:lnTo>
                      <a:pt x="2976" y="271"/>
                    </a:lnTo>
                    <a:lnTo>
                      <a:pt x="2982" y="281"/>
                    </a:lnTo>
                    <a:lnTo>
                      <a:pt x="2965" y="287"/>
                    </a:lnTo>
                    <a:lnTo>
                      <a:pt x="2953" y="303"/>
                    </a:lnTo>
                    <a:lnTo>
                      <a:pt x="2976" y="303"/>
                    </a:lnTo>
                    <a:lnTo>
                      <a:pt x="2965" y="324"/>
                    </a:lnTo>
                    <a:lnTo>
                      <a:pt x="2216" y="409"/>
                    </a:lnTo>
                    <a:lnTo>
                      <a:pt x="2182" y="414"/>
                    </a:lnTo>
                    <a:lnTo>
                      <a:pt x="2154" y="414"/>
                    </a:lnTo>
                    <a:lnTo>
                      <a:pt x="2120" y="409"/>
                    </a:lnTo>
                    <a:lnTo>
                      <a:pt x="2086" y="404"/>
                    </a:lnTo>
                    <a:lnTo>
                      <a:pt x="2046" y="404"/>
                    </a:lnTo>
                    <a:lnTo>
                      <a:pt x="2012" y="404"/>
                    </a:lnTo>
                    <a:lnTo>
                      <a:pt x="1995" y="404"/>
                    </a:lnTo>
                    <a:lnTo>
                      <a:pt x="1978" y="409"/>
                    </a:lnTo>
                    <a:lnTo>
                      <a:pt x="1961" y="414"/>
                    </a:lnTo>
                    <a:lnTo>
                      <a:pt x="1944" y="425"/>
                    </a:lnTo>
                    <a:lnTo>
                      <a:pt x="1967" y="430"/>
                    </a:lnTo>
                    <a:lnTo>
                      <a:pt x="1967" y="436"/>
                    </a:lnTo>
                    <a:lnTo>
                      <a:pt x="1876" y="425"/>
                    </a:lnTo>
                    <a:lnTo>
                      <a:pt x="1763" y="372"/>
                    </a:lnTo>
                    <a:lnTo>
                      <a:pt x="1774" y="404"/>
                    </a:lnTo>
                    <a:lnTo>
                      <a:pt x="1689" y="404"/>
                    </a:lnTo>
                    <a:lnTo>
                      <a:pt x="1610" y="398"/>
                    </a:lnTo>
                    <a:lnTo>
                      <a:pt x="1530" y="393"/>
                    </a:lnTo>
                    <a:lnTo>
                      <a:pt x="1451" y="388"/>
                    </a:lnTo>
                    <a:lnTo>
                      <a:pt x="1372" y="382"/>
                    </a:lnTo>
                    <a:lnTo>
                      <a:pt x="1287" y="382"/>
                    </a:lnTo>
                    <a:lnTo>
                      <a:pt x="1207" y="382"/>
                    </a:lnTo>
                    <a:lnTo>
                      <a:pt x="1122" y="388"/>
                    </a:lnTo>
                    <a:lnTo>
                      <a:pt x="1122" y="398"/>
                    </a:lnTo>
                    <a:lnTo>
                      <a:pt x="1207" y="420"/>
                    </a:lnTo>
                    <a:lnTo>
                      <a:pt x="975" y="409"/>
                    </a:lnTo>
                    <a:lnTo>
                      <a:pt x="1077" y="382"/>
                    </a:lnTo>
                    <a:lnTo>
                      <a:pt x="918" y="361"/>
                    </a:lnTo>
                    <a:lnTo>
                      <a:pt x="890" y="372"/>
                    </a:lnTo>
                    <a:lnTo>
                      <a:pt x="844" y="377"/>
                    </a:lnTo>
                    <a:lnTo>
                      <a:pt x="782" y="388"/>
                    </a:lnTo>
                    <a:lnTo>
                      <a:pt x="714" y="398"/>
                    </a:lnTo>
                    <a:lnTo>
                      <a:pt x="652" y="404"/>
                    </a:lnTo>
                    <a:lnTo>
                      <a:pt x="618" y="404"/>
                    </a:lnTo>
                    <a:lnTo>
                      <a:pt x="589" y="404"/>
                    </a:lnTo>
                    <a:lnTo>
                      <a:pt x="561" y="404"/>
                    </a:lnTo>
                    <a:lnTo>
                      <a:pt x="538" y="398"/>
                    </a:lnTo>
                    <a:lnTo>
                      <a:pt x="516" y="398"/>
                    </a:lnTo>
                    <a:lnTo>
                      <a:pt x="504" y="388"/>
                    </a:lnTo>
                    <a:lnTo>
                      <a:pt x="476" y="356"/>
                    </a:lnTo>
                    <a:lnTo>
                      <a:pt x="362" y="361"/>
                    </a:lnTo>
                    <a:lnTo>
                      <a:pt x="272" y="361"/>
                    </a:lnTo>
                    <a:lnTo>
                      <a:pt x="221" y="356"/>
                    </a:lnTo>
                    <a:lnTo>
                      <a:pt x="175" y="345"/>
                    </a:lnTo>
                    <a:lnTo>
                      <a:pt x="136" y="329"/>
                    </a:lnTo>
                    <a:lnTo>
                      <a:pt x="96" y="313"/>
                    </a:lnTo>
                    <a:lnTo>
                      <a:pt x="62" y="292"/>
                    </a:lnTo>
                    <a:lnTo>
                      <a:pt x="45" y="276"/>
                    </a:lnTo>
                    <a:lnTo>
                      <a:pt x="34" y="260"/>
                    </a:lnTo>
                    <a:lnTo>
                      <a:pt x="22" y="239"/>
                    </a:lnTo>
                    <a:lnTo>
                      <a:pt x="11" y="212"/>
                    </a:lnTo>
                    <a:lnTo>
                      <a:pt x="5" y="186"/>
                    </a:lnTo>
                    <a:lnTo>
                      <a:pt x="5" y="149"/>
                    </a:ln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26480" y="458640"/>
                <a:ext cx="156960" cy="15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424680" y="174600"/>
                <a:ext cx="156600" cy="157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289320" y="336240"/>
                <a:ext cx="424080" cy="64080"/>
              </a:xfrm>
              <a:custGeom>
                <a:avLst/>
                <a:gdLst/>
                <a:ahLst/>
                <a:rect l="l" t="t" r="r" b="b"/>
                <a:pathLst>
                  <a:path w="2993" h="436">
                    <a:moveTo>
                      <a:pt x="0" y="0"/>
                    </a:moveTo>
                    <a:lnTo>
                      <a:pt x="255" y="74"/>
                    </a:lnTo>
                    <a:lnTo>
                      <a:pt x="805" y="138"/>
                    </a:lnTo>
                    <a:lnTo>
                      <a:pt x="873" y="149"/>
                    </a:lnTo>
                    <a:lnTo>
                      <a:pt x="969" y="159"/>
                    </a:lnTo>
                    <a:lnTo>
                      <a:pt x="1009" y="165"/>
                    </a:lnTo>
                    <a:lnTo>
                      <a:pt x="1048" y="165"/>
                    </a:lnTo>
                    <a:lnTo>
                      <a:pt x="1077" y="159"/>
                    </a:lnTo>
                    <a:lnTo>
                      <a:pt x="1088" y="154"/>
                    </a:lnTo>
                    <a:lnTo>
                      <a:pt x="1094" y="149"/>
                    </a:lnTo>
                    <a:lnTo>
                      <a:pt x="1139" y="159"/>
                    </a:lnTo>
                    <a:lnTo>
                      <a:pt x="1156" y="165"/>
                    </a:lnTo>
                    <a:lnTo>
                      <a:pt x="1173" y="165"/>
                    </a:lnTo>
                    <a:lnTo>
                      <a:pt x="1219" y="165"/>
                    </a:lnTo>
                    <a:lnTo>
                      <a:pt x="1258" y="154"/>
                    </a:lnTo>
                    <a:lnTo>
                      <a:pt x="1281" y="149"/>
                    </a:lnTo>
                    <a:lnTo>
                      <a:pt x="1292" y="143"/>
                    </a:lnTo>
                    <a:lnTo>
                      <a:pt x="1321" y="149"/>
                    </a:lnTo>
                    <a:lnTo>
                      <a:pt x="1394" y="154"/>
                    </a:lnTo>
                    <a:lnTo>
                      <a:pt x="1474" y="165"/>
                    </a:lnTo>
                    <a:lnTo>
                      <a:pt x="1513" y="175"/>
                    </a:lnTo>
                    <a:lnTo>
                      <a:pt x="1536" y="180"/>
                    </a:lnTo>
                    <a:lnTo>
                      <a:pt x="1559" y="186"/>
                    </a:lnTo>
                    <a:lnTo>
                      <a:pt x="1581" y="186"/>
                    </a:lnTo>
                    <a:lnTo>
                      <a:pt x="1598" y="186"/>
                    </a:lnTo>
                    <a:lnTo>
                      <a:pt x="1621" y="186"/>
                    </a:lnTo>
                    <a:lnTo>
                      <a:pt x="1644" y="180"/>
                    </a:lnTo>
                    <a:lnTo>
                      <a:pt x="1683" y="170"/>
                    </a:lnTo>
                    <a:lnTo>
                      <a:pt x="1763" y="143"/>
                    </a:lnTo>
                    <a:lnTo>
                      <a:pt x="1797" y="133"/>
                    </a:lnTo>
                    <a:lnTo>
                      <a:pt x="1831" y="122"/>
                    </a:lnTo>
                    <a:lnTo>
                      <a:pt x="1853" y="117"/>
                    </a:lnTo>
                    <a:lnTo>
                      <a:pt x="1882" y="117"/>
                    </a:lnTo>
                    <a:lnTo>
                      <a:pt x="1904" y="122"/>
                    </a:lnTo>
                    <a:lnTo>
                      <a:pt x="1927" y="133"/>
                    </a:lnTo>
                    <a:lnTo>
                      <a:pt x="1950" y="138"/>
                    </a:lnTo>
                    <a:lnTo>
                      <a:pt x="1973" y="143"/>
                    </a:lnTo>
                    <a:lnTo>
                      <a:pt x="1995" y="138"/>
                    </a:lnTo>
                    <a:lnTo>
                      <a:pt x="2024" y="127"/>
                    </a:lnTo>
                    <a:lnTo>
                      <a:pt x="2012" y="101"/>
                    </a:lnTo>
                    <a:lnTo>
                      <a:pt x="2409" y="154"/>
                    </a:lnTo>
                    <a:lnTo>
                      <a:pt x="2505" y="133"/>
                    </a:lnTo>
                    <a:lnTo>
                      <a:pt x="2539" y="133"/>
                    </a:lnTo>
                    <a:lnTo>
                      <a:pt x="2573" y="138"/>
                    </a:lnTo>
                    <a:lnTo>
                      <a:pt x="2607" y="138"/>
                    </a:lnTo>
                    <a:lnTo>
                      <a:pt x="2647" y="143"/>
                    </a:lnTo>
                    <a:lnTo>
                      <a:pt x="2709" y="159"/>
                    </a:lnTo>
                    <a:lnTo>
                      <a:pt x="2772" y="175"/>
                    </a:lnTo>
                    <a:lnTo>
                      <a:pt x="2800" y="180"/>
                    </a:lnTo>
                    <a:lnTo>
                      <a:pt x="2829" y="180"/>
                    </a:lnTo>
                    <a:lnTo>
                      <a:pt x="2885" y="186"/>
                    </a:lnTo>
                    <a:lnTo>
                      <a:pt x="2919" y="191"/>
                    </a:lnTo>
                    <a:lnTo>
                      <a:pt x="2942" y="196"/>
                    </a:lnTo>
                    <a:lnTo>
                      <a:pt x="2970" y="207"/>
                    </a:lnTo>
                    <a:lnTo>
                      <a:pt x="2976" y="212"/>
                    </a:lnTo>
                    <a:lnTo>
                      <a:pt x="2987" y="223"/>
                    </a:lnTo>
                    <a:lnTo>
                      <a:pt x="2993" y="228"/>
                    </a:lnTo>
                    <a:lnTo>
                      <a:pt x="2965" y="271"/>
                    </a:lnTo>
                    <a:lnTo>
                      <a:pt x="2976" y="271"/>
                    </a:lnTo>
                    <a:lnTo>
                      <a:pt x="2982" y="281"/>
                    </a:lnTo>
                    <a:lnTo>
                      <a:pt x="2965" y="287"/>
                    </a:lnTo>
                    <a:lnTo>
                      <a:pt x="2953" y="303"/>
                    </a:lnTo>
                    <a:lnTo>
                      <a:pt x="2976" y="303"/>
                    </a:lnTo>
                    <a:lnTo>
                      <a:pt x="2965" y="324"/>
                    </a:lnTo>
                    <a:lnTo>
                      <a:pt x="2216" y="409"/>
                    </a:lnTo>
                    <a:lnTo>
                      <a:pt x="2182" y="414"/>
                    </a:lnTo>
                    <a:lnTo>
                      <a:pt x="2154" y="414"/>
                    </a:lnTo>
                    <a:lnTo>
                      <a:pt x="2120" y="409"/>
                    </a:lnTo>
                    <a:lnTo>
                      <a:pt x="2086" y="404"/>
                    </a:lnTo>
                    <a:lnTo>
                      <a:pt x="2046" y="404"/>
                    </a:lnTo>
                    <a:lnTo>
                      <a:pt x="2012" y="404"/>
                    </a:lnTo>
                    <a:lnTo>
                      <a:pt x="1995" y="404"/>
                    </a:lnTo>
                    <a:lnTo>
                      <a:pt x="1978" y="409"/>
                    </a:lnTo>
                    <a:lnTo>
                      <a:pt x="1961" y="414"/>
                    </a:lnTo>
                    <a:lnTo>
                      <a:pt x="1944" y="425"/>
                    </a:lnTo>
                    <a:lnTo>
                      <a:pt x="1967" y="430"/>
                    </a:lnTo>
                    <a:lnTo>
                      <a:pt x="1967" y="436"/>
                    </a:lnTo>
                    <a:lnTo>
                      <a:pt x="1876" y="425"/>
                    </a:lnTo>
                    <a:lnTo>
                      <a:pt x="1763" y="372"/>
                    </a:lnTo>
                    <a:lnTo>
                      <a:pt x="1774" y="404"/>
                    </a:lnTo>
                    <a:lnTo>
                      <a:pt x="1689" y="404"/>
                    </a:lnTo>
                    <a:lnTo>
                      <a:pt x="1610" y="398"/>
                    </a:lnTo>
                    <a:lnTo>
                      <a:pt x="1530" y="393"/>
                    </a:lnTo>
                    <a:lnTo>
                      <a:pt x="1451" y="388"/>
                    </a:lnTo>
                    <a:lnTo>
                      <a:pt x="1372" y="382"/>
                    </a:lnTo>
                    <a:lnTo>
                      <a:pt x="1287" y="382"/>
                    </a:lnTo>
                    <a:lnTo>
                      <a:pt x="1207" y="382"/>
                    </a:lnTo>
                    <a:lnTo>
                      <a:pt x="1122" y="388"/>
                    </a:lnTo>
                    <a:lnTo>
                      <a:pt x="1122" y="398"/>
                    </a:lnTo>
                    <a:lnTo>
                      <a:pt x="1207" y="420"/>
                    </a:lnTo>
                    <a:lnTo>
                      <a:pt x="975" y="409"/>
                    </a:lnTo>
                    <a:lnTo>
                      <a:pt x="1077" y="382"/>
                    </a:lnTo>
                    <a:lnTo>
                      <a:pt x="918" y="361"/>
                    </a:lnTo>
                    <a:lnTo>
                      <a:pt x="890" y="372"/>
                    </a:lnTo>
                    <a:lnTo>
                      <a:pt x="844" y="377"/>
                    </a:lnTo>
                    <a:lnTo>
                      <a:pt x="782" y="388"/>
                    </a:lnTo>
                    <a:lnTo>
                      <a:pt x="714" y="398"/>
                    </a:lnTo>
                    <a:lnTo>
                      <a:pt x="652" y="404"/>
                    </a:lnTo>
                    <a:lnTo>
                      <a:pt x="618" y="404"/>
                    </a:lnTo>
                    <a:lnTo>
                      <a:pt x="589" y="404"/>
                    </a:lnTo>
                    <a:lnTo>
                      <a:pt x="561" y="404"/>
                    </a:lnTo>
                    <a:lnTo>
                      <a:pt x="538" y="398"/>
                    </a:lnTo>
                    <a:lnTo>
                      <a:pt x="516" y="398"/>
                    </a:lnTo>
                    <a:lnTo>
                      <a:pt x="504" y="388"/>
                    </a:lnTo>
                    <a:lnTo>
                      <a:pt x="476" y="356"/>
                    </a:lnTo>
                    <a:lnTo>
                      <a:pt x="362" y="361"/>
                    </a:lnTo>
                    <a:lnTo>
                      <a:pt x="272" y="361"/>
                    </a:lnTo>
                    <a:lnTo>
                      <a:pt x="221" y="356"/>
                    </a:lnTo>
                    <a:lnTo>
                      <a:pt x="175" y="345"/>
                    </a:lnTo>
                    <a:lnTo>
                      <a:pt x="136" y="329"/>
                    </a:lnTo>
                    <a:lnTo>
                      <a:pt x="96" y="313"/>
                    </a:lnTo>
                    <a:lnTo>
                      <a:pt x="62" y="292"/>
                    </a:lnTo>
                    <a:lnTo>
                      <a:pt x="45" y="276"/>
                    </a:lnTo>
                    <a:lnTo>
                      <a:pt x="34" y="260"/>
                    </a:lnTo>
                    <a:lnTo>
                      <a:pt x="22" y="239"/>
                    </a:lnTo>
                    <a:lnTo>
                      <a:pt x="11" y="212"/>
                    </a:lnTo>
                    <a:lnTo>
                      <a:pt x="5" y="186"/>
                    </a:lnTo>
                    <a:lnTo>
                      <a:pt x="5" y="149"/>
                    </a:ln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6c6d7"/>
                  </a:gs>
                  <a:gs pos="100000">
                    <a:srgbClr val="3160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98040" y="152280"/>
                <a:ext cx="187920" cy="460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17880" y="5584680"/>
            <a:ext cx="1274760" cy="1090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79440" y="1146240"/>
            <a:ext cx="7594560" cy="1752480"/>
          </a:xfrm>
          <a:prstGeom prst="roundRect">
            <a:avLst>
              <a:gd name="adj" fmla="val 26722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e0ff"/>
                </a:solidFill>
                <a:latin typeface="Arial"/>
              </a:rPr>
              <a:t>A counseling intervention  on adherence to HA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e0ff"/>
                </a:solidFill>
                <a:latin typeface="Arial"/>
              </a:rPr>
              <a:t>The MOTHIV model*</a:t>
            </a:r>
            <a:br>
              <a:rPr sz="2400"/>
            </a:br>
            <a:r>
              <a:rPr b="1" lang="fr-FR" sz="2400" spc="-1" strike="noStrike">
                <a:solidFill>
                  <a:srgbClr val="89e0ff"/>
                </a:solidFill>
                <a:latin typeface="Arial"/>
              </a:rPr>
              <a:t>Concept, strategie,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1720" y="3574800"/>
            <a:ext cx="80154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 algn="ct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d0c9"/>
                </a:solidFill>
                <a:latin typeface="Arial"/>
              </a:rPr>
              <a:t>Introduced by M. Morin PhD.,</a:t>
            </a:r>
            <a:br>
              <a:rPr sz="2400"/>
            </a:br>
            <a:r>
              <a:rPr b="0" lang="fr-FR" sz="1800" spc="-1" strike="noStrike">
                <a:solidFill>
                  <a:srgbClr val="bbd0c9"/>
                </a:solidFill>
                <a:latin typeface="Arial"/>
              </a:rPr>
              <a:t>Professeur de Psychologie Sociale, Université </a:t>
            </a:r>
            <a:r>
              <a:rPr b="1" lang="fr-FR" sz="1800" spc="-1" strike="noStrike">
                <a:solidFill>
                  <a:srgbClr val="bbd0c9"/>
                </a:solidFill>
                <a:latin typeface="Arial"/>
              </a:rPr>
              <a:t>Aix</a:t>
            </a:r>
            <a:r>
              <a:rPr b="0" lang="fr-FR" sz="1800" spc="-1" strike="noStrike">
                <a:solidFill>
                  <a:srgbClr val="bbd0c9"/>
                </a:solidFill>
                <a:latin typeface="Arial"/>
              </a:rPr>
              <a:t>-Marseille I., </a:t>
            </a:r>
            <a:br>
              <a:rPr sz="1800"/>
            </a:br>
            <a:r>
              <a:rPr b="0" lang="fr-FR" sz="1800" spc="-1" strike="noStrike">
                <a:solidFill>
                  <a:srgbClr val="bbd0c9"/>
                </a:solidFill>
                <a:latin typeface="Arial"/>
              </a:rPr>
              <a:t>INSERM U379, Laboratoire de Psychologie Sociale, </a:t>
            </a:r>
            <a:br>
              <a:rPr sz="1800"/>
            </a:br>
            <a:r>
              <a:rPr b="0" lang="fr-FR" sz="1800" spc="-1" strike="noStrike">
                <a:solidFill>
                  <a:srgbClr val="bbd0c9"/>
                </a:solidFill>
                <a:latin typeface="Arial"/>
              </a:rPr>
              <a:t>Université de Provence, France.</a:t>
            </a:r>
            <a:br>
              <a:rPr sz="1800"/>
            </a:br>
            <a:r>
              <a:rPr b="0" i="1" lang="fr-FR" sz="1800" spc="-1" strike="noStrike">
                <a:solidFill>
                  <a:srgbClr val="bbd0c9"/>
                </a:solidFill>
                <a:latin typeface="Arial"/>
              </a:rPr>
              <a:t>Bruxelles, Belgique, 10 octobre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6760" y="654840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668600" y="208080"/>
            <a:ext cx="7190280" cy="59724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e0ff"/>
                </a:solidFill>
                <a:latin typeface="Arial"/>
              </a:rPr>
              <a:t>MOTHIV implementation site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639440" y="1952280"/>
            <a:ext cx="7101000" cy="23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5a3"/>
                </a:solidFill>
                <a:latin typeface="Arial"/>
              </a:rPr>
              <a:t>Nice University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5a3"/>
                </a:solidFill>
                <a:latin typeface="Arial"/>
              </a:rPr>
              <a:t>Fort-de France University Hospital (Martiniq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Marigot Hospital (Saint Martin des Caraïb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Tours University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4640" y="222120"/>
            <a:ext cx="8164800" cy="233064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act of a counseling program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n treatment adherence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HIV-infected  persons treated by HAART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a French University Hospital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5760" y="3319560"/>
            <a:ext cx="8690040" cy="290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343080"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bd0c9"/>
                </a:solidFill>
                <a:latin typeface="Arial"/>
              </a:rPr>
              <a:t>L. Bentz MD, C. Pradier M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bd0c9"/>
                </a:solidFill>
                <a:latin typeface="Arial"/>
              </a:rPr>
              <a:t>C. Tourette-Turgis PhD, M. Rebillon M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bd0c9"/>
                </a:solidFill>
                <a:latin typeface="Arial"/>
              </a:rPr>
              <a:t>M. Morin PhD, P Dellamonica M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bd0c9"/>
                </a:solidFill>
                <a:latin typeface="Arial"/>
              </a:rPr>
              <a:t>J.G. Fuzibet MD, J.P. Cassuto M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bd0c9"/>
                </a:solidFill>
                <a:latin typeface="Arial"/>
              </a:rPr>
              <a:t>J.P. Moatti Ph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bd0c9"/>
                </a:solidFill>
                <a:latin typeface="Arial"/>
              </a:rPr>
              <a:t>Brighton, July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79520" y="1800360"/>
            <a:ext cx="8386560" cy="32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ign of a prospective randomized controlled study to measure the efficacy of an adherence counseling interventio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Aft>
                <a:spcPts val="751"/>
              </a:spcAft>
              <a:buClr>
                <a:srgbClr val="bbd0c9"/>
              </a:buClr>
              <a:buFont typeface="Arial"/>
              <a:buChar char="•"/>
              <a:tabLst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n adherenc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Aft>
                <a:spcPts val="751"/>
              </a:spcAft>
              <a:buClr>
                <a:srgbClr val="bbd0c9"/>
              </a:buClr>
              <a:buFont typeface="Arial"/>
              <a:buChar char="•"/>
              <a:tabLst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n viral load (V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876"/>
              </a:spcAft>
              <a:buNone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876"/>
              </a:spcAft>
              <a:buNone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876"/>
              </a:spcAft>
              <a:buNone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96280" y="324360"/>
            <a:ext cx="8605440" cy="43164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Aims of the stud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80800" y="1638360"/>
            <a:ext cx="85359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tients randomisation 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vention group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trol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0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 Cs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view 1+ Q0 + VL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Q0 + VL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2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 C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view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4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 C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view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6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 C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view 4 + Q6 + VL6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Q6 + VL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42280" y="218520"/>
            <a:ext cx="8605440" cy="4312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atients and method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                            Trial desig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79440" y="1277640"/>
            <a:ext cx="83088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herence measured by self-administrated validated 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ral load (VL) measured by RT-PCR (Amplicor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Roche)  Limit of detection at 400 cp / m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Qualitative study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 assess changes in patients self-care management strateg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42280" y="218520"/>
            <a:ext cx="8605440" cy="4312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atients and method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83160" y="2048040"/>
            <a:ext cx="1440" cy="336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83160" y="3027240"/>
            <a:ext cx="1440" cy="168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6040" y="3182760"/>
            <a:ext cx="1800" cy="167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43800" y="3193920"/>
            <a:ext cx="0" cy="154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6040" y="3195720"/>
            <a:ext cx="2067120" cy="14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83160" y="3197160"/>
            <a:ext cx="2058840" cy="1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2000" y="4005360"/>
            <a:ext cx="144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89040" y="5011560"/>
            <a:ext cx="1800" cy="335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1600" y="5372280"/>
            <a:ext cx="404316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5320" y="53722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1200" y="5703840"/>
            <a:ext cx="399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atients studied in the intervention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0440" y="5359320"/>
            <a:ext cx="4043160" cy="6429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65000" y="440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73240" y="4662360"/>
            <a:ext cx="284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ost to follow-up (deceased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640" y="4341960"/>
            <a:ext cx="4043520" cy="6429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50880" y="3427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21160" y="3683160"/>
            <a:ext cx="178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Intervention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1600" y="3362400"/>
            <a:ext cx="4030560" cy="6429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4005360"/>
            <a:ext cx="1440" cy="336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42000" y="4984920"/>
            <a:ext cx="1800" cy="334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62360" y="5357880"/>
            <a:ext cx="4016520" cy="642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8360" y="53722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04280" y="5718240"/>
            <a:ext cx="351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atients studied in the control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62360" y="5346720"/>
            <a:ext cx="4016520" cy="6429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9200" y="440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67440" y="4662360"/>
            <a:ext cx="284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ost to follow-up (deceased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62360" y="4341960"/>
            <a:ext cx="4003920" cy="6429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46520" y="3427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5760" y="3683160"/>
            <a:ext cx="134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ntrol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62360" y="3362400"/>
            <a:ext cx="4003920" cy="6429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8680" y="2384280"/>
            <a:ext cx="3833640" cy="642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76960" y="2449440"/>
            <a:ext cx="205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246 patients 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9080" y="27050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79,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8680" y="2384280"/>
            <a:ext cx="3833640" cy="6429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8680" y="1405080"/>
            <a:ext cx="3833640" cy="642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27680" y="1469880"/>
            <a:ext cx="117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310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93520" y="1725480"/>
            <a:ext cx="205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Inclusion pro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8680" y="1392120"/>
            <a:ext cx="3833640" cy="6429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21040" y="3567240"/>
            <a:ext cx="35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9920" y="216000"/>
            <a:ext cx="8686800" cy="51264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ults of MOTHIV intervention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                      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clusions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985680" y="1519200"/>
          <a:ext cx="756468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519200"/>
                    <a:ext cx="756468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364840" y="3427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0120" y="3581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5400" y="4191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51040" y="4495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920" y="216000"/>
            <a:ext cx="8764560" cy="51264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ults of MOTHIV intervention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          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rogram follow-up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61920" y="144792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n=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9240" y="143496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n=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7960" y="2116080"/>
            <a:ext cx="4600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Median age [IQ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Gender 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HIV-infected by injecting drug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Hight school 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Unemployed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CDC clinical stag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Médian CD4 cell  count/mm3 [IQ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Mean plasma HIV RNA, log copies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Undetectable viral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Antiretroviral naive before HA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-Median duration of HAAR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months [IQ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58040" y="144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28400" y="2127240"/>
            <a:ext cx="759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8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65120" y="2116080"/>
            <a:ext cx="759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99280" y="2141640"/>
            <a:ext cx="714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6680" y="2147760"/>
            <a:ext cx="8820000" cy="4413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520" y="176040"/>
            <a:ext cx="8686800" cy="66996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aseline socialbehavorial and clinical characteristics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f HAART-traeted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309120" y="10461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n=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35920" y="111456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n=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89720" y="1246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360" y="1765440"/>
            <a:ext cx="3382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Mean difference of HIV RNA between M0 and M6, log copies/mL </a:t>
            </a:r>
            <a:r>
              <a:rPr b="0" i="1" lang="fr-FR" sz="2000" spc="-1" strike="noStrike">
                <a:solidFill>
                  <a:srgbClr val="ffcc00"/>
                </a:solidFill>
                <a:latin typeface="Arial"/>
              </a:rPr>
              <a:t>(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% patients with </a:t>
            </a:r>
            <a:br>
              <a:rPr sz="2000"/>
            </a:b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HIV RNA &lt;400 copies/mL </a:t>
            </a:r>
            <a:br>
              <a:rPr sz="2000"/>
            </a:b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t M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22600" y="1741320"/>
            <a:ext cx="5621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0.22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+0.1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cc99"/>
                </a:solidFill>
                <a:latin typeface="Arial"/>
              </a:rPr>
              <a:t>0.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99"/>
                </a:solidFill>
                <a:latin typeface="Arial"/>
              </a:rPr>
              <a:t>p=0.01 </a:t>
            </a:r>
            <a:r>
              <a:rPr b="0" lang="fr-FR" sz="2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cc99"/>
                </a:solidFill>
                <a:latin typeface="Arial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64 %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54 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cc99"/>
                </a:solidFill>
                <a:latin typeface="Arial"/>
              </a:rPr>
              <a:t>0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4056120"/>
            <a:ext cx="8686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5240" y="4121280"/>
            <a:ext cx="338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Arial"/>
              </a:rPr>
              <a:t>Subsample of patients with HIV RNA&gt;40 copies/mL at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% patients with </a:t>
            </a:r>
            <a:br>
              <a:rPr sz="2000"/>
            </a:b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HIV RNA &lt;400 copies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t M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60760" y="4086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=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15120" y="40482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=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7400" y="53625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92520" y="53118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14320" y="52340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99"/>
                </a:solidFill>
                <a:latin typeface="Arial"/>
              </a:rPr>
              <a:t>0.0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95720" y="6477120"/>
            <a:ext cx="3692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cc99"/>
                </a:solidFill>
                <a:latin typeface="Arial"/>
              </a:rPr>
              <a:t>Pradier C. et al, Hiv Clin Trial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5400" y="1806480"/>
            <a:ext cx="8820000" cy="4594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9920" y="189000"/>
            <a:ext cx="8686800" cy="66996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Virological outcomes at 6 months of follow-up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 HAART-treated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62280" y="368280"/>
            <a:ext cx="16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27720" y="1484280"/>
            <a:ext cx="1043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=0.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23360" y="1484280"/>
            <a:ext cx="1043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=0.5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71800" y="5816520"/>
            <a:ext cx="2495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Intervention Group</a:t>
            </a:r>
            <a:br>
              <a:rPr sz="2200"/>
            </a:b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N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73800" y="5829480"/>
            <a:ext cx="1935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rol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N = 1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9360" y="2944800"/>
            <a:ext cx="895320" cy="238284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62640" y="2732040"/>
            <a:ext cx="896760" cy="259560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244680" y="2236680"/>
            <a:ext cx="897120" cy="3090960"/>
            <a:chOff x="3244680" y="2236680"/>
            <a:chExt cx="897120" cy="3090960"/>
          </a:xfrm>
        </p:grpSpPr>
        <p:sp>
          <p:nvSpPr>
            <p:cNvPr id="240" name=""/>
            <p:cNvSpPr/>
            <p:nvPr/>
          </p:nvSpPr>
          <p:spPr>
            <a:xfrm>
              <a:off x="3244680" y="2236680"/>
              <a:ext cx="89712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4680" y="2307960"/>
              <a:ext cx="897120" cy="9360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4680" y="2401560"/>
              <a:ext cx="897120" cy="7164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4680" y="2473200"/>
              <a:ext cx="897120" cy="7128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4680" y="2544480"/>
              <a:ext cx="897120" cy="6984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44680" y="2614320"/>
              <a:ext cx="897120" cy="95400"/>
            </a:xfrm>
            <a:prstGeom prst="rect">
              <a:avLst/>
            </a:prstGeom>
            <a:solidFill>
              <a:srgbClr val="da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4680" y="2709720"/>
              <a:ext cx="897120" cy="69840"/>
            </a:xfrm>
            <a:prstGeom prst="rect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44680" y="2779560"/>
              <a:ext cx="897120" cy="7128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44680" y="2850840"/>
              <a:ext cx="897120" cy="69840"/>
            </a:xfrm>
            <a:prstGeom prst="rect">
              <a:avLst/>
            </a:prstGeom>
            <a:solidFill>
              <a:srgbClr val="dc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44680" y="2920680"/>
              <a:ext cx="897120" cy="95400"/>
            </a:xfrm>
            <a:prstGeom prst="rect">
              <a:avLst/>
            </a:prstGeom>
            <a:solidFill>
              <a:srgbClr val="dd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44680" y="3016080"/>
              <a:ext cx="897120" cy="69840"/>
            </a:xfrm>
            <a:prstGeom prst="rect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44680" y="3085920"/>
              <a:ext cx="897120" cy="71640"/>
            </a:xfrm>
            <a:prstGeom prst="rect">
              <a:avLst/>
            </a:prstGeom>
            <a:solidFill>
              <a:srgbClr val="d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44680" y="3157560"/>
              <a:ext cx="897120" cy="9360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44680" y="3251160"/>
              <a:ext cx="897120" cy="71280"/>
            </a:xfrm>
            <a:prstGeom prst="rect">
              <a:avLst/>
            </a:prstGeom>
            <a:solidFill>
              <a:srgbClr val="e2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44680" y="3322440"/>
              <a:ext cx="897120" cy="71640"/>
            </a:xfrm>
            <a:prstGeom prst="rect">
              <a:avLst/>
            </a:prstGeom>
            <a:solidFill>
              <a:srgbClr val="e3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44680" y="3394080"/>
              <a:ext cx="897120" cy="69840"/>
            </a:xfrm>
            <a:prstGeom prst="rect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44680" y="3463920"/>
              <a:ext cx="897120" cy="9504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44680" y="3558960"/>
              <a:ext cx="897120" cy="6984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44680" y="3628800"/>
              <a:ext cx="897120" cy="7164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44680" y="3700440"/>
              <a:ext cx="897120" cy="93600"/>
            </a:xfrm>
            <a:prstGeom prst="rect">
              <a:avLst/>
            </a:prstGeom>
            <a:solidFill>
              <a:srgbClr val="eb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44680" y="3794040"/>
              <a:ext cx="897120" cy="71280"/>
            </a:xfrm>
            <a:prstGeom prst="rect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44680" y="3865320"/>
              <a:ext cx="897120" cy="71640"/>
            </a:xfrm>
            <a:prstGeom prst="rect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44680" y="3936960"/>
              <a:ext cx="897120" cy="6984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44680" y="4006800"/>
              <a:ext cx="897120" cy="9504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44680" y="4101840"/>
              <a:ext cx="897120" cy="6984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44680" y="4171680"/>
              <a:ext cx="897120" cy="71640"/>
            </a:xfrm>
            <a:prstGeom prst="rect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4680" y="4243320"/>
              <a:ext cx="897120" cy="6984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44680" y="4313160"/>
              <a:ext cx="897120" cy="9504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4680" y="4408200"/>
              <a:ext cx="897120" cy="69840"/>
            </a:xfrm>
            <a:prstGeom prst="rect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44680" y="4478040"/>
              <a:ext cx="897120" cy="71640"/>
            </a:xfrm>
            <a:prstGeom prst="rect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4680" y="4549680"/>
              <a:ext cx="897120" cy="9360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4680" y="4643280"/>
              <a:ext cx="897120" cy="7128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44680" y="4714560"/>
              <a:ext cx="897120" cy="7164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44680" y="4786200"/>
              <a:ext cx="897120" cy="69840"/>
            </a:xfrm>
            <a:prstGeom prst="rect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4680" y="4856040"/>
              <a:ext cx="897120" cy="9540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4680" y="4951440"/>
              <a:ext cx="897120" cy="6984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44680" y="5021280"/>
              <a:ext cx="897120" cy="712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4680" y="5092560"/>
              <a:ext cx="897120" cy="6984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44680" y="5162400"/>
              <a:ext cx="897120" cy="9540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44680" y="5257800"/>
              <a:ext cx="897120" cy="69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244680" y="2236680"/>
            <a:ext cx="897120" cy="30909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359400" y="2803680"/>
            <a:ext cx="873000" cy="2523600"/>
            <a:chOff x="6359400" y="2803680"/>
            <a:chExt cx="873000" cy="2523600"/>
          </a:xfrm>
        </p:grpSpPr>
        <p:sp>
          <p:nvSpPr>
            <p:cNvPr id="282" name=""/>
            <p:cNvSpPr/>
            <p:nvPr/>
          </p:nvSpPr>
          <p:spPr>
            <a:xfrm>
              <a:off x="6359400" y="2803680"/>
              <a:ext cx="87300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59400" y="2874960"/>
              <a:ext cx="873000" cy="4536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59400" y="2920680"/>
              <a:ext cx="87300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59400" y="2992320"/>
              <a:ext cx="873000" cy="7092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59400" y="3063600"/>
              <a:ext cx="873000" cy="4572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59400" y="3109680"/>
              <a:ext cx="873000" cy="71280"/>
            </a:xfrm>
            <a:prstGeom prst="rect">
              <a:avLst/>
            </a:prstGeom>
            <a:solidFill>
              <a:srgbClr val="da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9400" y="3181320"/>
              <a:ext cx="873000" cy="69480"/>
            </a:xfrm>
            <a:prstGeom prst="rect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59400" y="3251160"/>
              <a:ext cx="873000" cy="4716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59400" y="3298680"/>
              <a:ext cx="873000" cy="70920"/>
            </a:xfrm>
            <a:prstGeom prst="rect">
              <a:avLst/>
            </a:prstGeom>
            <a:solidFill>
              <a:srgbClr val="dc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59400" y="3369960"/>
              <a:ext cx="873000" cy="69480"/>
            </a:xfrm>
            <a:prstGeom prst="rect">
              <a:avLst/>
            </a:prstGeom>
            <a:solidFill>
              <a:srgbClr val="dd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9400" y="3439800"/>
              <a:ext cx="873000" cy="47520"/>
            </a:xfrm>
            <a:prstGeom prst="rect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59400" y="3487680"/>
              <a:ext cx="873000" cy="70920"/>
            </a:xfrm>
            <a:prstGeom prst="rect">
              <a:avLst/>
            </a:prstGeom>
            <a:solidFill>
              <a:srgbClr val="d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59400" y="3558960"/>
              <a:ext cx="873000" cy="6948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59400" y="3628800"/>
              <a:ext cx="873000" cy="47160"/>
            </a:xfrm>
            <a:prstGeom prst="rect">
              <a:avLst/>
            </a:prstGeom>
            <a:solidFill>
              <a:srgbClr val="e2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59400" y="3676320"/>
              <a:ext cx="873000" cy="71280"/>
            </a:xfrm>
            <a:prstGeom prst="rect">
              <a:avLst/>
            </a:prstGeom>
            <a:solidFill>
              <a:srgbClr val="e3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59400" y="3747960"/>
              <a:ext cx="873000" cy="69480"/>
            </a:xfrm>
            <a:prstGeom prst="rect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59400" y="3817800"/>
              <a:ext cx="873000" cy="4716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59400" y="3865320"/>
              <a:ext cx="873000" cy="7128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59400" y="3936960"/>
              <a:ext cx="873000" cy="6948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59400" y="4006800"/>
              <a:ext cx="873000" cy="70920"/>
            </a:xfrm>
            <a:prstGeom prst="rect">
              <a:avLst/>
            </a:prstGeom>
            <a:solidFill>
              <a:srgbClr val="eb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59400" y="4078080"/>
              <a:ext cx="873000" cy="45720"/>
            </a:xfrm>
            <a:prstGeom prst="rect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59400" y="4124160"/>
              <a:ext cx="873000" cy="70920"/>
            </a:xfrm>
            <a:prstGeom prst="rect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59400" y="4195440"/>
              <a:ext cx="873000" cy="7128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59400" y="4267080"/>
              <a:ext cx="873000" cy="4572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59400" y="4313160"/>
              <a:ext cx="873000" cy="7092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59400" y="4384440"/>
              <a:ext cx="873000" cy="69480"/>
            </a:xfrm>
            <a:prstGeom prst="rect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59400" y="4454280"/>
              <a:ext cx="873000" cy="4752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9400" y="4502160"/>
              <a:ext cx="873000" cy="7092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59400" y="4573440"/>
              <a:ext cx="873000" cy="69480"/>
            </a:xfrm>
            <a:prstGeom prst="rect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59400" y="4643280"/>
              <a:ext cx="873000" cy="47160"/>
            </a:xfrm>
            <a:prstGeom prst="rect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59400" y="4690800"/>
              <a:ext cx="873000" cy="7128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59400" y="4762440"/>
              <a:ext cx="873000" cy="6948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9400" y="4832280"/>
              <a:ext cx="873000" cy="4716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59400" y="4879800"/>
              <a:ext cx="873000" cy="71280"/>
            </a:xfrm>
            <a:prstGeom prst="rect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59400" y="4951440"/>
              <a:ext cx="873000" cy="6948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59400" y="5021280"/>
              <a:ext cx="873000" cy="4716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59400" y="5068800"/>
              <a:ext cx="873000" cy="7092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59400" y="5140080"/>
              <a:ext cx="873000" cy="694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59400" y="5209920"/>
              <a:ext cx="873000" cy="4752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59400" y="5257800"/>
              <a:ext cx="873000" cy="69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359400" y="2803680"/>
            <a:ext cx="873360" cy="25239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87680" y="2025720"/>
            <a:ext cx="1440" cy="330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17840" y="532764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17840" y="492768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17840" y="450216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17840" y="410220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17840" y="367668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17840" y="3274920"/>
            <a:ext cx="69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17840" y="285120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17840" y="2449440"/>
            <a:ext cx="69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17840" y="202572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87680" y="5327640"/>
            <a:ext cx="62053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87680" y="5327280"/>
            <a:ext cx="144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802040" y="5327280"/>
            <a:ext cx="180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893000" y="5327280"/>
            <a:ext cx="180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21760" y="5162400"/>
            <a:ext cx="367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80280" y="47624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80280" y="433692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80280" y="39369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80280" y="35114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80280" y="31100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80280" y="26859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80280" y="22845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80280" y="186048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79800" y="5397480"/>
            <a:ext cx="3495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9840" y="5397480"/>
            <a:ext cx="497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590400" y="3702960"/>
            <a:ext cx="2487960" cy="33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% adherent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85080" y="3322800"/>
            <a:ext cx="189000" cy="18864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90720" y="3228840"/>
            <a:ext cx="460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885080" y="3841920"/>
            <a:ext cx="189000" cy="188280"/>
            <a:chOff x="7885080" y="3841920"/>
            <a:chExt cx="189000" cy="188280"/>
          </a:xfrm>
        </p:grpSpPr>
        <p:sp>
          <p:nvSpPr>
            <p:cNvPr id="352" name=""/>
            <p:cNvSpPr/>
            <p:nvPr/>
          </p:nvSpPr>
          <p:spPr>
            <a:xfrm>
              <a:off x="7885080" y="3841920"/>
              <a:ext cx="189000" cy="2340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85080" y="3865320"/>
              <a:ext cx="189000" cy="2340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85080" y="3889080"/>
              <a:ext cx="189000" cy="2376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85080" y="3913200"/>
              <a:ext cx="189000" cy="2340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85080" y="3936960"/>
              <a:ext cx="189000" cy="2160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3958920"/>
              <a:ext cx="189000" cy="2376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85080" y="3983040"/>
              <a:ext cx="189000" cy="2340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85080" y="4006800"/>
              <a:ext cx="189000" cy="23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885080" y="3841920"/>
            <a:ext cx="189000" cy="18864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90720" y="3747960"/>
            <a:ext cx="460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9920" y="189000"/>
            <a:ext cx="8686800" cy="50004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anges in adherence between M0 and M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7480" y="138240"/>
            <a:ext cx="7837560" cy="1000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e0ff"/>
                </a:solidFill>
                <a:latin typeface="Arial"/>
              </a:rPr>
              <a:t>MOTHIV model : </a:t>
            </a:r>
            <a:br>
              <a:rPr sz="3200"/>
            </a:br>
            <a:r>
              <a:rPr b="0" lang="fr-FR" sz="3200" spc="-1" strike="noStrike">
                <a:solidFill>
                  <a:srgbClr val="89e0ff"/>
                </a:solidFill>
                <a:latin typeface="Arial"/>
              </a:rPr>
              <a:t>concept and strategie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817640"/>
            <a:ext cx="7851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90720" indent="-533520">
              <a:lnSpc>
                <a:spcPct val="90000"/>
              </a:lnSpc>
              <a:spcAft>
                <a:spcPts val="1049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operational definit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of adh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Aft>
                <a:spcPts val="1049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patient-focuse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Aft>
                <a:spcPts val="1049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structured and brief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unseling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Aft>
                <a:spcPts val="1049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intensive training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r nurses,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follow up and supervis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92080" y="5896080"/>
            <a:ext cx="808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9e0ff"/>
                </a:solidFill>
                <a:latin typeface="Arial"/>
              </a:rPr>
              <a:t>M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dèle de counseling appliqué à l’</a:t>
            </a:r>
            <a:r>
              <a:rPr b="0" lang="fr-FR" sz="2000" spc="-1" strike="noStrike">
                <a:solidFill>
                  <a:srgbClr val="89e0ff"/>
                </a:solidFill>
                <a:latin typeface="Arial"/>
              </a:rPr>
              <a:t>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servance </a:t>
            </a:r>
            <a:r>
              <a:rPr b="0" lang="fr-FR" sz="2000" spc="-1" strike="noStrike">
                <a:solidFill>
                  <a:srgbClr val="89e0ff"/>
                </a:solidFill>
                <a:latin typeface="Arial"/>
              </a:rPr>
              <a:t>Th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rapeutique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x traitements de  l’</a:t>
            </a:r>
            <a:r>
              <a:rPr b="0" lang="fr-FR" sz="2000" spc="-1" strike="noStrike">
                <a:solidFill>
                  <a:srgbClr val="89e0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fection  </a:t>
            </a:r>
            <a:r>
              <a:rPr b="0" lang="fr-FR" sz="2000" spc="-1" strike="noStrike">
                <a:solidFill>
                  <a:srgbClr val="89e0ff"/>
                </a:solidFill>
                <a:latin typeface="Arial"/>
              </a:rPr>
              <a:t>V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4539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 anchorCtr="1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ult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            Qualitative stud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2600" y="1706400"/>
            <a:ext cx="81961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/ Patients developed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kills to communicate with their physici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re abilities to negotiate about care and treatment option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&gt;&gt;&gt; less centred on treatment issu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&gt;&gt;&gt; more ready to confront life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4539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 anchorCtr="1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ult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            Qualitative stud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42600" y="1706400"/>
            <a:ext cx="820908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/ Nurses developed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whole range of inter-personal skills rela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health care including 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&gt;&gt;&gt; interviewing,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&gt;&gt;&gt; self awareness,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&gt;&gt;&gt; assertiveness,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&gt;&gt;&gt; assessment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&gt;&gt;&gt; and evalu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4160" y="287280"/>
            <a:ext cx="8494560" cy="36504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onclusions</a:t>
            </a:r>
            <a:br>
              <a:rPr sz="16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469520"/>
            <a:ext cx="77724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study confirm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relevance of an adherence counseling intervention to maintain or improve  patients adherence to HIV care and HA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t medication adherence counseling can be deliver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y trained and supervised nur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herence counseling should address personal growth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08280" y="258480"/>
            <a:ext cx="7075440" cy="64620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e0ff"/>
                </a:solidFill>
                <a:latin typeface="Arial"/>
              </a:rPr>
              <a:t>1/ an operational definition of </a:t>
            </a:r>
            <a:r>
              <a:rPr b="1" lang="fr-FR" sz="2800" spc="-1" strike="noStrike">
                <a:solidFill>
                  <a:srgbClr val="89e0ff"/>
                </a:solidFill>
                <a:latin typeface="Arial"/>
              </a:rPr>
              <a:t>adherence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6160" y="1590840"/>
            <a:ext cx="79135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Aft>
                <a:spcPts val="751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herapeutic adherence defines the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capacities of an individual to take his/her medication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as prescrib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Aft>
                <a:spcPts val="751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hese capacities are influenced by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co-factor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which increase or decrease adherence and interact with each other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59160" y="5172120"/>
            <a:ext cx="3349440" cy="649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e3f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104840" y="4730760"/>
            <a:ext cx="2687760" cy="649800"/>
          </a:xfrm>
          <a:prstGeom prst="ellipse">
            <a:avLst/>
          </a:prstGeom>
          <a:solidFill>
            <a:srgbClr val="e3f8b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mo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108840" y="4701960"/>
            <a:ext cx="2536560" cy="649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e3f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344760" y="4302000"/>
            <a:ext cx="3197160" cy="649800"/>
          </a:xfrm>
          <a:prstGeom prst="ellipse">
            <a:avLst/>
          </a:prstGeom>
          <a:solidFill>
            <a:srgbClr val="daf5a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og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26760" y="654840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347120" y="199440"/>
            <a:ext cx="7468200" cy="5025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e0ff"/>
                </a:solidFill>
                <a:latin typeface="Arial"/>
              </a:rPr>
              <a:t>Addressing the 4 </a:t>
            </a:r>
            <a:r>
              <a:rPr b="0" lang="fr-FR" sz="2400" spc="-1" strike="noStrike">
                <a:solidFill>
                  <a:srgbClr val="89e0ff"/>
                </a:solidFill>
                <a:latin typeface="Arial"/>
              </a:rPr>
              <a:t>components</a:t>
            </a:r>
            <a:r>
              <a:rPr b="0" lang="fr-FR" sz="2400" spc="-1" strike="noStrike">
                <a:solidFill>
                  <a:srgbClr val="89e0ff"/>
                </a:solidFill>
                <a:latin typeface="Arial"/>
              </a:rPr>
              <a:t> affecting adherence</a:t>
            </a: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49280" y="5535720"/>
            <a:ext cx="2590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06480" y="500220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2000" y="3732120"/>
            <a:ext cx="3246480" cy="2830680"/>
          </a:xfrm>
          <a:prstGeom prst="rect">
            <a:avLst/>
          </a:prstGeom>
          <a:solidFill>
            <a:srgbClr val="ffffff"/>
          </a:solidFill>
          <a:ln w="9360">
            <a:solidFill>
              <a:srgbClr val="e3f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Stability of Daily Routi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Patient  Skills in the use of medications in various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Side effects and lapses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Drug and alcohol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22920" y="1292400"/>
            <a:ext cx="31971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e3f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Social st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Economic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HIV status disclosure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Socia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51360" y="3755880"/>
            <a:ext cx="3144960" cy="2633400"/>
          </a:xfrm>
          <a:prstGeom prst="rect">
            <a:avLst/>
          </a:prstGeom>
          <a:gradFill rotWithShape="0">
            <a:gsLst>
              <a:gs pos="0">
                <a:srgbClr val="64704b"/>
              </a:gs>
              <a:gs pos="50000">
                <a:srgbClr val="daf5a3"/>
              </a:gs>
              <a:gs pos="100000">
                <a:srgbClr val="64704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mo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 Narrow"/>
              </a:rPr>
              <a:t>Lonel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 Narrow"/>
              </a:rPr>
              <a:t>Self-bl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 Narrow"/>
              </a:rPr>
              <a:t>Low Self-E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 Narrow"/>
              </a:rPr>
              <a:t>Depressed mo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 Narrow"/>
              </a:rPr>
              <a:t>H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5400" y="1266840"/>
            <a:ext cx="3276720" cy="2237400"/>
          </a:xfrm>
          <a:prstGeom prst="rect">
            <a:avLst/>
          </a:prstGeom>
          <a:gradFill rotWithShape="0">
            <a:gsLst>
              <a:gs pos="0">
                <a:srgbClr val="65714b"/>
              </a:gs>
              <a:gs pos="50000">
                <a:srgbClr val="daf5a3"/>
              </a:gs>
              <a:gs pos="100000">
                <a:srgbClr val="65714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Cog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 Narrow"/>
              </a:rPr>
              <a:t>Motivations, Expectations </a:t>
            </a:r>
            <a:br>
              <a:rPr sz="1800"/>
            </a:br>
            <a:r>
              <a:rPr b="0" lang="fr-FR" sz="1800" spc="-1" strike="noStrike">
                <a:solidFill>
                  <a:srgbClr val="000099"/>
                </a:solidFill>
                <a:latin typeface="Arial Narrow"/>
              </a:rPr>
              <a:t>Degree of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 Narrow"/>
              </a:rPr>
              <a:t>Assumptions about disease and med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 Narrow"/>
              </a:rPr>
              <a:t>Anticipation of obsta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 Narrow"/>
              </a:rPr>
              <a:t>Life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694000">
            <a:off x="4321080" y="3098880"/>
            <a:ext cx="1424160" cy="1488960"/>
          </a:xfrm>
          <a:custGeom>
            <a:avLst/>
            <a:gdLst>
              <a:gd name="textAreaLeft" fmla="*/ 0 w 1424160"/>
              <a:gd name="textAreaRight" fmla="*/ 1424520 w 1424160"/>
              <a:gd name="textAreaTop" fmla="*/ 0 h 1488960"/>
              <a:gd name="textAreaBottom" fmla="*/ 1489320 h 148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89e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26760" y="654840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55560" y="277560"/>
            <a:ext cx="7324200" cy="50940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9e0ff"/>
                </a:solidFill>
                <a:latin typeface="Arial"/>
              </a:rPr>
              <a:t>2/ a patient-focused </a:t>
            </a:r>
            <a:r>
              <a:rPr b="1" lang="fr-FR" sz="3200" spc="-1" strike="noStrike">
                <a:solidFill>
                  <a:srgbClr val="89e0ff"/>
                </a:solidFill>
                <a:latin typeface="Arial"/>
              </a:rPr>
              <a:t>intervention</a:t>
            </a: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52160" y="1676160"/>
            <a:ext cx="7543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mpowers patient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to continue their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personal growth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and to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velop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self-care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anagement strategie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siders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as a dynamic and fluctuating state ; motivation is interactive and can be mod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elps HIV patients to develop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adaptive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effective ways of coping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with their HIV statu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elps patients to anticipate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critical incidents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nd train them to build skills to manage obsta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26760" y="654840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9800" y="247680"/>
            <a:ext cx="7816680" cy="62064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9e0ff"/>
                </a:solidFill>
                <a:latin typeface="Arial"/>
              </a:rPr>
              <a:t>3/ a structured counseling intervention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4400" y="1715760"/>
            <a:ext cx="7408800" cy="42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Activ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the counselor attempts to facilitate the client in active problem solving to reduce risks or to cope with treatments and with HIV diagno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Structured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counselor remains focused on the client’s agen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Short term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four sess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Dynami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counselor promotes client’s self understanding and self disclo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  <a:ea typeface="Times New Roman"/>
              </a:rPr>
              <a:t>Culturally-sensitiv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counselor is sensitive to gender, cultural and developmental context of the individual)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26760" y="654840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16960" y="204480"/>
            <a:ext cx="7445880" cy="5529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e0ff"/>
                </a:solidFill>
                <a:latin typeface="Arial"/>
              </a:rPr>
              <a:t>4/ an intensive training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00320" y="1676520"/>
            <a:ext cx="75960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Training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lnSpc>
                <a:spcPct val="90000"/>
              </a:lnSpc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view of the literature on HIV medication ad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lnSpc>
                <a:spcPct val="90000"/>
              </a:lnSpc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THIV principle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lnSpc>
                <a:spcPct val="90000"/>
              </a:lnSpc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asic counseling  attitudes, strategies and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lnSpc>
                <a:spcPct val="90000"/>
              </a:lnSpc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pervision  and Quality assurance s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Tools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lnSpc>
                <a:spcPct val="90000"/>
              </a:lnSpc>
              <a:spcBef>
                <a:spcPts val="601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 therapeutic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lnSpc>
                <a:spcPct val="90000"/>
              </a:lnSpc>
              <a:spcBef>
                <a:spcPts val="601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 manual for nurses with detailed intervention scrip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lnSpc>
                <a:spcPct val="90000"/>
              </a:lnSpc>
              <a:spcBef>
                <a:spcPts val="601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nitoring and follow up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26760" y="654840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69960" y="1525680"/>
            <a:ext cx="2527200" cy="3701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87960" y="2509920"/>
            <a:ext cx="290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Intervention 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633760" y="2149560"/>
            <a:ext cx="2523960" cy="3687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38680" y="2965320"/>
            <a:ext cx="2330280" cy="3407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95440" y="152280"/>
            <a:ext cx="7419960" cy="59220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e0ff"/>
                </a:solidFill>
                <a:latin typeface="Arial"/>
              </a:rPr>
              <a:t>MOTHIV : tools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67320" y="1168560"/>
            <a:ext cx="3130560" cy="4408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27040" y="1138320"/>
            <a:ext cx="2943360" cy="4089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378160" y="2211480"/>
            <a:ext cx="2900160" cy="3800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25480" y="5983200"/>
            <a:ext cx="290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Adherence assesment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7520" y="5864400"/>
            <a:ext cx="290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Adherence co-factors report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68440" y="152280"/>
            <a:ext cx="7446960" cy="59220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e0ff"/>
                </a:solidFill>
                <a:latin typeface="Arial"/>
              </a:rPr>
              <a:t>tools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6:45:52Z</dcterms:created>
  <dc:creator>Comment Dire</dc:creator>
  <dc:description/>
  <cp:keywords>VIH observance thérapeutique counseling MOTHIV consultation infirmière</cp:keywords>
  <dc:language>en-US</dc:language>
  <cp:lastModifiedBy>Maryline</cp:lastModifiedBy>
  <dcterms:modified xsi:type="dcterms:W3CDTF">2003-11-28T12:02:12Z</dcterms:modified>
  <cp:revision>366</cp:revision>
  <dc:subject>The MOTHIV model : Concept, strategies, results</dc:subject>
  <dc:title>MOTHIV - A counseling intervention  on adherence to HAART</dc:title>
</cp:coreProperties>
</file>