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png" ContentType="image/png"/>
  <Override PartName="/ppt/media/image11.jpeg" ContentType="image/jpe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84A-D67E-41B6-B3EE-A50AE703D5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dias de treinamento em metodologia das consulta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 entanto uma observance moderada é &gt; 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876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876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9080"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06640" indent="-289080">
              <a:spcAft>
                <a:spcPts val="8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68600" indent="-289080"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2240" y="1102320"/>
            <a:ext cx="7139520" cy="16135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82080" y="6284880"/>
            <a:ext cx="780840" cy="42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6124680"/>
            <a:ext cx="476280" cy="5810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89320" y="152280"/>
            <a:ext cx="2565000" cy="579600"/>
            <a:chOff x="3289320" y="152280"/>
            <a:chExt cx="2565000" cy="5796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777480" y="233280"/>
              <a:ext cx="2076840" cy="4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3289320" y="152280"/>
              <a:ext cx="436320" cy="465840"/>
              <a:chOff x="3289320" y="152280"/>
              <a:chExt cx="436320" cy="465840"/>
            </a:xfrm>
          </p:grpSpPr>
          <p:sp>
            <p:nvSpPr>
              <p:cNvPr id="50" name=""/>
              <p:cNvSpPr/>
              <p:nvPr/>
            </p:nvSpPr>
            <p:spPr>
              <a:xfrm>
                <a:off x="3301560" y="34740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26480" y="458640"/>
                <a:ext cx="156960" cy="15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424680" y="174600"/>
                <a:ext cx="156600" cy="157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89320" y="33624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6c6d7"/>
                  </a:gs>
                  <a:gs pos="100000">
                    <a:srgbClr val="3160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98040" y="152280"/>
                <a:ext cx="187920" cy="460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14640" y="5661000"/>
            <a:ext cx="1295640" cy="96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97160" y="1133640"/>
            <a:ext cx="7399080" cy="1752480"/>
          </a:xfrm>
          <a:prstGeom prst="roundRect">
            <a:avLst>
              <a:gd name="adj" fmla="val 26722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O acompanhamento terapêutico</a:t>
            </a:r>
            <a:br>
              <a:rPr sz="3200"/>
            </a:b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de pacientes : </a:t>
            </a:r>
            <a:br>
              <a:rPr sz="3200"/>
            </a:b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qual estratégia de intervençã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560" y="3495600"/>
            <a:ext cx="866772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therine Tourette-Turg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ofessora - Maître de conférences des universités em psicologie da sa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úd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yline Rébil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sic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oga, Diretora da Comment D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40920" y="250200"/>
            <a:ext cx="75765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2/ uma intervenção centrada na pessoa que :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55680" y="2068560"/>
            <a:ext cx="765504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juda a pessoa a continuar seu </a:t>
            </a:r>
            <a:r>
              <a:rPr b="0" lang="fr-FR" sz="2000" spc="-1" strike="noStrike">
                <a:solidFill>
                  <a:srgbClr val="dbf5a7"/>
                </a:solidFill>
                <a:latin typeface="Arial"/>
              </a:rPr>
              <a:t>desenvolvimentos pessoa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rte do prin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pio que 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otivaçã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é um processo dinâmico que se genera e se mantém sob certas condiçõ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juda a pessoa a desenvolver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estratégias de ajus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ativas e apropriadas a sua soropositividade e a seu hi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órico terapêutico,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juda a pessoa a anticiper um conjunto de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incidentes cr</a:t>
            </a:r>
            <a:r>
              <a:rPr b="0" lang="en-GB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ítico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otand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a de competência para encará-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4120" y="6629400"/>
            <a:ext cx="182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ffff"/>
                </a:solidFill>
                <a:latin typeface="Arial"/>
              </a:rPr>
              <a:t>MOTHIV © Comment Dire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647000" y="250200"/>
            <a:ext cx="717012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3/ uma intervenção breve e estruturada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95200" y="2173320"/>
            <a:ext cx="7700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4 quatro entrevista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Os instrumento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m planejamento terapêutico (tabela terapêutica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m manual de entre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ma ficha de diag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óstic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« observance 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ma ficha de acompanhamento e de avali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14120" y="6629400"/>
            <a:ext cx="182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ffff"/>
                </a:solidFill>
                <a:latin typeface="Arial"/>
              </a:rPr>
              <a:t>MOTHIV © Comment Dire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371240" y="250200"/>
            <a:ext cx="744624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4/ un treinamento espec</a:t>
            </a:r>
            <a:r>
              <a:rPr b="0" lang="en-GB" sz="2800" spc="-1" strike="noStrike">
                <a:solidFill>
                  <a:srgbClr val="33ccff"/>
                </a:solidFill>
                <a:latin typeface="Arial"/>
                <a:ea typeface="Times New Roman"/>
              </a:rPr>
              <a:t>ífico,</a:t>
            </a:r>
            <a:r>
              <a:rPr b="0" lang="fr-FR" sz="2800" spc="-1" strike="noStrike">
                <a:solidFill>
                  <a:srgbClr val="33cc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um acompanhamento das intervençõ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83760" y="2028960"/>
            <a:ext cx="7597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reinamento inicial das equipes e intervenções (5 à 8 dias)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« observance » terapê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aconselh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utilização de ferramentas da cons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companhamento e apoio metodológico (2 dias/trimest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análise das dificuldades encontradas na prática e ao n</a:t>
            </a:r>
            <a:r>
              <a:rPr b="0" lang="fr-FR" sz="2000" spc="-1" strike="noStrike">
                <a:solidFill>
                  <a:srgbClr val="33ccff"/>
                </a:solidFill>
                <a:latin typeface="Arial"/>
                <a:ea typeface="Times New Roman"/>
              </a:rPr>
              <a:t>í</a:t>
            </a: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vel institucional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estudos de cas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gerenciamento de cris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7680" y="250560"/>
            <a:ext cx="756288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Exemplos de programas 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63400" y="2222640"/>
            <a:ext cx="7265880" cy="38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533520" indent="-533520">
              <a:spcAft>
                <a:spcPts val="624"/>
              </a:spcAft>
              <a:buClr>
                <a:srgbClr val="bbd0c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consulta de « observance » do CHU de Nice (Franç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bbd0c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consulta de preparação ao tratamento do CHU de Fort de France ( Martinica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bbd0c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consulta de « observance » de Marigot Hospital (Saint Martin das Car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bas – Cari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Aft>
                <a:spcPts val="624"/>
              </a:spcAft>
              <a:buClr>
                <a:srgbClr val="bbd0c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consulta de preparação, falha terapêutica e mudança terapêutica do Hospital de Tours (Franç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17680" y="250560"/>
            <a:ext cx="756288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consulta de « adesão » de Nice : 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06080" y="1901880"/>
            <a:ext cx="7442280" cy="459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blic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5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cientes em tratamento acompanhados em 3 serviços do CHU N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tor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 enfermeiras dos 3 serviços, 1 médico coorden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reqüência das entrevis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 entrevistas (40 minutos) durante 6 meses (1 entrevista / 2 meses ajustadas na freqüência das consultas médic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strumento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nual de entrevista, ficha diagnóstico para a enfermeira, ficha de acompanhamento inserida no prontuário méd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4720" y="393840"/>
            <a:ext cx="58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Exemplo de planejamento terapêu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680" y="121932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7800" y="1254240"/>
            <a:ext cx="6427800" cy="5108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rot="20331600">
            <a:off x="381240" y="343332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Didan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0431200">
            <a:off x="460800" y="45212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Stavu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0417400">
            <a:off x="420120" y="5628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baca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7800" y="1706400"/>
          <a:ext cx="4267080" cy="33516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Seu tratamento no dia-di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0160" y="39384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aracter</a:t>
            </a:r>
            <a:r>
              <a:rPr b="0" lang="en-GB" sz="2400" spc="-1" strike="noStrike">
                <a:solidFill>
                  <a:srgbClr val="daf5a3"/>
                </a:solidFill>
                <a:latin typeface="Arial"/>
                <a:ea typeface="Times New Roman"/>
              </a:rPr>
              <a:t>í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na i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3320" y="39384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6280" y="3938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4960" y="1279440"/>
            <a:ext cx="2625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dade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exo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nfecção por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2°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 grau ou 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em emp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Estad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D4 med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indetect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Virgens de ARV à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Duração mediana T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nterior (mê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58400" y="39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80760" y="1300320"/>
            <a:ext cx="75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3880" y="1300320"/>
            <a:ext cx="7599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61920" y="1300320"/>
            <a:ext cx="676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6680" y="121932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61440" y="32076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35960" y="320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903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200" y="1230480"/>
            <a:ext cx="3319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Diminuição média da charge vi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c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etect</a:t>
            </a:r>
            <a:r>
              <a:rPr b="0" lang="en-GB" sz="2200" spc="-1" strike="noStrike">
                <a:solidFill>
                  <a:srgbClr val="ffcc00"/>
                </a:solidFill>
                <a:latin typeface="Arial"/>
                <a:ea typeface="Times New Roman"/>
              </a:rPr>
              <a:t>á</a:t>
            </a: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ve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em M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1920" y="1154160"/>
            <a:ext cx="56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0.22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0.1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p=0.01 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64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4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520" y="382104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3963960"/>
            <a:ext cx="3048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6600"/>
                </a:solidFill>
                <a:latin typeface="Arial"/>
              </a:rPr>
              <a:t>Sub grupo de pacientes detect</a:t>
            </a:r>
            <a:r>
              <a:rPr b="0" lang="en-GB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á</a:t>
            </a:r>
            <a:r>
              <a:rPr b="0" lang="fr-FR" sz="2200" spc="-1" strike="noStrike">
                <a:solidFill>
                  <a:srgbClr val="ff6600"/>
                </a:solidFill>
                <a:latin typeface="Arial"/>
              </a:rPr>
              <a:t>veis  na inclus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indetectá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em M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6312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9220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6312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5404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5880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5720" y="6477120"/>
            <a:ext cx="3157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cc99"/>
                </a:solidFill>
                <a:latin typeface="Arial"/>
              </a:rPr>
              <a:t>Pradier, Hiv Clin Trial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10952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762280" y="368280"/>
            <a:ext cx="16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5000" y="0"/>
            <a:ext cx="887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Evolução da « observance » entre M0 e M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772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336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20600" y="5842080"/>
            <a:ext cx="24804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upe interven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73280" y="5842080"/>
            <a:ext cx="20293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upe cont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49360" y="2944800"/>
            <a:ext cx="895320" cy="23828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62640" y="2732040"/>
            <a:ext cx="896760" cy="259560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4680" y="2236680"/>
            <a:ext cx="897120" cy="3090960"/>
            <a:chOff x="3244680" y="2236680"/>
            <a:chExt cx="897120" cy="3090960"/>
          </a:xfrm>
        </p:grpSpPr>
        <p:sp>
          <p:nvSpPr>
            <p:cNvPr id="202" name=""/>
            <p:cNvSpPr/>
            <p:nvPr/>
          </p:nvSpPr>
          <p:spPr>
            <a:xfrm>
              <a:off x="3244680" y="2236680"/>
              <a:ext cx="89712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4680" y="2307960"/>
              <a:ext cx="897120" cy="936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4680" y="2401560"/>
              <a:ext cx="897120" cy="7164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4680" y="2473200"/>
              <a:ext cx="897120" cy="7128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4680" y="2544480"/>
              <a:ext cx="897120" cy="6984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4680" y="2614320"/>
              <a:ext cx="897120" cy="9540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4680" y="2709720"/>
              <a:ext cx="897120" cy="6984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4680" y="2779560"/>
              <a:ext cx="897120" cy="7128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4680" y="2850840"/>
              <a:ext cx="897120" cy="6984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4680" y="2920680"/>
              <a:ext cx="897120" cy="9540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4680" y="3016080"/>
              <a:ext cx="897120" cy="6984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4680" y="3085920"/>
              <a:ext cx="897120" cy="7164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157560"/>
              <a:ext cx="897120" cy="9360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4680" y="3251160"/>
              <a:ext cx="897120" cy="7128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4680" y="3322440"/>
              <a:ext cx="897120" cy="7164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680" y="3394080"/>
              <a:ext cx="897120" cy="6984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4680" y="3463920"/>
              <a:ext cx="897120" cy="9504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680" y="3558960"/>
              <a:ext cx="897120" cy="6984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4680" y="3628800"/>
              <a:ext cx="897120" cy="7164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44680" y="3700440"/>
              <a:ext cx="897120" cy="9360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4680" y="3794040"/>
              <a:ext cx="897120" cy="7128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4680" y="3865320"/>
              <a:ext cx="897120" cy="7164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4680" y="3936960"/>
              <a:ext cx="897120" cy="6984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44680" y="4006800"/>
              <a:ext cx="897120" cy="9504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4680" y="4101840"/>
              <a:ext cx="897120" cy="6984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4680" y="4171680"/>
              <a:ext cx="897120" cy="7164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4680" y="4243320"/>
              <a:ext cx="897120" cy="6984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4680" y="4313160"/>
              <a:ext cx="897120" cy="9504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4680" y="4408200"/>
              <a:ext cx="897120" cy="6984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4680" y="4478040"/>
              <a:ext cx="897120" cy="7164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4680" y="4549680"/>
              <a:ext cx="897120" cy="93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4680" y="4643280"/>
              <a:ext cx="897120" cy="712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4680" y="4714560"/>
              <a:ext cx="897120" cy="7164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4680" y="4786200"/>
              <a:ext cx="897120" cy="6984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4680" y="4856040"/>
              <a:ext cx="897120" cy="954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4680" y="4951440"/>
              <a:ext cx="897120" cy="6984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4680" y="5021280"/>
              <a:ext cx="897120" cy="712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5092560"/>
              <a:ext cx="897120" cy="6984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4680" y="5162400"/>
              <a:ext cx="897120" cy="9540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4680" y="5257800"/>
              <a:ext cx="897120" cy="69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44680" y="2236680"/>
            <a:ext cx="897120" cy="3090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359400" y="2803680"/>
            <a:ext cx="873000" cy="2523600"/>
            <a:chOff x="6359400" y="2803680"/>
            <a:chExt cx="873000" cy="2523600"/>
          </a:xfrm>
        </p:grpSpPr>
        <p:sp>
          <p:nvSpPr>
            <p:cNvPr id="244" name=""/>
            <p:cNvSpPr/>
            <p:nvPr/>
          </p:nvSpPr>
          <p:spPr>
            <a:xfrm>
              <a:off x="6359400" y="2803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9400" y="2874960"/>
              <a:ext cx="873000" cy="4536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59400" y="2920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59400" y="2992320"/>
              <a:ext cx="873000" cy="709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59400" y="3063600"/>
              <a:ext cx="873000" cy="457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59400" y="3109680"/>
              <a:ext cx="873000" cy="7128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59400" y="3181320"/>
              <a:ext cx="873000" cy="6948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59400" y="3251160"/>
              <a:ext cx="873000" cy="4716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9400" y="3298680"/>
              <a:ext cx="873000" cy="7092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59400" y="3369960"/>
              <a:ext cx="873000" cy="6948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9400" y="3439800"/>
              <a:ext cx="873000" cy="4752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9400" y="3487680"/>
              <a:ext cx="873000" cy="7092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9400" y="3558960"/>
              <a:ext cx="873000" cy="694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59400" y="3628800"/>
              <a:ext cx="873000" cy="4716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59400" y="3676320"/>
              <a:ext cx="873000" cy="7128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59400" y="3747960"/>
              <a:ext cx="873000" cy="6948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59400" y="3817800"/>
              <a:ext cx="873000" cy="47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59400" y="3865320"/>
              <a:ext cx="873000" cy="7128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9400" y="3936960"/>
              <a:ext cx="873000" cy="694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59400" y="4006800"/>
              <a:ext cx="873000" cy="7092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59400" y="4078080"/>
              <a:ext cx="873000" cy="4572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9400" y="4124160"/>
              <a:ext cx="873000" cy="7092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9400" y="4195440"/>
              <a:ext cx="873000" cy="7128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9400" y="4267080"/>
              <a:ext cx="873000" cy="4572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9400" y="4313160"/>
              <a:ext cx="873000" cy="7092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9400" y="4384440"/>
              <a:ext cx="873000" cy="6948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9400" y="4454280"/>
              <a:ext cx="873000" cy="4752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9400" y="4502160"/>
              <a:ext cx="873000" cy="7092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9400" y="4573440"/>
              <a:ext cx="873000" cy="6948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9400" y="4643280"/>
              <a:ext cx="873000" cy="4716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9400" y="4690800"/>
              <a:ext cx="873000" cy="712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59400" y="4762440"/>
              <a:ext cx="873000" cy="694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9400" y="4832280"/>
              <a:ext cx="873000" cy="4716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9400" y="4879800"/>
              <a:ext cx="873000" cy="7128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9400" y="4951440"/>
              <a:ext cx="873000" cy="694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59400" y="5021280"/>
              <a:ext cx="873000" cy="47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59400" y="5068800"/>
              <a:ext cx="873000" cy="709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59400" y="5140080"/>
              <a:ext cx="873000" cy="694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59400" y="5209920"/>
              <a:ext cx="873000" cy="475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59400" y="5257800"/>
              <a:ext cx="873000" cy="69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359400" y="2803680"/>
            <a:ext cx="873360" cy="2523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87680" y="2025720"/>
            <a:ext cx="1440" cy="330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17840" y="532764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7840" y="4927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17840" y="450216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17840" y="4102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17840" y="3676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17840" y="327492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17840" y="2851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17840" y="244944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17840" y="202572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87680" y="5327640"/>
            <a:ext cx="6205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687680" y="5327280"/>
            <a:ext cx="144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80204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89300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21760" y="5162400"/>
            <a:ext cx="367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80280" y="4762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80280" y="433692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0280" y="3936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80280" y="3511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0280" y="31100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0280" y="2685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80280" y="22845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80280" y="186048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79800" y="5397480"/>
            <a:ext cx="3495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9840" y="5397480"/>
            <a:ext cx="49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-1164600" y="3456000"/>
            <a:ext cx="359280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af5a3"/>
                </a:solidFill>
                <a:latin typeface="Arial"/>
              </a:rPr>
              <a:t>% pacientes « observante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85080" y="3322800"/>
            <a:ext cx="189000" cy="1886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0720" y="322884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885080" y="3841920"/>
            <a:ext cx="189000" cy="188280"/>
            <a:chOff x="7885080" y="3841920"/>
            <a:chExt cx="189000" cy="188280"/>
          </a:xfrm>
        </p:grpSpPr>
        <p:sp>
          <p:nvSpPr>
            <p:cNvPr id="314" name=""/>
            <p:cNvSpPr/>
            <p:nvPr/>
          </p:nvSpPr>
          <p:spPr>
            <a:xfrm>
              <a:off x="7885080" y="3841920"/>
              <a:ext cx="189000" cy="234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85080" y="3865320"/>
              <a:ext cx="189000" cy="234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85080" y="3889080"/>
              <a:ext cx="189000" cy="237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85080" y="3913200"/>
              <a:ext cx="189000" cy="2340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85080" y="3936960"/>
              <a:ext cx="189000" cy="2160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5080" y="3958920"/>
              <a:ext cx="189000" cy="2376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85080" y="3983040"/>
              <a:ext cx="189000" cy="2340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85080" y="4006800"/>
              <a:ext cx="189000" cy="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885080" y="3841920"/>
            <a:ext cx="189000" cy="188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190720" y="374796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95080" y="152280"/>
            <a:ext cx="7419960" cy="1231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consulta do CHU de Fort de Fran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preparação ao tratamento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14120" y="6629400"/>
            <a:ext cx="182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ffff"/>
                </a:solidFill>
                <a:latin typeface="Arial"/>
              </a:rPr>
              <a:t>MOTHIV © Comment Dire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527120" y="1865160"/>
            <a:ext cx="66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úblico alvo 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22480" y="2286000"/>
            <a:ext cx="6554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dicação a um tratamento anti-retrov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cientes nunca antes tra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cientes já tratados mas tendo parado 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edicamentos depois de ao menos 1 mê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2280" y="3562200"/>
            <a:ext cx="66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ores 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1920" y="3962520"/>
            <a:ext cx="655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édicos que prescrev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ª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aconselhadora terapêutica (enfermei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16040" y="4716360"/>
            <a:ext cx="66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rumentos 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66760" y="5199120"/>
            <a:ext cx="633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79720" y="5160960"/>
            <a:ext cx="670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nual de entrevista, Ficha d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iagnóstico, Ficha  de acompanh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0360" y="188640"/>
            <a:ext cx="756936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Contexto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90520" y="2157120"/>
            <a:ext cx="750888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udança radical do prog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óstico da infecção pelo HIV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m a chegada dos anti-retrovirais (HAA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lhora c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nica e biológica dos pacientes tratados com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AART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s tratamentos apresentam limite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sência de cura, tratamento de duração indetermin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oxicidade, efeitos colater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esão (« observance ») elevada requerida para o sucesso terapêu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93720" y="308772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53240" y="308628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32720" y="25437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vista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5280" y="25437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vista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99960" y="25437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vista n°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30600" y="37598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im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70480" y="3370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ratament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9120" y="3720960"/>
            <a:ext cx="4575240" cy="457200"/>
          </a:xfrm>
          <a:prstGeom prst="rightArrow">
            <a:avLst>
              <a:gd name="adj1" fmla="val 66667"/>
              <a:gd name="adj2" fmla="val 6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17960" y="308448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89160" y="458676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 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9680" y="4480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24840" y="449460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5760" y="3463920"/>
            <a:ext cx="23619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00840" y="250200"/>
            <a:ext cx="731628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consulta do CHU de Fort de Fran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preparação ao tratamento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41720" y="2554200"/>
            <a:ext cx="5499000" cy="3486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4680" y="152280"/>
            <a:ext cx="7380360" cy="1231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ccff"/>
                </a:solidFill>
                <a:latin typeface="Arial"/>
              </a:rPr>
              <a:t>A simulação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51" name="161-6103_IMG" descr=""/>
          <p:cNvPicPr/>
          <p:nvPr/>
        </p:nvPicPr>
        <p:blipFill>
          <a:blip r:embed="rId1"/>
          <a:stretch/>
        </p:blipFill>
        <p:spPr>
          <a:xfrm>
            <a:off x="2230560" y="2533680"/>
            <a:ext cx="5527440" cy="35244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rot="20442000">
            <a:off x="2557080" y="384156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onge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7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371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6680" y="1905120"/>
            <a:ext cx="25416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vista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iagn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tico das         necess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xploração do grau                   de prepa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apacidade de apoio                dos s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65640" y="2013120"/>
            <a:ext cx="3176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vista n°3 ou 4 </a:t>
            </a: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(D</a:t>
            </a:r>
            <a:r>
              <a:rPr b="0" lang="fr-FR" sz="2000" spc="-1" strike="noStrike" baseline="-25000">
                <a:solidFill>
                  <a:srgbClr val="daf5a3"/>
                </a:solidFill>
                <a:latin typeface="Comic Sans MS"/>
              </a:rPr>
              <a:t>15</a:t>
            </a: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mpacto do tratamento na         vida e n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ntecipação dos eventos             de non-obser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Verificação das rot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 rot="18900000">
            <a:off x="6243480" y="5182920"/>
            <a:ext cx="374760" cy="422280"/>
          </a:xfrm>
          <a:prstGeom prst="downArrow">
            <a:avLst>
              <a:gd name="adj1" fmla="val 50000"/>
              <a:gd name="adj2" fmla="val 28170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8720" y="3632040"/>
            <a:ext cx="529416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           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Começo do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           </a:t>
            </a: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SIM         </a:t>
            </a:r>
            <a:r>
              <a:rPr b="0" lang="fr-FR" sz="1800" spc="-1" strike="noStrike">
                <a:solidFill>
                  <a:srgbClr val="e979d9"/>
                </a:solidFill>
                <a:latin typeface="Comic Sans MS"/>
              </a:rPr>
              <a:t>N</a:t>
            </a:r>
            <a:r>
              <a:rPr b="0" lang="en-GB" sz="1800" spc="-1" strike="noStrike">
                <a:solidFill>
                  <a:srgbClr val="e979d9"/>
                </a:solidFill>
                <a:latin typeface="Comic Sans MS"/>
                <a:ea typeface="Times New Roman"/>
              </a:rPr>
              <a:t>Á</a:t>
            </a:r>
            <a:r>
              <a:rPr b="0" lang="fr-FR" sz="1800" spc="-1" strike="noStrike">
                <a:solidFill>
                  <a:srgbClr val="e979d9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                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Paciente     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      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 pron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 rot="18900000">
            <a:off x="5479920" y="4477320"/>
            <a:ext cx="419400" cy="438120"/>
          </a:xfrm>
          <a:prstGeom prst="downArrow">
            <a:avLst>
              <a:gd name="adj1" fmla="val 50000"/>
              <a:gd name="adj2" fmla="val 26116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47040" y="3056040"/>
            <a:ext cx="24969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vista n°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valiação da situação do pa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Outro plano de 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2700000">
            <a:off x="6922800" y="5220360"/>
            <a:ext cx="373320" cy="422280"/>
          </a:xfrm>
          <a:prstGeom prst="downArrow">
            <a:avLst>
              <a:gd name="adj1" fmla="val 50000"/>
              <a:gd name="adj2" fmla="val 28279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7768800" y="5135040"/>
            <a:ext cx="723960" cy="816120"/>
          </a:xfrm>
          <a:custGeom>
            <a:avLst/>
            <a:gdLst>
              <a:gd name="textAreaLeft" fmla="*/ 0 w 723960"/>
              <a:gd name="textAreaRight" fmla="*/ 724320 w 72396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360" y="4538520"/>
            <a:ext cx="19098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Simu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eprodução do        desenrolar do       trat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Une se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23760" y="4010040"/>
            <a:ext cx="419400" cy="438120"/>
          </a:xfrm>
          <a:prstGeom prst="downArrow">
            <a:avLst>
              <a:gd name="adj1" fmla="val 50000"/>
              <a:gd name="adj2" fmla="val 26116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43240" y="4799160"/>
            <a:ext cx="2467080" cy="17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vista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Vivência da simul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dentificar e resolver as dificul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lano de  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2646360" y="530208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3560" y="809640"/>
            <a:ext cx="821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escrição do tratamento pelo mé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sulta com a aconselhadora terapêu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70360" y="25560"/>
            <a:ext cx="41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bffff"/>
                </a:solidFill>
                <a:latin typeface="Arial"/>
                <a:ea typeface="Times New Roman"/>
              </a:rPr>
              <a:t>Consulta de preparação ao tratamento </a:t>
            </a:r>
            <a:br>
              <a:rPr sz="1800"/>
            </a:br>
            <a:r>
              <a:rPr b="0" i="1" lang="fr-FR" sz="1800" spc="-1" strike="noStrike">
                <a:solidFill>
                  <a:srgbClr val="2bffff"/>
                </a:solidFill>
                <a:latin typeface="Arial"/>
                <a:ea typeface="Times New Roman"/>
              </a:rPr>
              <a:t>CHU de Fort de France (Marti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5322600" y="5868720"/>
            <a:ext cx="419040" cy="438120"/>
          </a:xfrm>
          <a:prstGeom prst="downArrow">
            <a:avLst>
              <a:gd name="adj1" fmla="val 38639"/>
              <a:gd name="adj2" fmla="val 26521"/>
            </a:avLst>
          </a:prstGeom>
          <a:solidFill>
            <a:srgbClr val="daf5a3"/>
          </a:solidFill>
          <a:ln w="12600">
            <a:solidFill>
              <a:srgbClr val="dbf5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72440" y="4702320"/>
            <a:ext cx="1440" cy="436320"/>
          </a:xfrm>
          <a:prstGeom prst="line">
            <a:avLst/>
          </a:prstGeom>
          <a:ln w="9360">
            <a:solidFill>
              <a:srgbClr val="dbf5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8489880" y="4702320"/>
            <a:ext cx="0" cy="436320"/>
          </a:xfrm>
          <a:prstGeom prst="line">
            <a:avLst/>
          </a:prstGeom>
          <a:ln w="9360">
            <a:solidFill>
              <a:srgbClr val="dbf5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72440" y="4724280"/>
            <a:ext cx="219240" cy="0"/>
          </a:xfrm>
          <a:prstGeom prst="line">
            <a:avLst/>
          </a:prstGeom>
          <a:ln w="9360">
            <a:solidFill>
              <a:srgbClr val="dbf5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 rot="1242600">
            <a:off x="7407000" y="4498200"/>
            <a:ext cx="372960" cy="422280"/>
          </a:xfrm>
          <a:prstGeom prst="downArrow">
            <a:avLst>
              <a:gd name="adj1" fmla="val 50000"/>
              <a:gd name="adj2" fmla="val 28306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73320" y="152280"/>
            <a:ext cx="7642080" cy="10828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consulta de « observance » 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do hospital de Saint Martin des Caraïb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20400" y="1801800"/>
            <a:ext cx="76280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Construção e definição do projet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18 meses.</a:t>
            </a: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Atores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 enfermeiras hospitalares consultantes a meio expediente, 1médico hospitalar apto a prescrever os TAR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Tipo de intervençã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ntrevistas individuais (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aconselhament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) prescritas pelos os méd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Suporte para intervençã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so de guias de entrevista MOTHIV, fichas de acompanhamento e de avali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Treinamento inicial das enfermeiras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4 dias de oficina sobre as técnicas de entrevista e de relação de aj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 dias de oficina em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aconselhamento d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« observance » para o HIV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337760" y="829800"/>
            <a:ext cx="7473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Treinamento continuado e acompanhamento da intervenção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Supervisão no lugar de trabalho das enfermeiras, e a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álise dos conteúdos das entrevista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Garantia de Qualidad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Avaliaçã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Impacto sobre a sa</a:t>
            </a:r>
            <a:r>
              <a:rPr b="0" lang="en-GB" sz="2000" spc="-1" strike="noStrike">
                <a:solidFill>
                  <a:srgbClr val="bbd0c9"/>
                </a:solidFill>
                <a:latin typeface="Arial"/>
                <a:ea typeface="Times New Roman"/>
              </a:rPr>
              <a:t>úde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“bio-clínica”</a:t>
            </a:r>
            <a:r>
              <a:rPr b="0" lang="fr-FR" sz="2000" spc="-1" strike="noStrike">
                <a:solidFill>
                  <a:srgbClr val="bbd0c9"/>
                </a:solidFill>
                <a:latin typeface="Arial"/>
                <a:ea typeface="Times New Roman"/>
              </a:rPr>
              <a:t> dos pacientes</a:t>
            </a: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dores : carga viral, CD4, renovação das recei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Impacto sobre a melhora do comportamento de « observance » e sua manuteçã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dores : planejamento terapêutico, freqüência nas consul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An</a:t>
            </a:r>
            <a:r>
              <a:rPr b="0" lang="en-GB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álise das entrevistas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ichas de avali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9360" y="219240"/>
            <a:ext cx="7748640" cy="12189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ccff"/>
                </a:solidFill>
                <a:latin typeface="Arial"/>
              </a:rPr>
              <a:t>Dados socio-demogr</a:t>
            </a:r>
            <a:r>
              <a:rPr b="0" lang="en-GB" sz="2600" spc="-1" strike="noStrike">
                <a:solidFill>
                  <a:srgbClr val="33ccff"/>
                </a:solidFill>
                <a:latin typeface="Arial"/>
                <a:ea typeface="Times New Roman"/>
              </a:rPr>
              <a:t>áficos</a:t>
            </a:r>
            <a:r>
              <a:rPr b="0" lang="fr-FR" sz="2600" spc="-1" strike="noStrike">
                <a:solidFill>
                  <a:srgbClr val="33ccff"/>
                </a:solidFill>
                <a:latin typeface="Arial"/>
              </a:rPr>
              <a:t> e cl</a:t>
            </a:r>
            <a:r>
              <a:rPr b="0" lang="en-GB" sz="2600" spc="-1" strike="noStrike">
                <a:solidFill>
                  <a:srgbClr val="33ccff"/>
                </a:solidFill>
                <a:latin typeface="Arial"/>
                <a:ea typeface="Times New Roman"/>
              </a:rPr>
              <a:t>í</a:t>
            </a:r>
            <a:r>
              <a:rPr b="0" lang="fr-FR" sz="2600" spc="-1" strike="noStrike">
                <a:solidFill>
                  <a:srgbClr val="33ccff"/>
                </a:solidFill>
                <a:latin typeface="Arial"/>
              </a:rPr>
              <a:t>nicos na inclusão</a:t>
            </a:r>
            <a:endParaRPr b="0" lang="en-US" sz="2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77840" y="1601280"/>
            <a:ext cx="740592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úmero de pessoas incluídas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na </a:t>
            </a: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consulta no dia 1 de outubro :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 pessoa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Sexo </a:t>
            </a:r>
            <a:r>
              <a:rPr b="0" lang="en-GB" sz="2000" spc="-1" strike="noStrike">
                <a:solidFill>
                  <a:srgbClr val="dbf5a7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8 mulheres ( 8 g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das  de 30 semanas), e 12 homens.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Idade média 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40 ano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Origem geogr</a:t>
            </a:r>
            <a:r>
              <a:rPr b="0" lang="en-GB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áfica</a:t>
            </a: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 :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iti (28 pessoas, sendo 70 % da fila ativa “observance”), França (4 pes. sendo  3 de St Martin), St Domingue (3), Sta Lucie (3), Guyanna (1), Jamaica (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Estatuto profissional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68 % sem profissão ou com trabalho inform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22120" y="304560"/>
            <a:ext cx="7792920" cy="10666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esultados intermedi</a:t>
            </a:r>
            <a:r>
              <a:rPr b="0" lang="en-GB" sz="2800" spc="-1" strike="noStrike">
                <a:solidFill>
                  <a:srgbClr val="33ccff"/>
                </a:solidFill>
                <a:latin typeface="Arial"/>
                <a:ea typeface="Times New Roman"/>
              </a:rPr>
              <a:t>ário em</a:t>
            </a: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 6 mes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5560" y="2176560"/>
            <a:ext cx="7645320" cy="32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1- N</a:t>
            </a:r>
            <a:r>
              <a:rPr b="0" lang="en-GB" sz="2800" spc="-1" strike="noStrike">
                <a:solidFill>
                  <a:srgbClr val="daf5a3"/>
                </a:solidFill>
                <a:latin typeface="Arial"/>
                <a:ea typeface="Times New Roman"/>
              </a:rPr>
              <a:t>úmero </a:t>
            </a: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total de entrevistas MOTHIV :</a:t>
            </a:r>
            <a:r>
              <a:rPr b="1" lang="fr-FR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 consulta de rotina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 uma re-inicialização de tratamento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 um começo de tratamento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 consultas PTME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 visitas e/ou entrevistas durante a hospitalização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04920" y="245880"/>
            <a:ext cx="7763040" cy="9903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esultados intermedi</a:t>
            </a:r>
            <a:r>
              <a:rPr b="0" lang="en-GB" sz="2800" spc="-1" strike="noStrike">
                <a:solidFill>
                  <a:srgbClr val="33ccff"/>
                </a:solidFill>
                <a:latin typeface="Arial"/>
                <a:ea typeface="Times New Roman"/>
              </a:rPr>
              <a:t>ário em</a:t>
            </a: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 6 mes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5840" y="1653840"/>
            <a:ext cx="7755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 – Comparativo da renovação das receitas (Farm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á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cie do CH de St Martin) :</a:t>
            </a:r>
            <a:r>
              <a:rPr b="1" lang="fr-FR" sz="2000" spc="-1" strike="noStrike">
                <a:solidFill>
                  <a:srgbClr val="daf5a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mostra de 10 pacientes em falha viro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ógic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Cv &gt; 50.000), seguidos depois de mais de um ano com tratamento TARV fornecido na far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cia do hospita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320920" y="3325680"/>
          <a:ext cx="5715000" cy="32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3325680"/>
                    <a:ext cx="5715000" cy="325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81120" y="3679920"/>
            <a:ext cx="457200" cy="14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45600">
            <a:off x="1895760" y="4370760"/>
            <a:ext cx="171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receitas dadas em 6 m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94440" y="5681520"/>
            <a:ext cx="79848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59440" y="5603760"/>
            <a:ext cx="10699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c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32200" y="6012000"/>
            <a:ext cx="35607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11680" y="6031080"/>
            <a:ext cx="3483000" cy="58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e setembro 2002 à março 2002 (sem consultas « Observane »)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e abril 2002 ao 1 de Out. 2002 (com consultas « Observance »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61720" y="203040"/>
            <a:ext cx="7777080" cy="9907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A consulta « observance » do CHRU de Tour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1200" y="1533600"/>
            <a:ext cx="80024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Tipo de intervençã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onsulta « observance » prescrita pelos médicos do serviço e com a implicação de toda a equi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Esquema </a:t>
            </a:r>
            <a:r>
              <a:rPr b="0" lang="fr-FR" sz="2000" spc="-1" strike="noStrike">
                <a:solidFill>
                  <a:srgbClr val="dbf5a7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376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clusão no protocolo MOTH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Atores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2 enfermeiras da consulta externa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2 enfermeiras de hospitalizaçã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ú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blico priorit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á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ri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376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iciando um tratemento TA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376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Mudando de tratamento por cause de falha terapê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376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iag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icado pelo médico como tendo dificuldades de « observance 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272960" y="774360"/>
            <a:ext cx="749124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Suportes da intervenção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    Guias de entrevista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    Fichas de acompanhamento e de avali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odalidades do funcionamento da consulta « observance »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° feira de manh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  ou depois das consultas médic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u depois da coleta de sangue para os ex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360" y="188640"/>
            <a:ext cx="756936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Contexto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2240" y="1768320"/>
            <a:ext cx="750888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Os TARV necessitam de uma « observance » ( adesão ) superior a 95 % para sua eficiência  terapêu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7af2f2"/>
                </a:solidFill>
                <a:latin typeface="Arial"/>
              </a:rPr>
              <a:t>Como ajudar o paciente a conseguir este resultado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f2f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 « observance » é uma variável dinâmica que flutua durante todo o tratame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7af2f2"/>
                </a:solidFill>
                <a:latin typeface="Arial"/>
              </a:rPr>
              <a:t>Em quais momentos intervi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7af2f2"/>
                </a:solidFill>
                <a:latin typeface="Arial"/>
              </a:rPr>
              <a:t>Existem momentos cruciai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272960" y="1374840"/>
            <a:ext cx="762156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etodologia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apartir de 2 indicadores)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ila ative CISIH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( Centro de Informação e cuidados de Imuno-deficiencia Humana)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Staff terapêu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Resultados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clusão de 10 pacientes/mês segundo 2 critérios :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io TARV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Switch TARV (Intolerância, falha, obser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u seja, em 10 meses : 100 pa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Volume previsional da consulta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400 entrevistas por ano de 45min cada, ou seja : 300hs./ano/serviço  (7H/semana para 2 enfermeir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863280" y="377280"/>
            <a:ext cx="7974720" cy="844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 anchorCtr="1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Simulação do n</a:t>
            </a:r>
            <a:r>
              <a:rPr b="1" lang="fr-FR" sz="2400" spc="-1" strike="noStrike">
                <a:solidFill>
                  <a:srgbClr val="33ccff"/>
                </a:solidFill>
                <a:latin typeface="Arial"/>
                <a:ea typeface="Times New Roman"/>
              </a:rPr>
              <a:t>úmero de pacientes podendo                 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beneficiar-se da consulta de « observance » de Tours</a:t>
            </a: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72960" y="774360"/>
            <a:ext cx="749124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« observance » é associada a fatores ligados a vivência dos medicamentos e aos acontecimentos da vida do paci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ffff"/>
                </a:solidFill>
                <a:latin typeface="Arial"/>
              </a:rPr>
              <a:t>Como ajudar o paciente a reduzir os obstáculos que ele encontra para seguir seu tratamento e tomar seus medicamentos 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7920" y="353520"/>
            <a:ext cx="803592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ff"/>
                </a:solidFill>
                <a:latin typeface="Arial"/>
                <a:ea typeface="Times New Roman"/>
              </a:rPr>
              <a:t>É preciso obter um escore de </a:t>
            </a: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« observance » </a:t>
            </a:r>
            <a:r>
              <a:rPr b="0" lang="en-GB" sz="2400" spc="-1" strike="noStrike">
                <a:solidFill>
                  <a:srgbClr val="33ccff"/>
                </a:solidFill>
                <a:latin typeface="Arial"/>
                <a:ea typeface="Times New Roman"/>
              </a:rPr>
              <a:t>de </a:t>
            </a: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100%?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3640" y="2031480"/>
            <a:ext cx="6872040" cy="41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« observance »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inicia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é preditiva 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resposta viral e imuno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ógica posteri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 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vel requeri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“observance” durante o tratamento pare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er menos severo que o do p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odo inicia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s programas de apoio devem ser reforçados no 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cio do tra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 entanto, uma « observance » para ser considera apenas « moderada » deve ser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perior a  80 %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P, 3an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uv2" descr=""/>
          <p:cNvPicPr/>
          <p:nvPr/>
        </p:nvPicPr>
        <p:blipFill>
          <a:blip r:embed="rId2"/>
          <a:srcRect l="4982" t="0" r="5370" b="3784"/>
          <a:stretch/>
        </p:blipFill>
        <p:spPr>
          <a:xfrm>
            <a:off x="1447920" y="1828800"/>
            <a:ext cx="200484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62680" y="1398600"/>
            <a:ext cx="408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« 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comendá</a:t>
            </a:r>
            <a:r>
              <a:rPr b="0" lang="fr-FR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se que as equipes de sa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úde </a:t>
            </a:r>
            <a:r>
              <a:rPr b="1" lang="fr-FR" sz="2400" spc="-1" strike="noStrike">
                <a:solidFill>
                  <a:srgbClr val="daf5a3"/>
                </a:solidFill>
                <a:latin typeface="Arial Narrow"/>
              </a:rPr>
              <a:t>implantem programas espec</a:t>
            </a:r>
            <a:r>
              <a:rPr b="1" lang="en-GB" sz="2400" spc="-1" strike="noStrike">
                <a:solidFill>
                  <a:srgbClr val="daf5a3"/>
                </a:solidFill>
                <a:latin typeface="Arial Narrow"/>
                <a:ea typeface="Times New Roman"/>
              </a:rPr>
              <a:t>íficos </a:t>
            </a:r>
            <a:r>
              <a:rPr b="1" lang="fr-FR" sz="2400" spc="-1" strike="noStrike">
                <a:solidFill>
                  <a:srgbClr val="daf5a3"/>
                </a:solidFill>
                <a:latin typeface="Arial Narrow"/>
                <a:ea typeface="Times New Roman"/>
              </a:rPr>
              <a:t>de escuta e de ajuda para os pacientes</a:t>
            </a: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, contando com profissionais especialmente capacitados para isso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4128800">
            <a:off x="3946320" y="1618920"/>
            <a:ext cx="609840" cy="1752480"/>
          </a:xfrm>
          <a:prstGeom prst="downArrow">
            <a:avLst>
              <a:gd name="adj1" fmla="val 50000"/>
              <a:gd name="adj2" fmla="val 71842"/>
            </a:avLst>
          </a:prstGeom>
          <a:solidFill>
            <a:srgbClr val="daf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1880" y="4040280"/>
            <a:ext cx="40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« </a:t>
            </a:r>
            <a:r>
              <a:rPr b="1" lang="fr-FR" sz="2400" spc="-1" strike="noStrike">
                <a:solidFill>
                  <a:srgbClr val="daf5a3"/>
                </a:solidFill>
                <a:latin typeface="Arial Narrow"/>
              </a:rPr>
              <a:t>Todos os pacientes</a:t>
            </a:r>
            <a:r>
              <a:rPr b="1" lang="fr-FR" sz="24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tra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evem poder ter </a:t>
            </a:r>
            <a:r>
              <a:rPr b="1" lang="fr-FR" sz="2400" spc="-1" strike="noStrike">
                <a:solidFill>
                  <a:srgbClr val="daf5a3"/>
                </a:solidFill>
                <a:latin typeface="Arial Narrow"/>
              </a:rPr>
              <a:t>acesso à consultas de </a:t>
            </a:r>
            <a:r>
              <a:rPr b="1" lang="fr-FR" sz="2400" spc="-1" strike="noStrike">
                <a:solidFill>
                  <a:srgbClr val="dbf5a7"/>
                </a:solidFill>
                <a:latin typeface="Arial"/>
                <a:ea typeface="Times New Roman"/>
              </a:rPr>
              <a:t>“</a:t>
            </a:r>
            <a:r>
              <a:rPr b="1" lang="fr-FR" sz="2400" spc="-1" strike="noStrike">
                <a:solidFill>
                  <a:srgbClr val="daf5a3"/>
                </a:solidFill>
                <a:latin typeface="Arial Narrow"/>
              </a:rPr>
              <a:t>observance</a:t>
            </a:r>
            <a:r>
              <a:rPr b="1" lang="fr-FR" sz="2400" spc="-1" strike="noStrike">
                <a:solidFill>
                  <a:srgbClr val="dbf5a7"/>
                </a:solidFill>
                <a:latin typeface="Arial"/>
                <a:ea typeface="Arial"/>
              </a:rPr>
              <a:t>„</a:t>
            </a:r>
            <a:r>
              <a:rPr b="1" lang="fr-FR" sz="2400" spc="-1" strike="noStrike">
                <a:solidFill>
                  <a:srgbClr val="daf5a3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…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219600">
            <a:off x="3943440" y="3296880"/>
            <a:ext cx="609480" cy="1584360"/>
          </a:xfrm>
          <a:prstGeom prst="downArrow">
            <a:avLst>
              <a:gd name="adj1" fmla="val 50000"/>
              <a:gd name="adj2" fmla="val 64988"/>
            </a:avLst>
          </a:prstGeom>
          <a:solidFill>
            <a:srgbClr val="daf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3320" y="189000"/>
            <a:ext cx="7556400" cy="114300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ecomend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67440" y="3849840"/>
            <a:ext cx="18342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[ Cuidar de pesso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infectadas pelo HIV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comendaçõ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cc"/>
                </a:solidFill>
                <a:latin typeface="Times New Roman"/>
              </a:rPr>
              <a:t>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cc"/>
                </a:solidFill>
                <a:latin typeface="Times New Roman"/>
              </a:rPr>
              <a:t>grupo de experts </a:t>
            </a: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71640" y="18702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ri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8040" y="509400"/>
            <a:ext cx="760716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Princípios de orientação  para a </a:t>
            </a:r>
            <a:br>
              <a:rPr sz="2400"/>
            </a:b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elaboração do modelo de intervençã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8160" y="2343240"/>
            <a:ext cx="7473960" cy="29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624"/>
              </a:spcAft>
              <a:buClr>
                <a:srgbClr val="ffffff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strucão de uma 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definição operacional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a « observance »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erapêu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scolha de uma 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abordagem centrada na pesso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riação de uma 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intervenção breve e estruturad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Um dispositivo de 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treinamento e acompanhament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as  equi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22280" y="392040"/>
            <a:ext cx="7469280" cy="103824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1/ uma definição operacinal da « observance » terapêutica </a:t>
            </a:r>
            <a:br>
              <a:rPr sz="2000"/>
            </a:b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74280" y="2052360"/>
            <a:ext cx="67532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 algn="just">
              <a:spcAft>
                <a:spcPts val="561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 « observance » terapêutica designa as </a:t>
            </a:r>
            <a:r>
              <a:rPr b="0" lang="fr-FR" sz="1800" spc="-1" strike="noStrike">
                <a:solidFill>
                  <a:srgbClr val="daf5a3"/>
                </a:solidFill>
                <a:latin typeface="Arial"/>
              </a:rPr>
              <a:t>capacidades de u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af5a3"/>
                </a:solidFill>
                <a:latin typeface="Arial"/>
              </a:rPr>
              <a:t>pesso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em tomar uma medicação segundo a prescrição. Es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apacidades são influenciadas positivamente ou negativa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r</a:t>
            </a:r>
            <a:r>
              <a:rPr b="0" lang="fr-FR" sz="1800" spc="-1" strike="noStrike">
                <a:solidFill>
                  <a:srgbClr val="daf5a3"/>
                </a:solidFill>
                <a:latin typeface="Arial"/>
              </a:rPr>
              <a:t> co-fatores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 se interagem entre ele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3520" y="5289120"/>
            <a:ext cx="3349800" cy="649800"/>
          </a:xfrm>
          <a:prstGeom prst="ellipse">
            <a:avLst/>
          </a:prstGeom>
          <a:gradFill rotWithShape="0">
            <a:gsLst>
              <a:gs pos="0">
                <a:srgbClr val="b8b8b8"/>
              </a:gs>
              <a:gs pos="50000">
                <a:srgbClr val="ffffff"/>
              </a:gs>
              <a:gs pos="100000">
                <a:srgbClr val="b8b8b8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comport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170000" y="4541760"/>
            <a:ext cx="2687760" cy="649800"/>
          </a:xfrm>
          <a:prstGeom prst="ellipse">
            <a:avLst/>
          </a:prstGeom>
          <a:gradFill rotWithShape="0">
            <a:gsLst>
              <a:gs pos="0">
                <a:srgbClr val="1e1e7b"/>
              </a:gs>
              <a:gs pos="50000">
                <a:srgbClr val="3333cc"/>
              </a:gs>
              <a:gs pos="100000">
                <a:srgbClr val="1e1e7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emo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283440" y="4596840"/>
            <a:ext cx="2536560" cy="64980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ffffff"/>
              </a:gs>
              <a:gs pos="100000">
                <a:srgbClr val="c1c1c1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71920" y="3873240"/>
            <a:ext cx="3197160" cy="649800"/>
          </a:xfrm>
          <a:prstGeom prst="ellipse">
            <a:avLst/>
          </a:prstGeom>
          <a:gradFill rotWithShape="0">
            <a:gsLst>
              <a:gs pos="0">
                <a:srgbClr val="1e1e7b"/>
              </a:gs>
              <a:gs pos="50000">
                <a:srgbClr val="3333cc"/>
              </a:gs>
              <a:gs pos="100000">
                <a:srgbClr val="1e1e7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gn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4120" y="6629400"/>
            <a:ext cx="182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ffff"/>
                </a:solidFill>
                <a:latin typeface="Arial"/>
              </a:rPr>
              <a:t>MOTHIV © Comment Dire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37520" y="437040"/>
            <a:ext cx="6927840" cy="530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Exploração dos co-fatores de « observance »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49280" y="5535720"/>
            <a:ext cx="2590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06480" y="500220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8040" y="4425840"/>
            <a:ext cx="3706560" cy="167868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Comport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Manejo dos efeitos colaterais e dos esquecimentos - rot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Uso de droga e de alc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Aprendizagem e compet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0160" y="1598760"/>
            <a:ext cx="3476520" cy="224856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50000">
                <a:srgbClr val="ffffff"/>
              </a:gs>
              <a:gs pos="100000">
                <a:srgbClr val="cdcdcd"/>
              </a:gs>
            </a:gsLst>
            <a:lin ang="540000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Apoio da familia / companheiro(a)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Comunicação sobre a soropositividade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Estigmatização                                            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Qualidade da oferta sanit</a:t>
            </a:r>
            <a:r>
              <a:rPr b="0" lang="en-GB" sz="1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á</a:t>
            </a: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ria e social Condições sociais de ex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7120" y="4237200"/>
            <a:ext cx="2919600" cy="167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Emo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Vivência da soropositividade Vida afetiva, amor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Traumas, esperança, Depressão, anxie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4920" y="1649520"/>
            <a:ext cx="3276720" cy="2501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gn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Cre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Motiv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Expectativ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Objetivos na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Grau de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Antecipação de obst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á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c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694000">
            <a:off x="4459320" y="3498840"/>
            <a:ext cx="1563480" cy="146520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4120" y="6629400"/>
            <a:ext cx="182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ffff"/>
                </a:solidFill>
                <a:latin typeface="Arial"/>
              </a:rPr>
              <a:t>MOTHIV © Comment Dire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6:45:52Z</dcterms:created>
  <dc:creator>AEI</dc:creator>
  <dc:description/>
  <dc:language>en-US</dc:language>
  <cp:lastModifiedBy>Maryline</cp:lastModifiedBy>
  <dcterms:modified xsi:type="dcterms:W3CDTF">2004-03-06T18:06:22Z</dcterms:modified>
  <cp:revision>355</cp:revision>
  <dc:subject/>
  <dc:title>FNCLS - ROCHE</dc:title>
</cp:coreProperties>
</file>