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3D6-0C58-43AA-B241-21050EAF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4AF-3685-4387-BBD6-BB8B9B99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880-AA4C-4291-9644-5C1B3CE1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076-6214-4E14-99AA-D48E10D7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FDC6-FB8C-470C-AF4B-9EC6861B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C93B-00B1-442B-AB38-98D0F81B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6D64-BEEF-4B1F-BBFB-55E1AD9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F003-E4C3-4BAA-B67F-D3BBEBB7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134A-B5C0-42FF-AF99-319B5594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5E93-A70D-479B-8389-84EC4D9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0E00-44D2-454A-8E11-86CB61DC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98D-2519-462C-96D7-55D322D1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11BF-7724-4C8E-9C89-B83CE7F4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CE37-A813-447E-9770-DDB7523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1E43-6191-4A6A-B168-CF44B20C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558B-AB96-4185-942C-81D5F18A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DD12-7378-4DD4-A044-A0FCAF18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B2A-7F5F-4ECA-B1E1-0ED500D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2AF-2C83-4485-9AE1-406C9E35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3BD-A96A-466D-8DC0-6BFEF438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295-E842-4491-86E4-D3756F23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1A9-D076-4C7D-B6E3-7E035488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DAB-519F-4193-B72D-30856D2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93F-C3A7-4D76-A430-167901F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7A86-2DC3-49BF-B94C-671C21F61900}" type="slidenum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AE77-D162-4A2C-B004-1ECBF23D3394}" type="slidenum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Times New Roman"/>
              </a:rPr>
              <a:t>Du dépistage à la prévention :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Times New Roman"/>
              </a:rPr>
              <a:t>quelles stratégies 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</a:rPr>
              <a:t>Catherine Tourette-Turgis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M.C.U., Comment D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</a:rPr>
              <a:t>Marc Shelly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Médecin coordinateur du CDAG de l’hôpital Fernand Widal (AP-HP), Aremed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</a:rPr>
              <a:t>Maryline Rébillon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Psychologue, Comment D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Groupe 2                                  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tratégies d’intervention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Mobilisation et soutien des compétences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dans la gestion du risque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1828800"/>
            <a:ext cx="3733560" cy="2362320"/>
          </a:xfrm>
          <a:custGeom>
            <a:avLst/>
            <a:gdLst/>
            <a:ahLst/>
            <a:rect l="l" t="t" r="r" b="b"/>
            <a:pathLst>
              <a:path w="2040" h="1032">
                <a:moveTo>
                  <a:pt x="528" y="184"/>
                </a:moveTo>
                <a:cubicBezTo>
                  <a:pt x="384" y="280"/>
                  <a:pt x="0" y="480"/>
                  <a:pt x="96" y="616"/>
                </a:cubicBezTo>
                <a:cubicBezTo>
                  <a:pt x="192" y="752"/>
                  <a:pt x="784" y="1032"/>
                  <a:pt x="1104" y="1000"/>
                </a:cubicBezTo>
                <a:cubicBezTo>
                  <a:pt x="1424" y="968"/>
                  <a:pt x="2040" y="584"/>
                  <a:pt x="2016" y="424"/>
                </a:cubicBezTo>
                <a:cubicBezTo>
                  <a:pt x="1992" y="264"/>
                  <a:pt x="1208" y="80"/>
                  <a:pt x="960" y="40"/>
                </a:cubicBezTo>
                <a:cubicBezTo>
                  <a:pt x="712" y="0"/>
                  <a:pt x="672" y="88"/>
                  <a:pt x="528" y="18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46600" y="182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28600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ieux communiquer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vec ses partenair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ur la préven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2743200"/>
            <a:ext cx="2361960" cy="1981080"/>
          </a:xfrm>
          <a:prstGeom prst="ellipse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ieux négocier s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interac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exuel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2438280"/>
            <a:ext cx="2629080" cy="1447920"/>
          </a:xfrm>
          <a:custGeom>
            <a:avLst/>
            <a:gdLst/>
            <a:ahLst/>
            <a:rect l="l" t="t" r="r" b="b"/>
            <a:pathLst>
              <a:path w="1656" h="848">
                <a:moveTo>
                  <a:pt x="1032" y="88"/>
                </a:moveTo>
                <a:cubicBezTo>
                  <a:pt x="864" y="0"/>
                  <a:pt x="648" y="72"/>
                  <a:pt x="504" y="184"/>
                </a:cubicBezTo>
                <a:cubicBezTo>
                  <a:pt x="360" y="296"/>
                  <a:pt x="0" y="672"/>
                  <a:pt x="168" y="760"/>
                </a:cubicBezTo>
                <a:cubicBezTo>
                  <a:pt x="336" y="848"/>
                  <a:pt x="1368" y="816"/>
                  <a:pt x="1512" y="712"/>
                </a:cubicBezTo>
                <a:cubicBezTo>
                  <a:pt x="1656" y="608"/>
                  <a:pt x="1200" y="176"/>
                  <a:pt x="1032" y="88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743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enti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’efficacité personnel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3886200"/>
            <a:ext cx="3047760" cy="1219320"/>
          </a:xfrm>
          <a:custGeom>
            <a:avLst/>
            <a:gdLst/>
            <a:ahLst/>
            <a:rect l="l" t="t" r="r" b="b"/>
            <a:pathLst>
              <a:path w="1648" h="976">
                <a:moveTo>
                  <a:pt x="1272" y="344"/>
                </a:moveTo>
                <a:cubicBezTo>
                  <a:pt x="1104" y="184"/>
                  <a:pt x="640" y="0"/>
                  <a:pt x="456" y="8"/>
                </a:cubicBezTo>
                <a:cubicBezTo>
                  <a:pt x="272" y="16"/>
                  <a:pt x="0" y="232"/>
                  <a:pt x="168" y="392"/>
                </a:cubicBezTo>
                <a:cubicBezTo>
                  <a:pt x="336" y="552"/>
                  <a:pt x="1280" y="976"/>
                  <a:pt x="1464" y="968"/>
                </a:cubicBezTo>
                <a:cubicBezTo>
                  <a:pt x="1648" y="960"/>
                  <a:pt x="1440" y="504"/>
                  <a:pt x="1272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4191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avoir dire n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495680"/>
            <a:ext cx="2743200" cy="1447920"/>
          </a:xfrm>
          <a:custGeom>
            <a:avLst/>
            <a:gdLst/>
            <a:ahLst/>
            <a:rect l="l" t="t" r="r" b="b"/>
            <a:pathLst>
              <a:path w="1504" h="1168">
                <a:moveTo>
                  <a:pt x="8" y="344"/>
                </a:moveTo>
                <a:cubicBezTo>
                  <a:pt x="16" y="504"/>
                  <a:pt x="288" y="960"/>
                  <a:pt x="536" y="1064"/>
                </a:cubicBezTo>
                <a:cubicBezTo>
                  <a:pt x="784" y="1168"/>
                  <a:pt x="1504" y="1128"/>
                  <a:pt x="1496" y="968"/>
                </a:cubicBezTo>
                <a:cubicBezTo>
                  <a:pt x="1488" y="808"/>
                  <a:pt x="736" y="208"/>
                  <a:pt x="488" y="104"/>
                </a:cubicBezTo>
                <a:cubicBezTo>
                  <a:pt x="240" y="0"/>
                  <a:pt x="0" y="184"/>
                  <a:pt x="8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5105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Estime de So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3936960"/>
            <a:ext cx="3517920" cy="2463840"/>
          </a:xfrm>
          <a:custGeom>
            <a:avLst/>
            <a:gdLst/>
            <a:ahLst/>
            <a:rect l="l" t="t" r="r" b="b"/>
            <a:pathLst>
              <a:path w="2216" h="1552">
                <a:moveTo>
                  <a:pt x="1344" y="352"/>
                </a:moveTo>
                <a:cubicBezTo>
                  <a:pt x="1048" y="544"/>
                  <a:pt x="0" y="1144"/>
                  <a:pt x="96" y="1312"/>
                </a:cubicBezTo>
                <a:cubicBezTo>
                  <a:pt x="192" y="1480"/>
                  <a:pt x="1624" y="1552"/>
                  <a:pt x="1920" y="1360"/>
                </a:cubicBezTo>
                <a:cubicBezTo>
                  <a:pt x="2216" y="1168"/>
                  <a:pt x="1968" y="320"/>
                  <a:pt x="1872" y="160"/>
                </a:cubicBezTo>
                <a:cubicBezTo>
                  <a:pt x="1776" y="0"/>
                  <a:pt x="1640" y="160"/>
                  <a:pt x="1344" y="352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464832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avoir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établir d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imites d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a relation sexuel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Groupe 3                                  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tratégies d’intervention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Négociation d’un plan de réduction des risques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133720"/>
            <a:ext cx="3733920" cy="2361960"/>
          </a:xfrm>
          <a:custGeom>
            <a:avLst/>
            <a:gdLst/>
            <a:ahLst/>
            <a:rect l="l" t="t" r="r" b="b"/>
            <a:pathLst>
              <a:path w="2040" h="1032">
                <a:moveTo>
                  <a:pt x="528" y="184"/>
                </a:moveTo>
                <a:cubicBezTo>
                  <a:pt x="384" y="280"/>
                  <a:pt x="0" y="480"/>
                  <a:pt x="96" y="616"/>
                </a:cubicBezTo>
                <a:cubicBezTo>
                  <a:pt x="192" y="752"/>
                  <a:pt x="784" y="1032"/>
                  <a:pt x="1104" y="1000"/>
                </a:cubicBezTo>
                <a:cubicBezTo>
                  <a:pt x="1424" y="968"/>
                  <a:pt x="2040" y="584"/>
                  <a:pt x="2016" y="424"/>
                </a:cubicBezTo>
                <a:cubicBezTo>
                  <a:pt x="1992" y="264"/>
                  <a:pt x="1208" y="80"/>
                  <a:pt x="960" y="40"/>
                </a:cubicBezTo>
                <a:cubicBezTo>
                  <a:pt x="712" y="0"/>
                  <a:pt x="672" y="88"/>
                  <a:pt x="528" y="18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2819520"/>
            <a:ext cx="281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Identifier les obstacles,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es difficultés rencontrées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ar la person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3124080"/>
            <a:ext cx="2743200" cy="1600200"/>
          </a:xfrm>
          <a:prstGeom prst="ellipse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ister les différentes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étapes d’un changement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réalis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438280" y="1904040"/>
            <a:ext cx="4191120" cy="1143000"/>
          </a:xfrm>
          <a:custGeom>
            <a:avLst/>
            <a:gdLst/>
            <a:ahLst/>
            <a:rect l="l" t="t" r="r" b="b"/>
            <a:pathLst>
              <a:path w="1656" h="848">
                <a:moveTo>
                  <a:pt x="1032" y="88"/>
                </a:moveTo>
                <a:cubicBezTo>
                  <a:pt x="864" y="0"/>
                  <a:pt x="648" y="72"/>
                  <a:pt x="504" y="184"/>
                </a:cubicBezTo>
                <a:cubicBezTo>
                  <a:pt x="360" y="296"/>
                  <a:pt x="0" y="672"/>
                  <a:pt x="168" y="760"/>
                </a:cubicBezTo>
                <a:cubicBezTo>
                  <a:pt x="336" y="848"/>
                  <a:pt x="1368" y="816"/>
                  <a:pt x="1512" y="712"/>
                </a:cubicBezTo>
                <a:cubicBezTo>
                  <a:pt x="1656" y="608"/>
                  <a:pt x="1200" y="176"/>
                  <a:pt x="1032" y="88"/>
                </a:cubicBezTo>
                <a:close/>
              </a:path>
            </a:pathLst>
          </a:custGeom>
          <a:solidFill>
            <a:srgbClr val="660033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19810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onner des informations complémentai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791320" y="1904040"/>
            <a:ext cx="3200400" cy="1600200"/>
          </a:xfrm>
          <a:custGeom>
            <a:avLst/>
            <a:gdLst/>
            <a:ahLst/>
            <a:rect l="l" t="t" r="r" b="b"/>
            <a:pathLst>
              <a:path w="1648" h="976">
                <a:moveTo>
                  <a:pt x="1272" y="344"/>
                </a:moveTo>
                <a:cubicBezTo>
                  <a:pt x="1104" y="184"/>
                  <a:pt x="640" y="0"/>
                  <a:pt x="456" y="8"/>
                </a:cubicBezTo>
                <a:cubicBezTo>
                  <a:pt x="272" y="16"/>
                  <a:pt x="0" y="232"/>
                  <a:pt x="168" y="392"/>
                </a:cubicBezTo>
                <a:cubicBezTo>
                  <a:pt x="336" y="552"/>
                  <a:pt x="1280" y="976"/>
                  <a:pt x="1464" y="968"/>
                </a:cubicBezTo>
                <a:cubicBezTo>
                  <a:pt x="1648" y="960"/>
                  <a:pt x="1440" y="504"/>
                  <a:pt x="1272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3886200"/>
            <a:ext cx="2438640" cy="2743200"/>
          </a:xfrm>
          <a:custGeom>
            <a:avLst/>
            <a:gdLst/>
            <a:ahLst/>
            <a:rect l="l" t="t" r="r" b="b"/>
            <a:pathLst>
              <a:path w="1504" h="1168">
                <a:moveTo>
                  <a:pt x="8" y="344"/>
                </a:moveTo>
                <a:cubicBezTo>
                  <a:pt x="16" y="504"/>
                  <a:pt x="288" y="960"/>
                  <a:pt x="536" y="1064"/>
                </a:cubicBezTo>
                <a:cubicBezTo>
                  <a:pt x="784" y="1168"/>
                  <a:pt x="1504" y="1128"/>
                  <a:pt x="1496" y="968"/>
                </a:cubicBezTo>
                <a:cubicBezTo>
                  <a:pt x="1488" y="808"/>
                  <a:pt x="736" y="208"/>
                  <a:pt x="488" y="104"/>
                </a:cubicBezTo>
                <a:cubicBezTo>
                  <a:pt x="240" y="0"/>
                  <a:pt x="0" y="184"/>
                  <a:pt x="8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57200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Encourager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et soutenir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la personne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dans ses  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   tentati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267080"/>
            <a:ext cx="3733920" cy="2082960"/>
          </a:xfrm>
          <a:custGeom>
            <a:avLst/>
            <a:gdLst/>
            <a:ahLst/>
            <a:rect l="l" t="t" r="r" b="b"/>
            <a:pathLst>
              <a:path w="2216" h="1552">
                <a:moveTo>
                  <a:pt x="1344" y="352"/>
                </a:moveTo>
                <a:cubicBezTo>
                  <a:pt x="1048" y="544"/>
                  <a:pt x="0" y="1144"/>
                  <a:pt x="96" y="1312"/>
                </a:cubicBezTo>
                <a:cubicBezTo>
                  <a:pt x="192" y="1480"/>
                  <a:pt x="1624" y="1552"/>
                  <a:pt x="1920" y="1360"/>
                </a:cubicBezTo>
                <a:cubicBezTo>
                  <a:pt x="2216" y="1168"/>
                  <a:pt x="1968" y="320"/>
                  <a:pt x="1872" y="160"/>
                </a:cubicBezTo>
                <a:cubicBezTo>
                  <a:pt x="1776" y="0"/>
                  <a:pt x="1640" y="160"/>
                  <a:pt x="1344" y="352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9528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obiliser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e sentiment de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mpétence personnel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4876920"/>
            <a:ext cx="4191120" cy="1981080"/>
          </a:xfrm>
          <a:custGeom>
            <a:avLst/>
            <a:gdLst/>
            <a:ahLst/>
            <a:rect l="l" t="t" r="r" b="b"/>
            <a:pathLst>
              <a:path w="1656" h="848">
                <a:moveTo>
                  <a:pt x="1032" y="88"/>
                </a:moveTo>
                <a:cubicBezTo>
                  <a:pt x="864" y="0"/>
                  <a:pt x="648" y="72"/>
                  <a:pt x="504" y="184"/>
                </a:cubicBezTo>
                <a:cubicBezTo>
                  <a:pt x="360" y="296"/>
                  <a:pt x="0" y="672"/>
                  <a:pt x="168" y="760"/>
                </a:cubicBezTo>
                <a:cubicBezTo>
                  <a:pt x="336" y="848"/>
                  <a:pt x="1368" y="816"/>
                  <a:pt x="1512" y="712"/>
                </a:cubicBezTo>
                <a:cubicBezTo>
                  <a:pt x="1656" y="608"/>
                  <a:pt x="1200" y="176"/>
                  <a:pt x="1032" y="88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4100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rogresser par étapes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 manière à ne pas confronter le personne à de nouveaux échec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24382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soudre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s problèm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Groupe 4                                  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tratégies d’intervention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Assister, accompagner et soutenir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2209680"/>
            <a:ext cx="3733560" cy="1143000"/>
          </a:xfrm>
          <a:custGeom>
            <a:avLst/>
            <a:gdLst/>
            <a:ahLst/>
            <a:rect l="l" t="t" r="r" b="b"/>
            <a:pathLst>
              <a:path w="2040" h="1032">
                <a:moveTo>
                  <a:pt x="528" y="184"/>
                </a:moveTo>
                <a:cubicBezTo>
                  <a:pt x="384" y="280"/>
                  <a:pt x="0" y="480"/>
                  <a:pt x="96" y="616"/>
                </a:cubicBezTo>
                <a:cubicBezTo>
                  <a:pt x="192" y="752"/>
                  <a:pt x="784" y="1032"/>
                  <a:pt x="1104" y="1000"/>
                </a:cubicBezTo>
                <a:cubicBezTo>
                  <a:pt x="1424" y="968"/>
                  <a:pt x="2040" y="584"/>
                  <a:pt x="2016" y="424"/>
                </a:cubicBezTo>
                <a:cubicBezTo>
                  <a:pt x="1992" y="264"/>
                  <a:pt x="1208" y="80"/>
                  <a:pt x="960" y="40"/>
                </a:cubicBezTo>
                <a:cubicBezTo>
                  <a:pt x="712" y="0"/>
                  <a:pt x="672" y="88"/>
                  <a:pt x="528" y="18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46600" y="182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2362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Quand reviendront-ils </a:t>
            </a: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3200400"/>
            <a:ext cx="1981080" cy="1523880"/>
          </a:xfrm>
          <a:prstGeom prst="ellipse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br>
              <a:rPr sz="3600"/>
            </a:b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Groupe </a:t>
            </a:r>
            <a:br>
              <a:rPr sz="2000"/>
            </a:b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de paro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2438280"/>
            <a:ext cx="2629080" cy="1447920"/>
          </a:xfrm>
          <a:custGeom>
            <a:avLst/>
            <a:gdLst/>
            <a:ahLst/>
            <a:rect l="l" t="t" r="r" b="b"/>
            <a:pathLst>
              <a:path w="1656" h="848">
                <a:moveTo>
                  <a:pt x="1032" y="88"/>
                </a:moveTo>
                <a:cubicBezTo>
                  <a:pt x="864" y="0"/>
                  <a:pt x="648" y="72"/>
                  <a:pt x="504" y="184"/>
                </a:cubicBezTo>
                <a:cubicBezTo>
                  <a:pt x="360" y="296"/>
                  <a:pt x="0" y="672"/>
                  <a:pt x="168" y="760"/>
                </a:cubicBezTo>
                <a:cubicBezTo>
                  <a:pt x="336" y="848"/>
                  <a:pt x="1368" y="816"/>
                  <a:pt x="1512" y="712"/>
                </a:cubicBezTo>
                <a:cubicBezTo>
                  <a:pt x="1656" y="608"/>
                  <a:pt x="1200" y="176"/>
                  <a:pt x="1032" y="88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2895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utte contre l’échec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3886200"/>
            <a:ext cx="3047760" cy="1981080"/>
          </a:xfrm>
          <a:custGeom>
            <a:avLst/>
            <a:gdLst/>
            <a:ahLst/>
            <a:rect l="l" t="t" r="r" b="b"/>
            <a:pathLst>
              <a:path w="1648" h="976">
                <a:moveTo>
                  <a:pt x="1272" y="344"/>
                </a:moveTo>
                <a:cubicBezTo>
                  <a:pt x="1104" y="184"/>
                  <a:pt x="640" y="0"/>
                  <a:pt x="456" y="8"/>
                </a:cubicBezTo>
                <a:cubicBezTo>
                  <a:pt x="272" y="16"/>
                  <a:pt x="0" y="232"/>
                  <a:pt x="168" y="392"/>
                </a:cubicBezTo>
                <a:cubicBezTo>
                  <a:pt x="336" y="552"/>
                  <a:pt x="1280" y="976"/>
                  <a:pt x="1464" y="968"/>
                </a:cubicBezTo>
                <a:cubicBezTo>
                  <a:pt x="1648" y="960"/>
                  <a:pt x="1440" y="504"/>
                  <a:pt x="1272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4343400"/>
            <a:ext cx="2361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vec quel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réseau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       travailler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4800600"/>
            <a:ext cx="2514600" cy="1523880"/>
          </a:xfrm>
          <a:custGeom>
            <a:avLst/>
            <a:gdLst/>
            <a:ahLst/>
            <a:rect l="l" t="t" r="r" b="b"/>
            <a:pathLst>
              <a:path w="1504" h="1168">
                <a:moveTo>
                  <a:pt x="8" y="344"/>
                </a:moveTo>
                <a:cubicBezTo>
                  <a:pt x="16" y="504"/>
                  <a:pt x="288" y="960"/>
                  <a:pt x="536" y="1064"/>
                </a:cubicBezTo>
                <a:cubicBezTo>
                  <a:pt x="784" y="1168"/>
                  <a:pt x="1504" y="1128"/>
                  <a:pt x="1496" y="968"/>
                </a:cubicBezTo>
                <a:cubicBezTo>
                  <a:pt x="1488" y="808"/>
                  <a:pt x="736" y="208"/>
                  <a:pt x="488" y="104"/>
                </a:cubicBezTo>
                <a:cubicBezTo>
                  <a:pt x="240" y="0"/>
                  <a:pt x="0" y="184"/>
                  <a:pt x="8" y="344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duire l’exclusion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3429000"/>
            <a:ext cx="3809880" cy="3429000"/>
          </a:xfrm>
          <a:custGeom>
            <a:avLst/>
            <a:gdLst/>
            <a:ahLst/>
            <a:rect l="l" t="t" r="r" b="b"/>
            <a:pathLst>
              <a:path w="2216" h="1552">
                <a:moveTo>
                  <a:pt x="1344" y="352"/>
                </a:moveTo>
                <a:cubicBezTo>
                  <a:pt x="1048" y="544"/>
                  <a:pt x="0" y="1144"/>
                  <a:pt x="96" y="1312"/>
                </a:cubicBezTo>
                <a:cubicBezTo>
                  <a:pt x="192" y="1480"/>
                  <a:pt x="1624" y="1552"/>
                  <a:pt x="1920" y="1360"/>
                </a:cubicBezTo>
                <a:cubicBezTo>
                  <a:pt x="2216" y="1168"/>
                  <a:pt x="1968" y="320"/>
                  <a:pt x="1872" y="160"/>
                </a:cubicBezTo>
                <a:cubicBezTo>
                  <a:pt x="1776" y="0"/>
                  <a:pt x="1640" y="160"/>
                  <a:pt x="1344" y="352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4648320"/>
            <a:ext cx="29718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lcool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bus sexuels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violences conjugales…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épression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Vers qui et comment </a:t>
            </a:r>
            <a:br>
              <a:rPr sz="2000"/>
            </a:b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orienter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18288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6576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3124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59436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0292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09480" y="167652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Le CDAG n’est-il pas actuellement un dispositif qui privilégie plutôt le dépistage au détriment de la prévention ?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L’évolution du dépistage vers la prévention nécessite-t-elle des ajustements institutionnels et organisationnels ?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3300"/>
                </a:solidFill>
                <a:latin typeface="Times New Roman"/>
              </a:rPr>
              <a:t>La sexualité est-elle isolable d’autres conduites à risque ?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3 questions se posent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La sexualité est-elle isolable d’autres conduites à risque ?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omosexualité masculine, suicidalité et risques sexuels.</a:t>
            </a: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Jeunes homosexuels, risque sexuel et accident de la voie publiq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emmes, abus sexuels dans l’enfance et accidents de la voie publiq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emmes, abus sexuels, sur-exposition au risque VIH et à d’autres conduites à risq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 algn="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/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wm_5_1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495680" cy="2182680"/>
          </a:xfrm>
          <a:prstGeom prst="rect">
            <a:avLst/>
          </a:prstGeom>
          <a:ln w="0">
            <a:noFill/>
          </a:ln>
        </p:spPr>
      </p:pic>
      <p:pic>
        <p:nvPicPr>
          <p:cNvPr id="229" name="Pwm_5_0" descr=""/>
          <p:cNvPicPr/>
          <p:nvPr/>
        </p:nvPicPr>
        <p:blipFill>
          <a:blip r:embed="rId2"/>
          <a:stretch/>
        </p:blipFill>
        <p:spPr>
          <a:xfrm>
            <a:off x="3213000" y="15368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30" name="Pwm_5_2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8686800" cy="2182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4920" y="768240"/>
            <a:ext cx="411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</a:rPr>
              <a:t>Avez-vous fait une tentative de suicide 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28600"/>
            <a:ext cx="6019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TENTATIVES DE SUICIDE (au moins une au cours de la vi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3" name="Pwm_5_5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4038840" cy="2170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76520" y="3733920"/>
            <a:ext cx="4114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</a:rPr>
              <a:t>Les hommes : TS // Orientation sexuel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3597120"/>
            <a:ext cx="41148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40384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&lt;0.05 (test exact de Fish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5240" y="60948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Shelly M., 20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47242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20011"/>
                </a:solidFill>
                <a:latin typeface="Times New Roman"/>
              </a:rPr>
              <a:t>N = 368</a:t>
            </a:r>
            <a:br>
              <a:rPr sz="1200"/>
            </a:br>
            <a:r>
              <a:rPr b="1" lang="fr-FR" sz="1200" spc="-1" strike="noStrike">
                <a:solidFill>
                  <a:srgbClr val="220011"/>
                </a:solidFill>
                <a:latin typeface="Times New Roman"/>
              </a:rPr>
              <a:t>Age médian = 2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Times New Roman"/>
              </a:rPr>
              <a:t>La suicidalité chez les hommes est-elle associée </a:t>
            </a: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Times New Roman"/>
              </a:rPr>
              <a:t>à la prise de risques sexuels ?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1720" y="914400"/>
          <a:ext cx="861228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914400"/>
                    <a:ext cx="861228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1523880" y="59436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cc"/>
                </a:solidFill>
                <a:latin typeface="Times New Roman"/>
              </a:rPr>
              <a:t>Tous les homm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5943600"/>
            <a:ext cx="13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cc"/>
                </a:solidFill>
                <a:latin typeface="Times New Roman"/>
              </a:rPr>
              <a:t>Homosexuel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962520" y="1218960"/>
            <a:ext cx="0" cy="426708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4191120"/>
            <a:ext cx="152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3886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cc"/>
                </a:solidFill>
                <a:latin typeface="Times New Roman"/>
              </a:rPr>
              <a:t>N = 368</a:t>
            </a:r>
            <a:br>
              <a:rPr sz="1600"/>
            </a:br>
            <a:r>
              <a:rPr b="1" lang="fr-FR" sz="1600" spc="-1" strike="noStrike">
                <a:solidFill>
                  <a:srgbClr val="ffffcc"/>
                </a:solidFill>
                <a:latin typeface="Times New Roman"/>
              </a:rPr>
              <a:t>Age médian = 2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3809880"/>
            <a:ext cx="17524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wm_1_0" descr=""/>
          <p:cNvPicPr/>
          <p:nvPr/>
        </p:nvPicPr>
        <p:blipFill>
          <a:blip r:embed="rId1"/>
          <a:stretch/>
        </p:blipFill>
        <p:spPr>
          <a:xfrm>
            <a:off x="3213000" y="15368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49" name="Pwm_1_2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114800" cy="3073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228600"/>
            <a:ext cx="9144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Solidarité des conduites à risques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fr-FR" sz="1600" spc="-1" strike="noStrike">
                <a:solidFill>
                  <a:srgbClr val="ffffcc"/>
                </a:solidFill>
                <a:latin typeface="Arial"/>
              </a:rPr>
              <a:t>Exposition au risque sexuel et accidentalité selon l’orientation sexuelle chez les homm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60920" y="3987720"/>
            <a:ext cx="411480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Double-cliquez ici pour entrer vos commentaires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557520"/>
            <a:ext cx="1143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66"/>
                </a:solidFill>
                <a:latin typeface="Arial"/>
              </a:rPr>
              <a:t>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Pwm_1_7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81480" y="3798720"/>
            <a:ext cx="1143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66"/>
                </a:solidFill>
                <a:latin typeface="Arial"/>
              </a:rPr>
              <a:t>HS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27080" y="5003640"/>
            <a:ext cx="6378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5200" y="4952880"/>
            <a:ext cx="857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Chez les HSH, une surexposition au risque sexuel est associée à une sur-accidentalité sur la voie publique (60% </a:t>
            </a:r>
            <a:r>
              <a:rPr b="0" i="1" lang="fr-FR" sz="1600" spc="-1" strike="noStrike">
                <a:solidFill>
                  <a:srgbClr val="ffffcc"/>
                </a:solidFill>
                <a:latin typeface="Arial"/>
              </a:rPr>
              <a:t>vs</a:t>
            </a: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 20% soit </a:t>
            </a:r>
            <a:r>
              <a:rPr b="0" i="1" lang="fr-FR" sz="1600" spc="-1" strike="noStrike">
                <a:solidFill>
                  <a:srgbClr val="ffffcc"/>
                </a:solidFill>
                <a:latin typeface="Arial"/>
              </a:rPr>
              <a:t>environ </a:t>
            </a:r>
            <a:r>
              <a:rPr b="0" i="1" lang="fr-FR" sz="1600" spc="-1" strike="noStrike" u="sng">
                <a:solidFill>
                  <a:srgbClr val="ffcc00"/>
                </a:solidFill>
                <a:uFillTx/>
                <a:latin typeface="Arial"/>
              </a:rPr>
              <a:t>3 fois plus d’AVP répétés chez les non utilisateurs</a:t>
            </a:r>
            <a:r>
              <a:rPr b="0" i="1" lang="fr-FR" sz="16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i="1" lang="fr-FR" sz="1600" spc="-1" strike="noStrike" u="sng">
                <a:solidFill>
                  <a:srgbClr val="ffcc00"/>
                </a:solidFill>
                <a:uFillTx/>
                <a:latin typeface="Arial"/>
              </a:rPr>
              <a:t>de préservatifs</a:t>
            </a:r>
            <a:r>
              <a:rPr b="0" i="1" lang="fr-FR" sz="1600" spc="-1" strike="noStrike">
                <a:solidFill>
                  <a:srgbClr val="ffffcc"/>
                </a:solidFill>
                <a:latin typeface="Arial"/>
              </a:rPr>
              <a:t> avec un nouveau partenaire</a:t>
            </a: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).En revanche, chez les HS, aucun lien n’apparaî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entre ces deux registres de comportement à risque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1400" y="103356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N=36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105084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00"/>
                </a:solidFill>
                <a:latin typeface="Times New Roman"/>
              </a:rPr>
              <a:t>AVP / préservatif avec une nouvelle partenai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105084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00"/>
                </a:solidFill>
                <a:latin typeface="Times New Roman"/>
              </a:rPr>
              <a:t>AVP / préservatif avec un nouveau partenai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cc00"/>
                </a:solidFill>
                <a:latin typeface="Times New Roman"/>
              </a:rPr>
              <a:t>Abus sexuel chez les femmes dans l’enfance et accidents de la voie publique</a:t>
            </a:r>
            <a:br>
              <a:rPr sz="3000"/>
            </a:b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                     </a:t>
            </a:r>
            <a:r>
              <a:rPr b="0" lang="fr-FR" sz="1400" spc="-1" strike="noStrike">
                <a:solidFill>
                  <a:srgbClr val="ffcc00"/>
                </a:solidFill>
                <a:latin typeface="Times New Roman"/>
              </a:rPr>
              <a:t>M.. Shelly, D. Moreau, M. Choquet (2003)</a:t>
            </a:r>
            <a:r>
              <a:rPr b="0" lang="fr-FR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05120"/>
          <a:ext cx="7924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924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Physical and sexual abuse may lead to behaviors that place women AT HIGH RISK of being exposed to HIV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676520"/>
            <a:ext cx="845820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c004e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omen with a history of sexual abuse report mor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Commercial sex wor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Anonymous and multiple sexual partn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High risk male sexual partners (IDUs, bisexuals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Unprotected anal se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Use condoms less frequentl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Susceptible to sexual coerc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Run in drug-using networks that promote more frequent drug u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Alcohol and drug use (esp. cocain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Afraid to tell partners about HIV infection or ask partners to use condom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Experience more actual and threatened abu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00"/>
              </a:spcBef>
              <a:buClr>
                <a:srgbClr val="56002b"/>
              </a:buClr>
              <a:buSzPct val="55000"/>
              <a:buFont typeface="Wingdings" charset="2"/>
              <a:buChar char="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Demonstrate more passive coping styl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Zierler et al., 1991; Morrill &amp; Ickovics, 1996; Gielen et al., 1997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ngood &amp; DiClemente, 1997; He, 1998; Cohen et al., 2000)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67652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1 :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L’histoire naturelle de l’infection à VIH a changé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(apparition des thérapeutiques antirétrovirale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2 :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La proportion de résultats positifs dans les CDAG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a diminué passant de 46,5 pour 1000 en 1988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à 3,8 pour 1000 en 1998 (A. Laporte 2002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1 - Evolutions 1988-2003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7913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19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57560" y="556272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Que fait-on avec les plus de 99% de consultants séronégatifs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solidFill>
              <a:srgbClr val="ffcc00"/>
            </a:solidFill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Ces constats, études et recherches suggèrent l’élaboration de stratégies innovantes en matière de dépistage et de préven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es objectifs de prévention nécessitent d’introduire des modifications dans le dispositif actuel du dépista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a découverte de la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imes New Roman"/>
              </a:rPr>
              <a:t>solidarité des risques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implique de doter les praticiens du dépistage et du conseil de formations complémentaires visant à désenclaver le risque VI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60948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3 :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Les caractéristiques des consultants des CDAG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(</a:t>
            </a:r>
            <a:r>
              <a:rPr b="0" lang="fr-FR" sz="1800" spc="-1" strike="noStrike">
                <a:solidFill>
                  <a:srgbClr val="ffcc00"/>
                </a:solidFill>
                <a:latin typeface="Times New Roman"/>
              </a:rPr>
              <a:t>KAPB, 2001 – Grémy)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volutions 1988-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057400"/>
            <a:ext cx="8534520" cy="43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lus souvent de sexe masculi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lus jeun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Orientation sexuelle principalement hétérosexuelle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 &gt;80%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Homo/bisexuels sur-représentés par rapport à la population générale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16%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lus souvent multipartenaires (plus d’un partenaire au  cours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des 12 derniers mois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hommes : 70% vs 12,5 % dans la population généra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emmes : 62% vs 6% dans la population générale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a moitié des consultants a déjà été testé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lus de personnes migran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286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8195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2767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2670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62485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5715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8098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7621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4 :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cc00"/>
                </a:solidFill>
                <a:latin typeface="Times New Roman"/>
              </a:rPr>
              <a:t>Les connaissances, attitudes, croyances et  </a:t>
            </a:r>
            <a:br>
              <a:rPr sz="2800"/>
            </a:br>
            <a:r>
              <a:rPr b="0" lang="fr-FR" sz="2800" spc="-1" strike="noStrike">
                <a:solidFill>
                  <a:srgbClr val="ffcc00"/>
                </a:solidFill>
                <a:latin typeface="Times New Roman"/>
              </a:rPr>
              <a:t>   comportements face au VIH/Sida</a:t>
            </a:r>
            <a:r>
              <a:rPr b="0" lang="fr-FR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cc00"/>
                </a:solidFill>
                <a:latin typeface="Times New Roman"/>
              </a:rPr>
              <a:t>(évolution 1992 – 2001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52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volutions 1988-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394000"/>
            <a:ext cx="822960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connaissance plus floue des modes de transmiss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perception atténuée du risque social du Sid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 désintérêt à l’égard du VIH/Sid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perception du risque VIH pour soi même plus complexe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moins bonne image du préservatif et une baisse de son utilis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moindre implication du test dans la gestion du risque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de  contamination par le VIH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5909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1240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1911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632448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Grémy, 2002. [3321 personnes âgées de 18 à 54 ans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47242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52578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91440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STAT 5</a:t>
            </a:r>
            <a:r>
              <a:rPr b="0" lang="fr-FR" sz="2600" spc="-1" strike="noStrike">
                <a:solidFill>
                  <a:srgbClr val="ffffcc"/>
                </a:solidFill>
                <a:latin typeface="Times New Roman"/>
              </a:rPr>
              <a:t> :</a:t>
            </a:r>
            <a:br>
              <a:rPr sz="2600"/>
            </a:br>
            <a:r>
              <a:rPr b="0" lang="fr-FR" sz="2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FR" sz="2600" spc="-1" strike="noStrike">
                <a:solidFill>
                  <a:srgbClr val="ffcc00"/>
                </a:solidFill>
                <a:latin typeface="Times New Roman"/>
              </a:rPr>
              <a:t>Evolution du rôle des professionnels en charge du dépistag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volutions 1988-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362320"/>
            <a:ext cx="82296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HIER, on leur demandait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de gérer l’annonce de la séropositivité (46,5 pour 1000), d’être plus « docteur en médecine » que clinicien VIH. Il s’agissait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’informer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responsabiliser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faire de l’éducation sanitaire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fr-FR" sz="2000" spc="-1" strike="noStrike">
                <a:solidFill>
                  <a:srgbClr val="ff6600"/>
                </a:solidFill>
                <a:latin typeface="Times New Roman"/>
              </a:rPr>
              <a:t>Circulaire 198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44956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0292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1219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Times New Roman"/>
              </a:rPr>
              <a:t>évolution du rôle de « dépisteur »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volutions 1988-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9051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AUJOURD’HUI, on leur demande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d’être médecin prescripteur </a:t>
            </a: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la prise en charge précoce après l’exposition au risque. </a:t>
            </a: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l s’agit aussi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réduire les retards au diagnostic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e faciliter l’adoption de comportements de prévention</a:t>
            </a: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           (</a:t>
            </a: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counseling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). 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’élargir le dépistage au VHC, VHB et à la syphili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’organiser l’accès au soin.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lang="fr-FR" sz="2000" spc="-1" strike="noStrike">
                <a:solidFill>
                  <a:srgbClr val="ff6600"/>
                </a:solidFill>
                <a:latin typeface="Times New Roman"/>
              </a:rPr>
              <a:t>Circulaires 1998, 20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429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1055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5715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03848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00400" y="4572000"/>
            <a:ext cx="281952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Groupe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assurance et soutie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ans des contex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pécifiques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1219320"/>
            <a:ext cx="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219320"/>
            <a:ext cx="3581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219320"/>
            <a:ext cx="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981080"/>
            <a:ext cx="3581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1219320"/>
            <a:ext cx="3367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Groupe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Gestion et prévention du ris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59092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590920"/>
            <a:ext cx="0" cy="1447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03848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514600"/>
            <a:ext cx="1904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Groupe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Vérification dans un contexte de faible risqu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514600"/>
            <a:ext cx="0" cy="1371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51460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29600" y="2514600"/>
            <a:ext cx="0" cy="1371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24480" y="388620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63000" y="2438280"/>
            <a:ext cx="1895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Groupe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assuranc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ans un contex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à haut ris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419720"/>
            <a:ext cx="7696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2 - Classification selon le motif de dépista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93320" y="403848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Times New Roman"/>
              </a:rPr>
              <a:t>Brouard, 2002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28800" y="4572000"/>
            <a:ext cx="5486400" cy="20574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Groupe 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ssistance, accompagnement et soutien 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imultanés dans une approche multidimensionnelle</a:t>
            </a:r>
            <a:br>
              <a:rPr sz="2000"/>
            </a:b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de la prévention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sociale, sexuelle,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émotionnelle, comportementale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066680"/>
            <a:ext cx="0" cy="1067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066680"/>
            <a:ext cx="3657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1066680"/>
            <a:ext cx="0" cy="1067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133720"/>
            <a:ext cx="3657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87200" y="990720"/>
            <a:ext cx="3656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Groupe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enforcement et maintie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s stratégies de gestion du ris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590920"/>
            <a:ext cx="25905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Groupe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obilisation et soutien de compétences dans la gestion du risqu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2590920"/>
            <a:ext cx="2987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Groupe 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éfinition d’un pla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 réduction des risqu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86000"/>
            <a:ext cx="8001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52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imes New Roman"/>
              </a:rPr>
              <a:t>3 - Les stratégies d’intervention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228240" y="2438280"/>
            <a:ext cx="7621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fr-FR" sz="1600" spc="-1" strike="noStrike">
                <a:solidFill>
                  <a:srgbClr val="ffff66"/>
                </a:solidFill>
                <a:latin typeface="Times New Roman"/>
              </a:rPr>
              <a:t>ELARGISSEMENT  DU  DISPOSITIF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66"/>
                </a:solidFill>
                <a:latin typeface="Times New Roman"/>
              </a:rPr>
              <a:t>à  plus  de  2  entretiens …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57200" y="220968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6172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552760"/>
            <a:ext cx="3047760" cy="1752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552760"/>
            <a:ext cx="2971800" cy="1752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Groupe 1                             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tratégies d’intervention</a:t>
            </a:r>
            <a:br>
              <a:rPr sz="20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Renforcement et maintien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des stratégies de gestion du risqu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77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Valoriser l’expérience acqui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nticiper les obstacles imprévus / imprévisib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dentifier avec la personne les autres sphères de la vie dans lesquelles elle utilise des stratégies de gestion du risq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mment Dire</dc:creator>
  <dc:description/>
  <cp:keywords>Dépistage CDAG prévention</cp:keywords>
  <dc:language>en-US</dc:language>
  <cp:lastModifiedBy>Maryline</cp:lastModifiedBy>
  <dcterms:modified xsi:type="dcterms:W3CDTF">2004-03-05T08:10:52Z</dcterms:modified>
  <cp:revision>128</cp:revision>
  <dc:subject>Journée réflexion dépistage</dc:subject>
  <dc:title>Diapos CTT, MS  MR - 16 juin 2003</dc:title>
</cp:coreProperties>
</file>