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34F6-221E-4E4D-ADA2-13F699B0E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60F0-5F2A-43DE-996C-D517F8DA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E39F-7E88-4A84-BE63-752296BDE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BC22-3D1D-4F93-885B-98D77B5AF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9893-1A18-4A2B-A442-485198808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41DC-0DC6-4388-A516-1952BF8B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7DEE-6677-4C41-B1CC-6E2C367C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C66F-9A7D-4636-84C9-91890A50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A1BA-9FBE-4C3C-8070-10B9F373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892B-6FA2-4911-9CA0-05B1CCBF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2AF7-C91C-4578-9FF3-728CCF5F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CA45-A916-40E9-9FED-F98A9E1C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6ED3-D394-487E-9C5C-8DFC9989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768D-F78A-4050-91E1-A171359C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B40F-031A-4F4F-8DE4-951782FC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46A2-22E3-430F-A1B7-6690CCCCF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5E04-4B36-4F6E-9BA4-C268B0C6D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A979-F394-4FD0-9BDB-AE64AE61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DE37-D305-4713-ADD3-27836392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689B-39B0-4851-911B-72AA45C3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8869-97BE-48A6-8087-BFCB0C59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036A-0105-4167-9774-8856902D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36B4-AC0C-4C8F-81FD-E747E411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6CF5-F313-4A1D-B24F-D40E4E44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0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6476-50E0-45B1-AFF3-645C1A54832E}" type="slidenum">
              <a:rPr b="0" lang="fr-FR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0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3F63-9054-448F-A751-65138D748008}" type="slidenum">
              <a:rPr b="0" lang="fr-FR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0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Times New Roman"/>
              </a:rPr>
              <a:t>Du dépistage à la prévention :</a:t>
            </a:r>
            <a:br>
              <a:rPr sz="4400"/>
            </a:br>
            <a:r>
              <a:rPr b="0" lang="fr-FR" sz="4400" spc="-1" strike="noStrike">
                <a:solidFill>
                  <a:srgbClr val="ffcc00"/>
                </a:solidFill>
                <a:latin typeface="Times New Roman"/>
              </a:rPr>
              <a:t>quelles stratégies 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Arial"/>
              </a:rPr>
              <a:t>Catherine Tourette-Turgis</a:t>
            </a:r>
            <a:r>
              <a:rPr b="0" lang="fr-FR" sz="20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0" lang="fr-FR" sz="1800" spc="-1" strike="noStrike">
                <a:solidFill>
                  <a:srgbClr val="ffffcc"/>
                </a:solidFill>
                <a:latin typeface="Arial"/>
              </a:rPr>
              <a:t>M.C.U., Comment Dir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Arial"/>
              </a:rPr>
              <a:t>Marc Shelly</a:t>
            </a:r>
            <a:r>
              <a:rPr b="0" lang="fr-FR" sz="20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0" lang="fr-FR" sz="1800" spc="-1" strike="noStrike">
                <a:solidFill>
                  <a:srgbClr val="ffffcc"/>
                </a:solidFill>
                <a:latin typeface="Arial"/>
              </a:rPr>
              <a:t>Médecin coordinateur du CDAG de l’hôpital Fernand Widal (AP-HP), Aremedi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Arial"/>
              </a:rPr>
              <a:t>Maryline Rébillon</a:t>
            </a:r>
            <a:r>
              <a:rPr b="0" lang="fr-FR" sz="20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0" lang="fr-FR" sz="1800" spc="-1" strike="noStrike">
                <a:solidFill>
                  <a:srgbClr val="ffffcc"/>
                </a:solidFill>
                <a:latin typeface="Arial"/>
              </a:rPr>
              <a:t>Psychologue, Comment Dir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6324480"/>
            <a:ext cx="556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cc00"/>
                </a:solidFill>
                <a:latin typeface="Arial"/>
              </a:rPr>
              <a:t>SIS, Journée dépistage, Paris, 16 juin 2003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0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00"/>
                </a:solidFill>
                <a:latin typeface="Times New Roman"/>
              </a:rPr>
              <a:t>Groupe 2                                         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stratégies d’intervention</a:t>
            </a:r>
            <a:r>
              <a:rPr b="0" lang="fr-FR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fr-FR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Mobilisation et soutien des compétences </a:t>
            </a:r>
            <a:br>
              <a:rPr sz="3200"/>
            </a:b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dans la gestion du risque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8120" y="1828800"/>
            <a:ext cx="3733560" cy="2362320"/>
          </a:xfrm>
          <a:custGeom>
            <a:avLst/>
            <a:gdLst/>
            <a:ahLst/>
            <a:rect l="l" t="t" r="r" b="b"/>
            <a:pathLst>
              <a:path w="2040" h="1032">
                <a:moveTo>
                  <a:pt x="528" y="184"/>
                </a:moveTo>
                <a:cubicBezTo>
                  <a:pt x="384" y="280"/>
                  <a:pt x="0" y="480"/>
                  <a:pt x="96" y="616"/>
                </a:cubicBezTo>
                <a:cubicBezTo>
                  <a:pt x="192" y="752"/>
                  <a:pt x="784" y="1032"/>
                  <a:pt x="1104" y="1000"/>
                </a:cubicBezTo>
                <a:cubicBezTo>
                  <a:pt x="1424" y="968"/>
                  <a:pt x="2040" y="584"/>
                  <a:pt x="2016" y="424"/>
                </a:cubicBezTo>
                <a:cubicBezTo>
                  <a:pt x="1992" y="264"/>
                  <a:pt x="1208" y="80"/>
                  <a:pt x="960" y="40"/>
                </a:cubicBezTo>
                <a:cubicBezTo>
                  <a:pt x="712" y="0"/>
                  <a:pt x="672" y="88"/>
                  <a:pt x="528" y="184"/>
                </a:cubicBezTo>
                <a:close/>
              </a:path>
            </a:pathLst>
          </a:custGeom>
          <a:noFill/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46600" y="182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86200" y="2286000"/>
            <a:ext cx="2819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Mieux communiquer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avec ses partenaire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sur la préven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2743200"/>
            <a:ext cx="2361960" cy="1981080"/>
          </a:xfrm>
          <a:prstGeom prst="ellipse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Mieux négocier se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interaction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sexuel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29400" y="2438280"/>
            <a:ext cx="2629080" cy="1447920"/>
          </a:xfrm>
          <a:custGeom>
            <a:avLst/>
            <a:gdLst/>
            <a:ahLst/>
            <a:rect l="l" t="t" r="r" b="b"/>
            <a:pathLst>
              <a:path w="1656" h="848">
                <a:moveTo>
                  <a:pt x="1032" y="88"/>
                </a:moveTo>
                <a:cubicBezTo>
                  <a:pt x="864" y="0"/>
                  <a:pt x="648" y="72"/>
                  <a:pt x="504" y="184"/>
                </a:cubicBezTo>
                <a:cubicBezTo>
                  <a:pt x="360" y="296"/>
                  <a:pt x="0" y="672"/>
                  <a:pt x="168" y="760"/>
                </a:cubicBezTo>
                <a:cubicBezTo>
                  <a:pt x="336" y="848"/>
                  <a:pt x="1368" y="816"/>
                  <a:pt x="1512" y="712"/>
                </a:cubicBezTo>
                <a:cubicBezTo>
                  <a:pt x="1656" y="608"/>
                  <a:pt x="1200" y="176"/>
                  <a:pt x="1032" y="88"/>
                </a:cubicBezTo>
                <a:close/>
              </a:path>
            </a:pathLst>
          </a:custGeom>
          <a:noFill/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27432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Sentime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d’efficacité personnell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91320" y="3886200"/>
            <a:ext cx="3047760" cy="1219320"/>
          </a:xfrm>
          <a:custGeom>
            <a:avLst/>
            <a:gdLst/>
            <a:ahLst/>
            <a:rect l="l" t="t" r="r" b="b"/>
            <a:pathLst>
              <a:path w="1648" h="976">
                <a:moveTo>
                  <a:pt x="1272" y="344"/>
                </a:moveTo>
                <a:cubicBezTo>
                  <a:pt x="1104" y="184"/>
                  <a:pt x="640" y="0"/>
                  <a:pt x="456" y="8"/>
                </a:cubicBezTo>
                <a:cubicBezTo>
                  <a:pt x="272" y="16"/>
                  <a:pt x="0" y="232"/>
                  <a:pt x="168" y="392"/>
                </a:cubicBezTo>
                <a:cubicBezTo>
                  <a:pt x="336" y="552"/>
                  <a:pt x="1280" y="976"/>
                  <a:pt x="1464" y="968"/>
                </a:cubicBezTo>
                <a:cubicBezTo>
                  <a:pt x="1648" y="960"/>
                  <a:pt x="1440" y="504"/>
                  <a:pt x="1272" y="344"/>
                </a:cubicBezTo>
                <a:close/>
              </a:path>
            </a:pathLst>
          </a:custGeom>
          <a:noFill/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00800" y="41911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Savoir dire n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52880" y="4495680"/>
            <a:ext cx="2743200" cy="1447920"/>
          </a:xfrm>
          <a:custGeom>
            <a:avLst/>
            <a:gdLst/>
            <a:ahLst/>
            <a:rect l="l" t="t" r="r" b="b"/>
            <a:pathLst>
              <a:path w="1504" h="1168">
                <a:moveTo>
                  <a:pt x="8" y="344"/>
                </a:moveTo>
                <a:cubicBezTo>
                  <a:pt x="16" y="504"/>
                  <a:pt x="288" y="960"/>
                  <a:pt x="536" y="1064"/>
                </a:cubicBezTo>
                <a:cubicBezTo>
                  <a:pt x="784" y="1168"/>
                  <a:pt x="1504" y="1128"/>
                  <a:pt x="1496" y="968"/>
                </a:cubicBezTo>
                <a:cubicBezTo>
                  <a:pt x="1488" y="808"/>
                  <a:pt x="736" y="208"/>
                  <a:pt x="488" y="104"/>
                </a:cubicBezTo>
                <a:cubicBezTo>
                  <a:pt x="240" y="0"/>
                  <a:pt x="0" y="184"/>
                  <a:pt x="8" y="344"/>
                </a:cubicBezTo>
                <a:close/>
              </a:path>
            </a:pathLst>
          </a:custGeom>
          <a:noFill/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4120" y="51055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Estime de Soi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3936960"/>
            <a:ext cx="3517920" cy="2463840"/>
          </a:xfrm>
          <a:custGeom>
            <a:avLst/>
            <a:gdLst/>
            <a:ahLst/>
            <a:rect l="l" t="t" r="r" b="b"/>
            <a:pathLst>
              <a:path w="2216" h="1552">
                <a:moveTo>
                  <a:pt x="1344" y="352"/>
                </a:moveTo>
                <a:cubicBezTo>
                  <a:pt x="1048" y="544"/>
                  <a:pt x="0" y="1144"/>
                  <a:pt x="96" y="1312"/>
                </a:cubicBezTo>
                <a:cubicBezTo>
                  <a:pt x="192" y="1480"/>
                  <a:pt x="1624" y="1552"/>
                  <a:pt x="1920" y="1360"/>
                </a:cubicBezTo>
                <a:cubicBezTo>
                  <a:pt x="2216" y="1168"/>
                  <a:pt x="1968" y="320"/>
                  <a:pt x="1872" y="160"/>
                </a:cubicBezTo>
                <a:cubicBezTo>
                  <a:pt x="1776" y="0"/>
                  <a:pt x="1640" y="160"/>
                  <a:pt x="1344" y="352"/>
                </a:cubicBezTo>
                <a:close/>
              </a:path>
            </a:pathLst>
          </a:custGeom>
          <a:noFill/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4648320"/>
            <a:ext cx="297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Savoir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établir de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limites dan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la relation sexuell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0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00"/>
                </a:solidFill>
                <a:latin typeface="Times New Roman"/>
              </a:rPr>
              <a:t>Groupe 3                                         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stratégies d’intervention</a:t>
            </a:r>
            <a:r>
              <a:rPr b="0" lang="fr-FR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Négociation d’un plan de réduction des risques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133720"/>
            <a:ext cx="3733920" cy="2361960"/>
          </a:xfrm>
          <a:custGeom>
            <a:avLst/>
            <a:gdLst/>
            <a:ahLst/>
            <a:rect l="l" t="t" r="r" b="b"/>
            <a:pathLst>
              <a:path w="2040" h="1032">
                <a:moveTo>
                  <a:pt x="528" y="184"/>
                </a:moveTo>
                <a:cubicBezTo>
                  <a:pt x="384" y="280"/>
                  <a:pt x="0" y="480"/>
                  <a:pt x="96" y="616"/>
                </a:cubicBezTo>
                <a:cubicBezTo>
                  <a:pt x="192" y="752"/>
                  <a:pt x="784" y="1032"/>
                  <a:pt x="1104" y="1000"/>
                </a:cubicBezTo>
                <a:cubicBezTo>
                  <a:pt x="1424" y="968"/>
                  <a:pt x="2040" y="584"/>
                  <a:pt x="2016" y="424"/>
                </a:cubicBezTo>
                <a:cubicBezTo>
                  <a:pt x="1992" y="264"/>
                  <a:pt x="1208" y="80"/>
                  <a:pt x="960" y="40"/>
                </a:cubicBezTo>
                <a:cubicBezTo>
                  <a:pt x="712" y="0"/>
                  <a:pt x="672" y="88"/>
                  <a:pt x="528" y="184"/>
                </a:cubicBezTo>
                <a:close/>
              </a:path>
            </a:pathLst>
          </a:custGeom>
          <a:noFill/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2819520"/>
            <a:ext cx="2819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Identifier les obstacles,</a:t>
            </a:r>
            <a:br>
              <a:rPr sz="2000"/>
            </a:b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les difficultés rencontrées </a:t>
            </a:r>
            <a:br>
              <a:rPr sz="2000"/>
            </a:b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par la personn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05320" y="3124080"/>
            <a:ext cx="2743200" cy="1600200"/>
          </a:xfrm>
          <a:prstGeom prst="ellipse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Lister les différentes </a:t>
            </a:r>
            <a:br>
              <a:rPr sz="2000"/>
            </a:b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étapes d’un changement</a:t>
            </a:r>
            <a:br>
              <a:rPr sz="2000"/>
            </a:b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réalist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438280" y="1904040"/>
            <a:ext cx="4191120" cy="1143000"/>
          </a:xfrm>
          <a:custGeom>
            <a:avLst/>
            <a:gdLst/>
            <a:ahLst/>
            <a:rect l="l" t="t" r="r" b="b"/>
            <a:pathLst>
              <a:path w="1656" h="848">
                <a:moveTo>
                  <a:pt x="1032" y="88"/>
                </a:moveTo>
                <a:cubicBezTo>
                  <a:pt x="864" y="0"/>
                  <a:pt x="648" y="72"/>
                  <a:pt x="504" y="184"/>
                </a:cubicBezTo>
                <a:cubicBezTo>
                  <a:pt x="360" y="296"/>
                  <a:pt x="0" y="672"/>
                  <a:pt x="168" y="760"/>
                </a:cubicBezTo>
                <a:cubicBezTo>
                  <a:pt x="336" y="848"/>
                  <a:pt x="1368" y="816"/>
                  <a:pt x="1512" y="712"/>
                </a:cubicBezTo>
                <a:cubicBezTo>
                  <a:pt x="1656" y="608"/>
                  <a:pt x="1200" y="176"/>
                  <a:pt x="1032" y="88"/>
                </a:cubicBezTo>
                <a:close/>
              </a:path>
            </a:pathLst>
          </a:custGeom>
          <a:solidFill>
            <a:srgbClr val="660033"/>
          </a:solidFill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198108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Donner des informations complémentair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791320" y="1904040"/>
            <a:ext cx="3200400" cy="1600200"/>
          </a:xfrm>
          <a:custGeom>
            <a:avLst/>
            <a:gdLst/>
            <a:ahLst/>
            <a:rect l="l" t="t" r="r" b="b"/>
            <a:pathLst>
              <a:path w="1648" h="976">
                <a:moveTo>
                  <a:pt x="1272" y="344"/>
                </a:moveTo>
                <a:cubicBezTo>
                  <a:pt x="1104" y="184"/>
                  <a:pt x="640" y="0"/>
                  <a:pt x="456" y="8"/>
                </a:cubicBezTo>
                <a:cubicBezTo>
                  <a:pt x="272" y="16"/>
                  <a:pt x="0" y="232"/>
                  <a:pt x="168" y="392"/>
                </a:cubicBezTo>
                <a:cubicBezTo>
                  <a:pt x="336" y="552"/>
                  <a:pt x="1280" y="976"/>
                  <a:pt x="1464" y="968"/>
                </a:cubicBezTo>
                <a:cubicBezTo>
                  <a:pt x="1648" y="960"/>
                  <a:pt x="1440" y="504"/>
                  <a:pt x="1272" y="344"/>
                </a:cubicBezTo>
                <a:close/>
              </a:path>
            </a:pathLst>
          </a:custGeom>
          <a:noFill/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553080" y="3886200"/>
            <a:ext cx="2438640" cy="2743200"/>
          </a:xfrm>
          <a:custGeom>
            <a:avLst/>
            <a:gdLst/>
            <a:ahLst/>
            <a:rect l="l" t="t" r="r" b="b"/>
            <a:pathLst>
              <a:path w="1504" h="1168">
                <a:moveTo>
                  <a:pt x="8" y="344"/>
                </a:moveTo>
                <a:cubicBezTo>
                  <a:pt x="16" y="504"/>
                  <a:pt x="288" y="960"/>
                  <a:pt x="536" y="1064"/>
                </a:cubicBezTo>
                <a:cubicBezTo>
                  <a:pt x="784" y="1168"/>
                  <a:pt x="1504" y="1128"/>
                  <a:pt x="1496" y="968"/>
                </a:cubicBezTo>
                <a:cubicBezTo>
                  <a:pt x="1488" y="808"/>
                  <a:pt x="736" y="208"/>
                  <a:pt x="488" y="104"/>
                </a:cubicBezTo>
                <a:cubicBezTo>
                  <a:pt x="240" y="0"/>
                  <a:pt x="0" y="184"/>
                  <a:pt x="8" y="344"/>
                </a:cubicBezTo>
                <a:close/>
              </a:path>
            </a:pathLst>
          </a:custGeom>
          <a:noFill/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05720" y="4572000"/>
            <a:ext cx="2819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Encourager </a:t>
            </a:r>
            <a:br>
              <a:rPr sz="2000"/>
            </a:b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 et soutenir </a:t>
            </a:r>
            <a:br>
              <a:rPr sz="2000"/>
            </a:b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  la personne </a:t>
            </a:r>
            <a:br>
              <a:rPr sz="2000"/>
            </a:b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      dans ses   </a:t>
            </a:r>
            <a:br>
              <a:rPr sz="2000"/>
            </a:b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          tentativ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4267080"/>
            <a:ext cx="3733920" cy="2082960"/>
          </a:xfrm>
          <a:custGeom>
            <a:avLst/>
            <a:gdLst/>
            <a:ahLst/>
            <a:rect l="l" t="t" r="r" b="b"/>
            <a:pathLst>
              <a:path w="2216" h="1552">
                <a:moveTo>
                  <a:pt x="1344" y="352"/>
                </a:moveTo>
                <a:cubicBezTo>
                  <a:pt x="1048" y="544"/>
                  <a:pt x="0" y="1144"/>
                  <a:pt x="96" y="1312"/>
                </a:cubicBezTo>
                <a:cubicBezTo>
                  <a:pt x="192" y="1480"/>
                  <a:pt x="1624" y="1552"/>
                  <a:pt x="1920" y="1360"/>
                </a:cubicBezTo>
                <a:cubicBezTo>
                  <a:pt x="2216" y="1168"/>
                  <a:pt x="1968" y="320"/>
                  <a:pt x="1872" y="160"/>
                </a:cubicBezTo>
                <a:cubicBezTo>
                  <a:pt x="1776" y="0"/>
                  <a:pt x="1640" y="160"/>
                  <a:pt x="1344" y="352"/>
                </a:cubicBezTo>
                <a:close/>
              </a:path>
            </a:pathLst>
          </a:custGeom>
          <a:noFill/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4952880"/>
            <a:ext cx="29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Mobiliser</a:t>
            </a:r>
            <a:br>
              <a:rPr sz="2000"/>
            </a:b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le sentiment de </a:t>
            </a:r>
            <a:br>
              <a:rPr sz="2000"/>
            </a:b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compétence personnell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95480" y="4876920"/>
            <a:ext cx="4191120" cy="1981080"/>
          </a:xfrm>
          <a:custGeom>
            <a:avLst/>
            <a:gdLst/>
            <a:ahLst/>
            <a:rect l="l" t="t" r="r" b="b"/>
            <a:pathLst>
              <a:path w="1656" h="848">
                <a:moveTo>
                  <a:pt x="1032" y="88"/>
                </a:moveTo>
                <a:cubicBezTo>
                  <a:pt x="864" y="0"/>
                  <a:pt x="648" y="72"/>
                  <a:pt x="504" y="184"/>
                </a:cubicBezTo>
                <a:cubicBezTo>
                  <a:pt x="360" y="296"/>
                  <a:pt x="0" y="672"/>
                  <a:pt x="168" y="760"/>
                </a:cubicBezTo>
                <a:cubicBezTo>
                  <a:pt x="336" y="848"/>
                  <a:pt x="1368" y="816"/>
                  <a:pt x="1512" y="712"/>
                </a:cubicBezTo>
                <a:cubicBezTo>
                  <a:pt x="1656" y="608"/>
                  <a:pt x="1200" y="176"/>
                  <a:pt x="1032" y="88"/>
                </a:cubicBezTo>
                <a:close/>
              </a:path>
            </a:pathLst>
          </a:custGeom>
          <a:noFill/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9880" y="5410080"/>
            <a:ext cx="2819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Progresser par étapes</a:t>
            </a:r>
            <a:br>
              <a:rPr sz="2000"/>
            </a:b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de manière à ne pas confronter le personne à de nouveaux échec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629400" y="243828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Résoudre </a:t>
            </a:r>
            <a:br>
              <a:rPr sz="2000"/>
            </a:b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des problèm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0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00"/>
                </a:solidFill>
                <a:latin typeface="Times New Roman"/>
              </a:rPr>
              <a:t>Groupe 4                                         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stratégies d’intervention</a:t>
            </a:r>
            <a:r>
              <a:rPr b="0" lang="fr-FR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Assister, accompagner et soutenir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8120" y="2209680"/>
            <a:ext cx="3733560" cy="1143000"/>
          </a:xfrm>
          <a:custGeom>
            <a:avLst/>
            <a:gdLst/>
            <a:ahLst/>
            <a:rect l="l" t="t" r="r" b="b"/>
            <a:pathLst>
              <a:path w="2040" h="1032">
                <a:moveTo>
                  <a:pt x="528" y="184"/>
                </a:moveTo>
                <a:cubicBezTo>
                  <a:pt x="384" y="280"/>
                  <a:pt x="0" y="480"/>
                  <a:pt x="96" y="616"/>
                </a:cubicBezTo>
                <a:cubicBezTo>
                  <a:pt x="192" y="752"/>
                  <a:pt x="784" y="1032"/>
                  <a:pt x="1104" y="1000"/>
                </a:cubicBezTo>
                <a:cubicBezTo>
                  <a:pt x="1424" y="968"/>
                  <a:pt x="2040" y="584"/>
                  <a:pt x="2016" y="424"/>
                </a:cubicBezTo>
                <a:cubicBezTo>
                  <a:pt x="1992" y="264"/>
                  <a:pt x="1208" y="80"/>
                  <a:pt x="960" y="40"/>
                </a:cubicBezTo>
                <a:cubicBezTo>
                  <a:pt x="712" y="0"/>
                  <a:pt x="672" y="88"/>
                  <a:pt x="528" y="184"/>
                </a:cubicBezTo>
                <a:close/>
              </a:path>
            </a:pathLst>
          </a:custGeom>
          <a:noFill/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46600" y="182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81280" y="23623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Quand reviendront-ils </a:t>
            </a:r>
            <a:r>
              <a:rPr b="0" lang="fr-FR" sz="3600" spc="-1" strike="noStrike">
                <a:solidFill>
                  <a:srgbClr val="ffff66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3200400"/>
            <a:ext cx="1981080" cy="1523880"/>
          </a:xfrm>
          <a:prstGeom prst="ellipse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66"/>
                </a:solidFill>
                <a:latin typeface="Times New Roman"/>
              </a:rPr>
              <a:t>?</a:t>
            </a:r>
            <a:br>
              <a:rPr sz="3600"/>
            </a:br>
            <a:r>
              <a:rPr b="0" lang="fr-FR" sz="2000" spc="-1" strike="noStrike">
                <a:solidFill>
                  <a:srgbClr val="ffff66"/>
                </a:solidFill>
                <a:latin typeface="Times New Roman"/>
              </a:rPr>
              <a:t>Groupe </a:t>
            </a:r>
            <a:br>
              <a:rPr sz="2000"/>
            </a:br>
            <a:r>
              <a:rPr b="0" lang="fr-FR" sz="2000" spc="-1" strike="noStrike">
                <a:solidFill>
                  <a:srgbClr val="ffff66"/>
                </a:solidFill>
                <a:latin typeface="Times New Roman"/>
              </a:rPr>
              <a:t>de paro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629400" y="2438280"/>
            <a:ext cx="2629080" cy="1447920"/>
          </a:xfrm>
          <a:custGeom>
            <a:avLst/>
            <a:gdLst/>
            <a:ahLst/>
            <a:rect l="l" t="t" r="r" b="b"/>
            <a:pathLst>
              <a:path w="1656" h="848">
                <a:moveTo>
                  <a:pt x="1032" y="88"/>
                </a:moveTo>
                <a:cubicBezTo>
                  <a:pt x="864" y="0"/>
                  <a:pt x="648" y="72"/>
                  <a:pt x="504" y="184"/>
                </a:cubicBezTo>
                <a:cubicBezTo>
                  <a:pt x="360" y="296"/>
                  <a:pt x="0" y="672"/>
                  <a:pt x="168" y="760"/>
                </a:cubicBezTo>
                <a:cubicBezTo>
                  <a:pt x="336" y="848"/>
                  <a:pt x="1368" y="816"/>
                  <a:pt x="1512" y="712"/>
                </a:cubicBezTo>
                <a:cubicBezTo>
                  <a:pt x="1656" y="608"/>
                  <a:pt x="1200" y="176"/>
                  <a:pt x="1032" y="88"/>
                </a:cubicBezTo>
                <a:close/>
              </a:path>
            </a:pathLst>
          </a:custGeom>
          <a:noFill/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315200" y="28954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Lutte contre l’échec </a:t>
            </a:r>
            <a:r>
              <a:rPr b="0" lang="fr-FR" sz="2800" spc="-1" strike="noStrike">
                <a:solidFill>
                  <a:srgbClr val="ffff66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91320" y="3886200"/>
            <a:ext cx="3047760" cy="1981080"/>
          </a:xfrm>
          <a:custGeom>
            <a:avLst/>
            <a:gdLst/>
            <a:ahLst/>
            <a:rect l="l" t="t" r="r" b="b"/>
            <a:pathLst>
              <a:path w="1648" h="976">
                <a:moveTo>
                  <a:pt x="1272" y="344"/>
                </a:moveTo>
                <a:cubicBezTo>
                  <a:pt x="1104" y="184"/>
                  <a:pt x="640" y="0"/>
                  <a:pt x="456" y="8"/>
                </a:cubicBezTo>
                <a:cubicBezTo>
                  <a:pt x="272" y="16"/>
                  <a:pt x="0" y="232"/>
                  <a:pt x="168" y="392"/>
                </a:cubicBezTo>
                <a:cubicBezTo>
                  <a:pt x="336" y="552"/>
                  <a:pt x="1280" y="976"/>
                  <a:pt x="1464" y="968"/>
                </a:cubicBezTo>
                <a:cubicBezTo>
                  <a:pt x="1648" y="960"/>
                  <a:pt x="1440" y="504"/>
                  <a:pt x="1272" y="344"/>
                </a:cubicBezTo>
                <a:close/>
              </a:path>
            </a:pathLst>
          </a:custGeom>
          <a:noFill/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48520" y="4343400"/>
            <a:ext cx="23619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Avec quel </a:t>
            </a:r>
            <a:br>
              <a:rPr sz="2000"/>
            </a:b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      réseau </a:t>
            </a:r>
            <a:br>
              <a:rPr sz="2000"/>
            </a:b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              travailler </a:t>
            </a:r>
            <a:r>
              <a:rPr b="0" lang="fr-FR" sz="2800" spc="-1" strike="noStrike">
                <a:solidFill>
                  <a:srgbClr val="ffff66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76920" y="4800600"/>
            <a:ext cx="2514600" cy="1523880"/>
          </a:xfrm>
          <a:custGeom>
            <a:avLst/>
            <a:gdLst/>
            <a:ahLst/>
            <a:rect l="l" t="t" r="r" b="b"/>
            <a:pathLst>
              <a:path w="1504" h="1168">
                <a:moveTo>
                  <a:pt x="8" y="344"/>
                </a:moveTo>
                <a:cubicBezTo>
                  <a:pt x="16" y="504"/>
                  <a:pt x="288" y="960"/>
                  <a:pt x="536" y="1064"/>
                </a:cubicBezTo>
                <a:cubicBezTo>
                  <a:pt x="784" y="1168"/>
                  <a:pt x="1504" y="1128"/>
                  <a:pt x="1496" y="968"/>
                </a:cubicBezTo>
                <a:cubicBezTo>
                  <a:pt x="1488" y="808"/>
                  <a:pt x="736" y="208"/>
                  <a:pt x="488" y="104"/>
                </a:cubicBezTo>
                <a:cubicBezTo>
                  <a:pt x="240" y="0"/>
                  <a:pt x="0" y="184"/>
                  <a:pt x="8" y="344"/>
                </a:cubicBezTo>
                <a:close/>
              </a:path>
            </a:pathLst>
          </a:custGeom>
          <a:noFill/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8640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Réduire l’exclusion </a:t>
            </a:r>
            <a:r>
              <a:rPr b="0" lang="fr-FR" sz="2800" spc="-1" strike="noStrike">
                <a:solidFill>
                  <a:srgbClr val="ffff66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3429000"/>
            <a:ext cx="3809880" cy="3429000"/>
          </a:xfrm>
          <a:custGeom>
            <a:avLst/>
            <a:gdLst/>
            <a:ahLst/>
            <a:rect l="l" t="t" r="r" b="b"/>
            <a:pathLst>
              <a:path w="2216" h="1552">
                <a:moveTo>
                  <a:pt x="1344" y="352"/>
                </a:moveTo>
                <a:cubicBezTo>
                  <a:pt x="1048" y="544"/>
                  <a:pt x="0" y="1144"/>
                  <a:pt x="96" y="1312"/>
                </a:cubicBezTo>
                <a:cubicBezTo>
                  <a:pt x="192" y="1480"/>
                  <a:pt x="1624" y="1552"/>
                  <a:pt x="1920" y="1360"/>
                </a:cubicBezTo>
                <a:cubicBezTo>
                  <a:pt x="2216" y="1168"/>
                  <a:pt x="1968" y="320"/>
                  <a:pt x="1872" y="160"/>
                </a:cubicBezTo>
                <a:cubicBezTo>
                  <a:pt x="1776" y="0"/>
                  <a:pt x="1640" y="160"/>
                  <a:pt x="1344" y="352"/>
                </a:cubicBezTo>
                <a:close/>
              </a:path>
            </a:pathLst>
          </a:custGeom>
          <a:noFill/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28800" y="4648320"/>
            <a:ext cx="297180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alcool…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abus sexuels…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violences conjugales…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dépression…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Times New Roman"/>
              </a:rPr>
              <a:t>Vers qui et comment </a:t>
            </a:r>
            <a:br>
              <a:rPr sz="2000"/>
            </a:br>
            <a:r>
              <a:rPr b="0" lang="fr-FR" sz="2000" spc="-1" strike="noStrike">
                <a:solidFill>
                  <a:srgbClr val="ffff66"/>
                </a:solidFill>
                <a:latin typeface="Times New Roman"/>
              </a:rPr>
              <a:t>orienter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66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34320" y="182880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66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828800" y="190512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66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57800" y="365760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66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95480" y="312408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66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96080" y="594360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66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502920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66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0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09480" y="1676520"/>
            <a:ext cx="853452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fr-FR" sz="2600" spc="-1" strike="noStrike">
                <a:solidFill>
                  <a:srgbClr val="ffcc00"/>
                </a:solidFill>
                <a:latin typeface="Times New Roman"/>
              </a:rPr>
              <a:t>Le CDAG n’est-il pas actuellement un dispositif qui privilégie plutôt le dépistage au détriment de la prévention ?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fr-FR" sz="2600" spc="-1" strike="noStrike">
                <a:solidFill>
                  <a:srgbClr val="ffcc00"/>
                </a:solidFill>
                <a:latin typeface="Times New Roman"/>
              </a:rPr>
              <a:t>L’évolution du dépistage vers la prévention nécessite-t-elle des ajustements institutionnels et organisationnels ?</a:t>
            </a:r>
            <a:br>
              <a:rPr sz="2600"/>
            </a:br>
            <a:r>
              <a:rPr b="0" lang="fr-FR" sz="26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fr-FR" sz="2600" spc="-1" strike="noStrike">
                <a:solidFill>
                  <a:srgbClr val="ff3300"/>
                </a:solidFill>
                <a:latin typeface="Times New Roman"/>
              </a:rPr>
              <a:t>La sexualité est-elle isolable d’autres conduites à risque ?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8380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cc"/>
                </a:solidFill>
                <a:latin typeface="Times New Roman"/>
              </a:rPr>
              <a:t>3 questions se posent…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0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cc"/>
                </a:solidFill>
                <a:latin typeface="Times New Roman"/>
              </a:rPr>
              <a:t>La sexualité est-elle isolable d’autres conduites à risque ?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19320" y="2209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5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Homosexualité masculine, suicidalité et risques sexuels.</a:t>
            </a:r>
            <a:br>
              <a:rPr sz="2400"/>
            </a:b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3360" indent="-603360">
              <a:lnSpc>
                <a:spcPct val="85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Jeunes homosexuels, risque sexuel et accident de la voie publiqu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33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3360" indent="-603360">
              <a:lnSpc>
                <a:spcPct val="85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Femmes, abus sexuels dans l’enfance et accidents de la voie publiqu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33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3360" indent="-603360">
              <a:lnSpc>
                <a:spcPct val="85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Femmes, abus sexuels, sur-exposition au risque VIH et à d’autres conduites à risqu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33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3360" indent="0" algn="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/…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0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wm_5_1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4495680" cy="2182680"/>
          </a:xfrm>
          <a:prstGeom prst="rect">
            <a:avLst/>
          </a:prstGeom>
          <a:ln w="0">
            <a:noFill/>
          </a:ln>
        </p:spPr>
      </p:pic>
      <p:pic>
        <p:nvPicPr>
          <p:cNvPr id="230" name="Pwm_5_0" descr=""/>
          <p:cNvPicPr/>
          <p:nvPr/>
        </p:nvPicPr>
        <p:blipFill>
          <a:blip r:embed="rId2"/>
          <a:stretch/>
        </p:blipFill>
        <p:spPr>
          <a:xfrm>
            <a:off x="3213000" y="153684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231" name="Pwm_5_2" descr=""/>
          <p:cNvPicPr/>
          <p:nvPr/>
        </p:nvPicPr>
        <p:blipFill>
          <a:blip r:embed="rId3"/>
          <a:stretch/>
        </p:blipFill>
        <p:spPr>
          <a:xfrm>
            <a:off x="304920" y="3962520"/>
            <a:ext cx="8686800" cy="21826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04920" y="768240"/>
            <a:ext cx="4114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cc"/>
                </a:solidFill>
                <a:latin typeface="Arial"/>
              </a:rPr>
              <a:t>Avez-vous fait une tentative de suicide ?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00200" y="228600"/>
            <a:ext cx="6019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cc00"/>
                </a:solidFill>
                <a:latin typeface="Arial"/>
              </a:rPr>
              <a:t>TENTATIVES DE SUICIDE (au moins une au cours de la vie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4" name="Pwm_5_5" descr=""/>
          <p:cNvPicPr/>
          <p:nvPr/>
        </p:nvPicPr>
        <p:blipFill>
          <a:blip r:embed="rId4"/>
          <a:stretch/>
        </p:blipFill>
        <p:spPr>
          <a:xfrm>
            <a:off x="4952880" y="1143000"/>
            <a:ext cx="4038840" cy="21700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676520" y="3733920"/>
            <a:ext cx="4114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cc"/>
                </a:solidFill>
                <a:latin typeface="Arial"/>
              </a:rPr>
              <a:t>Les hommes : TS // Orientation sexuel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597120"/>
            <a:ext cx="41148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34320" y="403848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p&lt;0.05 (test exact de Fisher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545240" y="609480"/>
            <a:ext cx="116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Times New Roman"/>
              </a:rPr>
              <a:t>Shelly M., 200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472428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220011"/>
                </a:solidFill>
                <a:latin typeface="Times New Roman"/>
              </a:rPr>
              <a:t>N = 368</a:t>
            </a:r>
            <a:br>
              <a:rPr sz="1200"/>
            </a:br>
            <a:r>
              <a:rPr b="1" lang="fr-FR" sz="1200" spc="-1" strike="noStrike">
                <a:solidFill>
                  <a:srgbClr val="220011"/>
                </a:solidFill>
                <a:latin typeface="Times New Roman"/>
              </a:rPr>
              <a:t>Age médian = 2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0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Times New Roman"/>
              </a:rPr>
              <a:t>La suicidalité chez les hommes est-elle associée </a:t>
            </a:r>
            <a:br>
              <a:rPr sz="2400"/>
            </a:br>
            <a:r>
              <a:rPr b="0" lang="fr-FR" sz="2400" spc="-1" strike="noStrike">
                <a:solidFill>
                  <a:srgbClr val="ffcc00"/>
                </a:solidFill>
                <a:latin typeface="Times New Roman"/>
              </a:rPr>
              <a:t>à la prise de risques sexuels ?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531720" y="914400"/>
          <a:ext cx="8612280" cy="495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914400"/>
                    <a:ext cx="861228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1523880" y="59436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cc"/>
                </a:solidFill>
                <a:latin typeface="Times New Roman"/>
              </a:rPr>
              <a:t>Tous les homm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5943600"/>
            <a:ext cx="132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cc"/>
                </a:solidFill>
                <a:latin typeface="Times New Roman"/>
              </a:rPr>
              <a:t>Homosexuel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3962520" y="1218960"/>
            <a:ext cx="0" cy="426708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324480" y="4191120"/>
            <a:ext cx="1524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086600" y="388620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cc"/>
                </a:solidFill>
                <a:latin typeface="Times New Roman"/>
              </a:rPr>
              <a:t>N = 368</a:t>
            </a:r>
            <a:br>
              <a:rPr sz="1600"/>
            </a:br>
            <a:r>
              <a:rPr b="1" lang="fr-FR" sz="1600" spc="-1" strike="noStrike">
                <a:solidFill>
                  <a:srgbClr val="ffffcc"/>
                </a:solidFill>
                <a:latin typeface="Times New Roman"/>
              </a:rPr>
              <a:t>Age médian = 22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6600" y="3809880"/>
            <a:ext cx="1752480" cy="9144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0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wm_1_0" descr=""/>
          <p:cNvPicPr/>
          <p:nvPr/>
        </p:nvPicPr>
        <p:blipFill>
          <a:blip r:embed="rId1"/>
          <a:stretch/>
        </p:blipFill>
        <p:spPr>
          <a:xfrm>
            <a:off x="3213000" y="153684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250" name="Pwm_1_2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4114800" cy="30733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0" y="228600"/>
            <a:ext cx="91440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66"/>
                </a:solidFill>
                <a:latin typeface="Arial"/>
              </a:rPr>
              <a:t>                          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cc"/>
                </a:solidFill>
                <a:latin typeface="Arial"/>
              </a:rPr>
              <a:t>Solidarité des conduites à risques</a:t>
            </a:r>
            <a:r>
              <a:rPr b="0" lang="fr-FR" sz="1800" spc="-1" strike="noStrike">
                <a:solidFill>
                  <a:srgbClr val="ffffcc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i="1" lang="fr-FR" sz="1600" spc="-1" strike="noStrike">
                <a:solidFill>
                  <a:srgbClr val="ffffcc"/>
                </a:solidFill>
                <a:latin typeface="Arial"/>
              </a:rPr>
              <a:t>Exposition au risque sexuel et accidentalité selon l’orientation sexuelle chez les homm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60920" y="3987720"/>
            <a:ext cx="411480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Double-cliquez ici pour entrer vos commentaires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3557520"/>
            <a:ext cx="1143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66"/>
                </a:solidFill>
                <a:latin typeface="Arial"/>
              </a:rPr>
              <a:t>H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4" name="Pwm_1_7" descr=""/>
          <p:cNvPicPr/>
          <p:nvPr/>
        </p:nvPicPr>
        <p:blipFill>
          <a:blip r:embed="rId3"/>
          <a:stretch/>
        </p:blipFill>
        <p:spPr>
          <a:xfrm>
            <a:off x="4800600" y="1600200"/>
            <a:ext cx="4191120" cy="30481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181480" y="3798720"/>
            <a:ext cx="11430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66"/>
                </a:solidFill>
                <a:latin typeface="Arial"/>
              </a:rPr>
              <a:t>HS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27080" y="5003640"/>
            <a:ext cx="63788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5200" y="4952880"/>
            <a:ext cx="8578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cc"/>
                </a:solidFill>
                <a:latin typeface="Arial"/>
              </a:rPr>
              <a:t>Chez les HSH, une surexposition au risque sexuel est associée à une sur-accidentalité sur la voie publique (60% </a:t>
            </a:r>
            <a:r>
              <a:rPr b="0" i="1" lang="fr-FR" sz="1600" spc="-1" strike="noStrike">
                <a:solidFill>
                  <a:srgbClr val="ffffcc"/>
                </a:solidFill>
                <a:latin typeface="Arial"/>
              </a:rPr>
              <a:t>vs</a:t>
            </a:r>
            <a:r>
              <a:rPr b="0" lang="fr-FR" sz="1600" spc="-1" strike="noStrike">
                <a:solidFill>
                  <a:srgbClr val="ffffcc"/>
                </a:solidFill>
                <a:latin typeface="Arial"/>
              </a:rPr>
              <a:t> 20% soit </a:t>
            </a:r>
            <a:r>
              <a:rPr b="0" i="1" lang="fr-FR" sz="1600" spc="-1" strike="noStrike">
                <a:solidFill>
                  <a:srgbClr val="ffffcc"/>
                </a:solidFill>
                <a:latin typeface="Arial"/>
              </a:rPr>
              <a:t>environ </a:t>
            </a:r>
            <a:r>
              <a:rPr b="0" i="1" lang="fr-FR" sz="1600" spc="-1" strike="noStrike" u="sng">
                <a:solidFill>
                  <a:srgbClr val="ffcc00"/>
                </a:solidFill>
                <a:uFillTx/>
                <a:latin typeface="Arial"/>
              </a:rPr>
              <a:t>3 fois plus d’AVP répétés chez les non utilisateurs</a:t>
            </a:r>
            <a:r>
              <a:rPr b="0" i="1" lang="fr-FR" sz="1600" spc="-1" strike="noStrike" u="sng">
                <a:solidFill>
                  <a:srgbClr val="ffffcc"/>
                </a:solidFill>
                <a:uFillTx/>
                <a:latin typeface="Arial"/>
              </a:rPr>
              <a:t> </a:t>
            </a:r>
            <a:r>
              <a:rPr b="0" i="1" lang="fr-FR" sz="1600" spc="-1" strike="noStrike" u="sng">
                <a:solidFill>
                  <a:srgbClr val="ffcc00"/>
                </a:solidFill>
                <a:uFillTx/>
                <a:latin typeface="Arial"/>
              </a:rPr>
              <a:t>de préservatifs</a:t>
            </a:r>
            <a:r>
              <a:rPr b="0" i="1" lang="fr-FR" sz="1600" spc="-1" strike="noStrike">
                <a:solidFill>
                  <a:srgbClr val="ffffcc"/>
                </a:solidFill>
                <a:latin typeface="Arial"/>
              </a:rPr>
              <a:t> avec un nouveau partenaire</a:t>
            </a:r>
            <a:r>
              <a:rPr b="0" lang="fr-FR" sz="1600" spc="-1" strike="noStrike">
                <a:solidFill>
                  <a:srgbClr val="ffffcc"/>
                </a:solidFill>
                <a:latin typeface="Arial"/>
              </a:rPr>
              <a:t>).En revanche, chez les HS, aucun lien n’apparaî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cc"/>
                </a:solidFill>
                <a:latin typeface="Arial"/>
              </a:rPr>
              <a:t>entre ces deux registres de comportement à risque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1400" y="103356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cc"/>
                </a:solidFill>
                <a:latin typeface="Arial"/>
              </a:rPr>
              <a:t>N=368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905120" y="105084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00"/>
                </a:solidFill>
                <a:latin typeface="Times New Roman"/>
              </a:rPr>
              <a:t>AVP / préservatif avec une nouvelle partenai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943600" y="1050840"/>
            <a:ext cx="213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00"/>
                </a:solidFill>
                <a:latin typeface="Times New Roman"/>
              </a:rPr>
              <a:t>AVP / préservatif avec un nouveau partenai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0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cc00"/>
                </a:solidFill>
                <a:latin typeface="Times New Roman"/>
              </a:rPr>
              <a:t>Abus sexuel chez les femmes dans l’enfance et accidents de la voie publique</a:t>
            </a:r>
            <a:br>
              <a:rPr sz="3000"/>
            </a:br>
            <a:r>
              <a:rPr b="0" lang="fr-FR" sz="16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0" lang="fr-FR" sz="16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ffcc00"/>
                </a:solidFill>
                <a:latin typeface="Times New Roman"/>
              </a:rPr>
              <a:t>                     </a:t>
            </a:r>
            <a:r>
              <a:rPr b="0" lang="fr-FR" sz="1400" spc="-1" strike="noStrike">
                <a:solidFill>
                  <a:srgbClr val="ffcc00"/>
                </a:solidFill>
                <a:latin typeface="Times New Roman"/>
              </a:rPr>
              <a:t>M.. Shelly, D. Moreau, M. Choquet (2003)</a:t>
            </a:r>
            <a:r>
              <a:rPr b="0" lang="fr-FR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685800" y="1905120"/>
          <a:ext cx="79246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05120"/>
                    <a:ext cx="79246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0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imes New Roman"/>
              </a:rPr>
              <a:t>Physical and sexual abuse may lead to behaviors that place women AT HIGH RISK of being exposed to HIV</a:t>
            </a:r>
            <a:endParaRPr b="0" lang="en-US" sz="3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1676520"/>
            <a:ext cx="8458200" cy="47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c004e"/>
              </a:buClr>
              <a:buSzPct val="55000"/>
              <a:buFont typeface="Wingdings" charset="2"/>
              <a:buChar char=""/>
              <a:tabLst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Women with a history of sexual abuse report more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400"/>
              </a:spcBef>
              <a:buClr>
                <a:srgbClr val="56002b"/>
              </a:buClr>
              <a:buSzPct val="55000"/>
              <a:buFont typeface="Wingdings" charset="2"/>
              <a:buChar char=""/>
              <a:tabLst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Commercial sex work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400"/>
              </a:spcBef>
              <a:buClr>
                <a:srgbClr val="56002b"/>
              </a:buClr>
              <a:buSzPct val="55000"/>
              <a:buFont typeface="Wingdings" charset="2"/>
              <a:buChar char=""/>
              <a:tabLst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Anonymous and multiple sexual partner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400"/>
              </a:spcBef>
              <a:buClr>
                <a:srgbClr val="56002b"/>
              </a:buClr>
              <a:buSzPct val="55000"/>
              <a:buFont typeface="Wingdings" charset="2"/>
              <a:buChar char=""/>
              <a:tabLst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High risk male sexual partners (IDUs, bisexuals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400"/>
              </a:spcBef>
              <a:buClr>
                <a:srgbClr val="56002b"/>
              </a:buClr>
              <a:buSzPct val="55000"/>
              <a:buFont typeface="Wingdings" charset="2"/>
              <a:buChar char=""/>
              <a:tabLst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Unprotected anal sex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400"/>
              </a:spcBef>
              <a:buClr>
                <a:srgbClr val="56002b"/>
              </a:buClr>
              <a:buSzPct val="55000"/>
              <a:buFont typeface="Wingdings" charset="2"/>
              <a:buChar char=""/>
              <a:tabLst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Use condoms less frequentl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400"/>
              </a:spcBef>
              <a:buClr>
                <a:srgbClr val="56002b"/>
              </a:buClr>
              <a:buSzPct val="55000"/>
              <a:buFont typeface="Wingdings" charset="2"/>
              <a:buChar char=""/>
              <a:tabLst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Susceptible to sexual coerc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400"/>
              </a:spcBef>
              <a:buClr>
                <a:srgbClr val="56002b"/>
              </a:buClr>
              <a:buSzPct val="55000"/>
              <a:buFont typeface="Wingdings" charset="2"/>
              <a:buChar char=""/>
              <a:tabLst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Run in drug-using networks that promote more frequent drug us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400"/>
              </a:spcBef>
              <a:buClr>
                <a:srgbClr val="56002b"/>
              </a:buClr>
              <a:buSzPct val="55000"/>
              <a:buFont typeface="Wingdings" charset="2"/>
              <a:buChar char=""/>
              <a:tabLst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Alcohol and drug use (esp. cocaine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400"/>
              </a:spcBef>
              <a:buClr>
                <a:srgbClr val="56002b"/>
              </a:buClr>
              <a:buSzPct val="55000"/>
              <a:buFont typeface="Wingdings" charset="2"/>
              <a:buChar char=""/>
              <a:tabLst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Afraid to tell partners about HIV infection or ask partners to use condom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400"/>
              </a:spcBef>
              <a:buClr>
                <a:srgbClr val="56002b"/>
              </a:buClr>
              <a:buSzPct val="55000"/>
              <a:buFont typeface="Wingdings" charset="2"/>
              <a:buChar char=""/>
              <a:tabLst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Experience more actual and threatened abus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400"/>
              </a:spcBef>
              <a:buClr>
                <a:srgbClr val="56002b"/>
              </a:buClr>
              <a:buSzPct val="55000"/>
              <a:buFont typeface="Wingdings" charset="2"/>
              <a:buChar char=""/>
              <a:tabLst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Demonstrate more passive coping styl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Zierler et al., 1991; Morrill &amp; Ickovics, 1996; Gielen et al., 1997;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ingood &amp; DiClemente, 1997; He, 1998; Cohen et al., 2000)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0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09480" y="1676520"/>
            <a:ext cx="853452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CONSTAT 1 :</a:t>
            </a:r>
            <a:r>
              <a:rPr b="0" lang="fr-FR" sz="2600" spc="-1" strike="noStrike">
                <a:solidFill>
                  <a:srgbClr val="ffcc00"/>
                </a:solidFill>
                <a:latin typeface="Times New Roman"/>
              </a:rPr>
              <a:t> </a:t>
            </a:r>
            <a:br>
              <a:rPr sz="2600"/>
            </a:br>
            <a:r>
              <a:rPr b="0" lang="fr-FR" sz="2600" spc="-1" strike="noStrike">
                <a:solidFill>
                  <a:srgbClr val="ffcc00"/>
                </a:solidFill>
                <a:latin typeface="Times New Roman"/>
              </a:rPr>
              <a:t>   L’histoire naturelle de l’infection à VIH a changé </a:t>
            </a:r>
            <a:br>
              <a:rPr sz="2600"/>
            </a:br>
            <a:r>
              <a:rPr b="0" lang="fr-FR" sz="2600" spc="-1" strike="noStrike">
                <a:solidFill>
                  <a:srgbClr val="ffcc00"/>
                </a:solidFill>
                <a:latin typeface="Times New Roman"/>
              </a:rPr>
              <a:t>   (apparition des thérapeutiques antirétrovirales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CONSTAT 2 :</a:t>
            </a:r>
            <a:r>
              <a:rPr b="0" lang="fr-FR" sz="2600" spc="-1" strike="noStrike">
                <a:solidFill>
                  <a:srgbClr val="ffcc00"/>
                </a:solidFill>
                <a:latin typeface="Times New Roman"/>
              </a:rPr>
              <a:t> </a:t>
            </a:r>
            <a:br>
              <a:rPr sz="2600"/>
            </a:br>
            <a:r>
              <a:rPr b="0" lang="fr-FR" sz="2600" spc="-1" strike="noStrike">
                <a:solidFill>
                  <a:srgbClr val="ffcc00"/>
                </a:solidFill>
                <a:latin typeface="Times New Roman"/>
              </a:rPr>
              <a:t>   La proportion de résultats positifs dans les CDAG </a:t>
            </a:r>
            <a:br>
              <a:rPr sz="2600"/>
            </a:br>
            <a:r>
              <a:rPr b="0" lang="fr-FR" sz="2600" spc="-1" strike="noStrike">
                <a:solidFill>
                  <a:srgbClr val="ffcc00"/>
                </a:solidFill>
                <a:latin typeface="Times New Roman"/>
              </a:rPr>
              <a:t>   a diminué passant de 46,5 pour 1000 en 1988 </a:t>
            </a:r>
            <a:br>
              <a:rPr sz="2600"/>
            </a:br>
            <a:r>
              <a:rPr b="0" lang="fr-FR" sz="2600" spc="-1" strike="noStrike">
                <a:solidFill>
                  <a:srgbClr val="ffcc00"/>
                </a:solidFill>
                <a:latin typeface="Times New Roman"/>
              </a:rPr>
              <a:t>   à 3,8 pour 1000 en 1998 (A. Laporte 2002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8380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fr-FR" sz="3600" spc="-1" strike="noStrike">
                <a:solidFill>
                  <a:srgbClr val="ffffcc"/>
                </a:solidFill>
                <a:latin typeface="Times New Roman"/>
              </a:rPr>
              <a:t>1 - Evolutions 1988-2003               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579132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601992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57560" y="5562720"/>
            <a:ext cx="784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cc"/>
                </a:solidFill>
                <a:latin typeface="Times New Roman"/>
              </a:rPr>
              <a:t>Que fait-on avec les plus de 99% de consultants séronégatifs 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0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cc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257800"/>
          </a:xfrm>
          <a:prstGeom prst="rect">
            <a:avLst/>
          </a:prstGeom>
          <a:noFill/>
          <a:ln w="0">
            <a:solidFill>
              <a:srgbClr val="ffcc00"/>
            </a:solidFill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Ces constats, études et recherches suggèrent l’élaboration de stratégies innovantes en matière de dépistage et de prévent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Les objectifs de prévention nécessitent d’introduire des modifications dans le dispositif actuel du dépistag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La découverte de la </a:t>
            </a:r>
            <a:r>
              <a:rPr b="0" lang="fr-FR" sz="2800" spc="-1" strike="noStrike" u="sng">
                <a:solidFill>
                  <a:srgbClr val="ffffcc"/>
                </a:solidFill>
                <a:uFillTx/>
                <a:latin typeface="Times New Roman"/>
              </a:rPr>
              <a:t>solidarité des risques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 implique de doter les praticiens du dépistage et du conseil de formations complémentaires visant à désenclaver le risque VIH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0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609480"/>
            <a:ext cx="8077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CONSTAT 3 :</a:t>
            </a:r>
            <a:r>
              <a:rPr b="0" lang="fr-FR" sz="2600" spc="-1" strike="noStrike">
                <a:solidFill>
                  <a:srgbClr val="ffcc00"/>
                </a:solidFill>
                <a:latin typeface="Times New Roman"/>
              </a:rPr>
              <a:t> </a:t>
            </a:r>
            <a:br>
              <a:rPr sz="2600"/>
            </a:br>
            <a:r>
              <a:rPr b="0" lang="fr-FR" sz="2600" spc="-1" strike="noStrike">
                <a:solidFill>
                  <a:srgbClr val="ffcc00"/>
                </a:solidFill>
                <a:latin typeface="Times New Roman"/>
              </a:rPr>
              <a:t>   Les caractéristiques des consultants des CDAG </a:t>
            </a:r>
            <a:br>
              <a:rPr sz="2600"/>
            </a:br>
            <a:r>
              <a:rPr b="0" lang="fr-FR" sz="2600" spc="-1" strike="noStrike">
                <a:solidFill>
                  <a:srgbClr val="ffcc00"/>
                </a:solidFill>
                <a:latin typeface="Times New Roman"/>
              </a:rPr>
              <a:t>   (</a:t>
            </a:r>
            <a:r>
              <a:rPr b="0" lang="fr-FR" sz="1800" spc="-1" strike="noStrike">
                <a:solidFill>
                  <a:srgbClr val="ffcc00"/>
                </a:solidFill>
                <a:latin typeface="Times New Roman"/>
              </a:rPr>
              <a:t>KAPB, 2001 – Grémy)</a:t>
            </a:r>
            <a:r>
              <a:rPr b="0" lang="fr-FR" sz="26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52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Evolutions 1988-2003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2057400"/>
            <a:ext cx="8534520" cy="43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Plus souvent de sexe masculi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Plus jeun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Orientation sexuelle principalement hétérosexuelle </a:t>
            </a:r>
            <a:r>
              <a:rPr b="0" lang="fr-FR" sz="1800" spc="-1" strike="noStrike">
                <a:solidFill>
                  <a:srgbClr val="ffffcc"/>
                </a:solidFill>
                <a:latin typeface="Times New Roman"/>
              </a:rPr>
              <a:t>( &gt;80%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Homo/bisexuels sur-représentés par rapport à la population générale </a:t>
            </a:r>
            <a:r>
              <a:rPr b="0" lang="fr-FR" sz="1800" spc="-1" strike="noStrike">
                <a:solidFill>
                  <a:srgbClr val="ffffcc"/>
                </a:solidFill>
                <a:latin typeface="Times New Roman"/>
              </a:rPr>
              <a:t>(16%)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Plus souvent multipartenaires (plus d’un partenaire au  cours </a:t>
            </a:r>
            <a:br>
              <a:rPr sz="2000"/>
            </a:b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       des 12 derniers mois)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hommes : 70% vs 12,5 % dans la population général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femmes : 62% vs 6% dans la population générale.</a:t>
            </a: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La moitié des consultants a déjà été testé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Plus de personnes migrant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228600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281952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327672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426708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624852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571500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380988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0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76212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CONSTAT 4 :</a:t>
            </a:r>
            <a:r>
              <a:rPr b="0" lang="fr-FR" sz="2600" spc="-1" strike="noStrike">
                <a:solidFill>
                  <a:srgbClr val="ffcc00"/>
                </a:solidFill>
                <a:latin typeface="Times New Roman"/>
              </a:rPr>
              <a:t> </a:t>
            </a:r>
            <a:br>
              <a:rPr sz="2600"/>
            </a:br>
            <a:r>
              <a:rPr b="0" lang="fr-FR" sz="26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fr-FR" sz="2800" spc="-1" strike="noStrike">
                <a:solidFill>
                  <a:srgbClr val="ffcc00"/>
                </a:solidFill>
                <a:latin typeface="Times New Roman"/>
              </a:rPr>
              <a:t>Les connaissances, attitudes, croyances et  </a:t>
            </a:r>
            <a:br>
              <a:rPr sz="2800"/>
            </a:br>
            <a:r>
              <a:rPr b="0" lang="fr-FR" sz="2800" spc="-1" strike="noStrike">
                <a:solidFill>
                  <a:srgbClr val="ffcc00"/>
                </a:solidFill>
                <a:latin typeface="Times New Roman"/>
              </a:rPr>
              <a:t>   comportements face au VIH/Sida</a:t>
            </a:r>
            <a:r>
              <a:rPr b="0" lang="fr-FR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fcc00"/>
                </a:solidFill>
                <a:latin typeface="Times New Roman"/>
              </a:rPr>
              <a:t>(évolution 1992 – 2001)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15228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Evolutions 1988-2003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2394000"/>
            <a:ext cx="8229600" cy="37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Une connaissance plus floue des modes de transmissio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Une perception atténuée du risque social du Sid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Un désintérêt à l’égard du VIH/Sid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Une perception du risque VIH pour soi même plus complexe.</a:t>
            </a: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Une moins bonne image du préservatif et une baisse de son utilisatio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Une moindre implication du test dans la gestion du risque </a:t>
            </a:r>
            <a:br>
              <a:rPr sz="2000"/>
            </a:b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     de  contamination par le VIH.</a:t>
            </a: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                  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259092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312408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365760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419112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6324480"/>
            <a:ext cx="807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cc00"/>
                </a:solidFill>
                <a:latin typeface="Times New Roman"/>
              </a:rPr>
              <a:t>Grémy, 2002. [3321 personnes âgées de 18 à 54 ans]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472428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525780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0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914400"/>
            <a:ext cx="8077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CONSTAT 5</a:t>
            </a:r>
            <a:r>
              <a:rPr b="0" lang="fr-FR" sz="2600" spc="-1" strike="noStrike">
                <a:solidFill>
                  <a:srgbClr val="ffffcc"/>
                </a:solidFill>
                <a:latin typeface="Times New Roman"/>
              </a:rPr>
              <a:t> :</a:t>
            </a:r>
            <a:br>
              <a:rPr sz="2600"/>
            </a:br>
            <a:r>
              <a:rPr b="0" lang="fr-FR" sz="2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fr-FR" sz="2600" spc="-1" strike="noStrike">
                <a:solidFill>
                  <a:srgbClr val="ffcc00"/>
                </a:solidFill>
                <a:latin typeface="Times New Roman"/>
              </a:rPr>
              <a:t>Evolution du rôle des professionnels en charge du dépistage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90920" y="2286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Evolutions 1988-2003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2362320"/>
            <a:ext cx="822960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Times New Roman"/>
              </a:rPr>
              <a:t>HIER, on leur demandait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 de gérer l’annonce de la séropositivité (46,5 pour 1000), d’être plus « docteur en médecine » que clinicien VIH. Il s’agissait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d’informer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de responsabiliser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de faire de l’éducation sanitaire.</a:t>
            </a: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Times New Roman"/>
              </a:rPr>
              <a:t>                                                                             </a:t>
            </a:r>
            <a:r>
              <a:rPr b="1" lang="fr-FR" sz="2000" spc="-1" strike="noStrike">
                <a:solidFill>
                  <a:srgbClr val="ff6600"/>
                </a:solidFill>
                <a:latin typeface="Times New Roman"/>
              </a:rPr>
              <a:t>Circulaire 1988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388620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449568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502920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0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62120" y="12193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Times New Roman"/>
              </a:rPr>
              <a:t>évolution du rôle de « dépisteur »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2286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Evolutions 1988-2003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190512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Times New Roman"/>
              </a:rPr>
              <a:t>AUJOURD’HUI, on leur demande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 d’être médecin prescripteur </a:t>
            </a:r>
            <a:br>
              <a:rPr sz="2400"/>
            </a:b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de la prise en charge précoce après l’exposition au risque. </a:t>
            </a:r>
            <a:br>
              <a:rPr sz="2400"/>
            </a:b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Il s’agit aussi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de réduire les retards au diagnostic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de faciliter l’adoption de comportements de prévention</a:t>
            </a:r>
            <a:br>
              <a:rPr sz="2400"/>
            </a:b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            (</a:t>
            </a:r>
            <a:r>
              <a:rPr b="0" i="1" lang="fr-FR" sz="2400" spc="-1" strike="noStrike">
                <a:solidFill>
                  <a:srgbClr val="ffffcc"/>
                </a:solidFill>
                <a:latin typeface="Times New Roman"/>
              </a:rPr>
              <a:t>counseling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). </a:t>
            </a:r>
            <a:br>
              <a:rPr sz="2400"/>
            </a:br>
            <a:br>
              <a:rPr sz="2400"/>
            </a:b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d’élargir le dépistage au VHC, VHB et à la syphilis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d’organiser l’accès au soin.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6600"/>
                </a:solidFill>
                <a:latin typeface="Times New Roman"/>
              </a:rPr>
              <a:t>                                                                                        </a:t>
            </a:r>
            <a:r>
              <a:rPr b="1" lang="fr-FR" sz="2000" spc="-1" strike="noStrike">
                <a:solidFill>
                  <a:srgbClr val="ff6600"/>
                </a:solidFill>
                <a:latin typeface="Times New Roman"/>
              </a:rPr>
              <a:t>Circulaires 1998, 200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342900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510552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571500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403848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0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200400" y="4572000"/>
            <a:ext cx="2819520" cy="15238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Times New Roman"/>
              </a:rPr>
              <a:t>Groupe 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Réassurance et soutien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dans des context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spécifiques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19520" y="1219320"/>
            <a:ext cx="0" cy="7617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1219320"/>
            <a:ext cx="35812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00800" y="1219320"/>
            <a:ext cx="0" cy="7617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1981080"/>
            <a:ext cx="35812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1219320"/>
            <a:ext cx="3367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Times New Roman"/>
              </a:rPr>
              <a:t>Groupe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Gestion et prévention du risqu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2590920"/>
            <a:ext cx="0" cy="14475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2590920"/>
            <a:ext cx="19051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90920" y="2590920"/>
            <a:ext cx="0" cy="14475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4038480"/>
            <a:ext cx="19051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2514600"/>
            <a:ext cx="19047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ff6600"/>
                </a:solidFill>
                <a:latin typeface="Times New Roman"/>
              </a:rPr>
              <a:t>Groupe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Vérification dans un contexte de faible risqu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2514600"/>
            <a:ext cx="0" cy="13716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2514600"/>
            <a:ext cx="19051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229600" y="2514600"/>
            <a:ext cx="0" cy="13716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324480" y="3886200"/>
            <a:ext cx="19051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63000" y="2438280"/>
            <a:ext cx="1895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Times New Roman"/>
              </a:rPr>
              <a:t>Groupe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Réassuranc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dans un context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à haut risqu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4419720"/>
            <a:ext cx="76960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15228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cc"/>
                </a:solidFill>
                <a:latin typeface="Times New Roman"/>
              </a:rPr>
              <a:t>2 - Classification selon le motif de dépistag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393320" y="4038480"/>
            <a:ext cx="140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cc00"/>
                </a:solidFill>
                <a:latin typeface="Times New Roman"/>
              </a:rPr>
              <a:t>Brouard, 2002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99072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0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828800" y="4572000"/>
            <a:ext cx="5486400" cy="20574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6600"/>
                </a:solidFill>
                <a:latin typeface="Times New Roman"/>
              </a:rPr>
              <a:t>Groupe 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Assistance, accompagnement et soutien </a:t>
            </a:r>
            <a:br>
              <a:rPr sz="2000"/>
            </a:b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simultanés dans une approche multidimensionnelle</a:t>
            </a:r>
            <a:br>
              <a:rPr sz="2000"/>
            </a:b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de la prévention </a:t>
            </a:r>
            <a:r>
              <a:rPr b="0" lang="fr-FR" sz="1800" spc="-1" strike="noStrike">
                <a:solidFill>
                  <a:srgbClr val="ffffcc"/>
                </a:solidFill>
                <a:latin typeface="Times New Roman"/>
              </a:rPr>
              <a:t>(sociale, sexuelle,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cc"/>
                </a:solidFill>
                <a:latin typeface="Times New Roman"/>
              </a:rPr>
              <a:t>émotionnelle, comportementale)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95480" y="1066680"/>
            <a:ext cx="0" cy="10670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1066680"/>
            <a:ext cx="36576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53080" y="1066680"/>
            <a:ext cx="0" cy="10670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95480" y="2133720"/>
            <a:ext cx="36576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87200" y="990720"/>
            <a:ext cx="36568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6600"/>
                </a:solidFill>
                <a:latin typeface="Times New Roman"/>
              </a:rPr>
              <a:t>Groupe 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Renforcement et maintien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des stratégies de gestion du risqu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19320" y="2590920"/>
            <a:ext cx="25905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6600"/>
                </a:solidFill>
                <a:latin typeface="Times New Roman"/>
              </a:rPr>
              <a:t>Groupe</a:t>
            </a:r>
            <a:r>
              <a:rPr b="0" lang="fr-FR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66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Mobilisation et soutien de compétences dans la gestion du risqu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38680" y="2590920"/>
            <a:ext cx="29876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6600"/>
                </a:solidFill>
                <a:latin typeface="Times New Roman"/>
              </a:rPr>
              <a:t>Groupe 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Définition d’un plan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de réduction des risqu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286000"/>
            <a:ext cx="8001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152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cc"/>
                </a:solidFill>
                <a:latin typeface="Times New Roman"/>
              </a:rPr>
              <a:t>3 - Les stratégies d’intervention   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10800000">
            <a:off x="228240" y="2438280"/>
            <a:ext cx="7621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1" lang="fr-FR" sz="1600" spc="-1" strike="noStrike">
                <a:solidFill>
                  <a:srgbClr val="ffff66"/>
                </a:solidFill>
                <a:latin typeface="Times New Roman"/>
              </a:rPr>
              <a:t>ELARGISSEMENT  DU  DISPOSITIF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66"/>
                </a:solidFill>
                <a:latin typeface="Times New Roman"/>
              </a:rPr>
              <a:t>à  plus  de  2  entretiens …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57200" y="2209680"/>
            <a:ext cx="0" cy="4572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6172200"/>
            <a:ext cx="0" cy="3808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4120" y="2552760"/>
            <a:ext cx="3047760" cy="17524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2552760"/>
            <a:ext cx="2971800" cy="17524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0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00"/>
                </a:solidFill>
                <a:latin typeface="Times New Roman"/>
              </a:rPr>
              <a:t>Groupe 1                                  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stratégies d’intervention</a:t>
            </a:r>
            <a:br>
              <a:rPr sz="2000"/>
            </a:b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 Renforcement et maintien </a:t>
            </a:r>
            <a:br>
              <a:rPr sz="3200"/>
            </a:b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des stratégies de gestion du risqu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981080" y="2666520"/>
            <a:ext cx="6477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Valoriser l’expérience acqui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Anticiper les obstacles imprévus / imprévisibl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Identifier avec la personne les autres sphères de la vie dans lesquelles elle utilise des stratégies de gestion du risqu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mment Dire</dc:creator>
  <dc:description/>
  <cp:keywords>Dépistage CDAG prévention</cp:keywords>
  <dc:language>en-US</dc:language>
  <cp:lastModifiedBy>Maryline</cp:lastModifiedBy>
  <dcterms:modified xsi:type="dcterms:W3CDTF">2004-03-05T18:47:11Z</dcterms:modified>
  <cp:revision>129</cp:revision>
  <dc:subject>Journée réflexion dépistage</dc:subject>
  <dc:title>Diapos CTT, MS  MR - 16 juin 2003</dc:title>
</cp:coreProperties>
</file>