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6226-F157-4A93-BEA2-6BC1206B1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EA98-F48A-4411-8A36-47E7C4E8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B9AB-2B6E-4252-B257-D6AACA849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1126-811E-4307-9B56-43F4DAB15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7429-F4DB-4237-8463-7A2DA697C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2FAC-2881-4BF5-8635-C08DCCBD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DEB5-10E1-473B-9AAE-0F84ECC8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EECA-4C56-414D-BBB0-68F2B488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9A19-1092-452B-9831-51E4D99B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B7DB-00FB-4A44-9B00-28BF8518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D8E5-AA9E-4331-861E-B3748301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4732-CEEA-44AD-A60A-31BFF44A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14B8-3C6A-4F06-A82B-84A00F19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34AA-46AF-4A09-9C2D-8C7900D5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3519-2C2E-4C9A-AEC5-EEA3BFBD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AAE2-64A1-4757-A60E-E29610F7B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25A3-80C4-44A5-AD62-42D81FFA8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9497-7126-4E4E-BDE4-0387475A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79F8-4183-4A4A-8BEE-3022CBBC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18E1-73C9-4309-BB1C-D84FD7F4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51F3-A80C-40B3-9174-BD180C2F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15ED-526D-44D9-ACB7-76CC9821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D919-C49A-4013-8C6E-6C92A426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168E-D50C-4C6D-A3A3-7F91E34D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910800" y="0"/>
            <a:ext cx="3762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11160" y="4489560"/>
            <a:ext cx="647388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918540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10287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10287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10287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10287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94377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515160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4EDE-85BD-4A60-85DD-97B563E7EBBE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910800" y="0"/>
            <a:ext cx="3762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11160" y="4489560"/>
            <a:ext cx="647388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918540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10287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10287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10287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10287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94377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515160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1120" y="22856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EF4B-B221-4259-83BA-6B0A6B82246D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610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cc66"/>
                </a:solidFill>
                <a:latin typeface="Maiandra GD"/>
              </a:rPr>
              <a:t>Projet pilote de mise en place d'un programme d'information et d'accompagnement sur la prévention en direction des personnes séropositives - </a:t>
            </a:r>
            <a:br>
              <a:rPr sz="2800"/>
            </a:br>
            <a:r>
              <a:rPr b="0" i="1" lang="fr-FR" sz="2000" spc="-1" strike="noStrike">
                <a:solidFill>
                  <a:srgbClr val="ffcc66"/>
                </a:solidFill>
                <a:latin typeface="Maiandra GD"/>
              </a:rPr>
              <a:t>Expérimentation dans deux services de soin</a:t>
            </a:r>
            <a:r>
              <a:rPr b="0" i="1" lang="fr-FR" sz="2800" spc="-1" strike="noStrike">
                <a:solidFill>
                  <a:srgbClr val="ffcc66"/>
                </a:solidFill>
                <a:latin typeface="Maiandra GD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752480" y="3123720"/>
            <a:ext cx="74678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atherine Tourette-Turgis, PhD, MCU </a:t>
            </a:r>
            <a:r>
              <a:rPr b="0" lang="fr-FR" sz="2000" spc="-1" strike="noStrike" baseline="30000">
                <a:solidFill>
                  <a:srgbClr val="ffffff"/>
                </a:solidFill>
                <a:latin typeface="Arial"/>
              </a:rPr>
              <a:t>1,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ryline Rébillon, MA </a:t>
            </a:r>
            <a:r>
              <a:rPr b="0" lang="fr-FR" sz="2000" spc="-1" strike="noStrike" baseline="30000">
                <a:solidFill>
                  <a:srgbClr val="ffffff"/>
                </a:solidFill>
                <a:latin typeface="Arial"/>
              </a:rPr>
              <a:t>2, 3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mina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oda Ayouch, Psychologue </a:t>
            </a:r>
            <a:r>
              <a:rPr b="0" lang="fr-FR" sz="20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r Francis Lallemand </a:t>
            </a:r>
            <a:r>
              <a:rPr b="0" lang="fr-FR" sz="20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r Dominique Batisse </a:t>
            </a:r>
            <a:r>
              <a:rPr b="0" lang="fr-FR" sz="20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r Thierry Troussier </a:t>
            </a:r>
            <a:r>
              <a:rPr b="0" lang="fr-FR" sz="2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5791320"/>
            <a:ext cx="9677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baseline="30000">
                <a:solidFill>
                  <a:srgbClr val="ffffff"/>
                </a:solidFill>
                <a:latin typeface="Arial"/>
              </a:rPr>
              <a:t>1 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Université de Rouen (France), </a:t>
            </a:r>
            <a:r>
              <a:rPr b="0" lang="fr-FR" sz="12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Comment Dire (Paris), </a:t>
            </a:r>
            <a:r>
              <a:rPr b="0" lang="fr-FR" sz="1200" spc="-1" strike="noStrike" baseline="30000">
                <a:solidFill>
                  <a:srgbClr val="ffffff"/>
                </a:solidFill>
                <a:latin typeface="Arial"/>
              </a:rPr>
              <a:t>3 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Association Counseling, Santé et Développement (Paris, France), </a:t>
            </a:r>
            <a:r>
              <a:rPr b="0" lang="fr-FR" sz="1200" spc="-1" strike="noStrike" baseline="30000">
                <a:solidFill>
                  <a:srgbClr val="ffffff"/>
                </a:solidFill>
                <a:latin typeface="Arial"/>
              </a:rPr>
              <a:t>4 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Service maladies infectieuses et tropicales, Hôpital Saint Antoine (Paris, France), </a:t>
            </a:r>
            <a:r>
              <a:rPr b="0" lang="fr-FR" sz="12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 Service immunologie clinique, Hôpital Européen Georges Pompidou (Paris, France), </a:t>
            </a:r>
            <a:r>
              <a:rPr b="0" lang="fr-FR" sz="12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 Direction Générale de la Santé (Paris, France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53280" y="6521400"/>
            <a:ext cx="2133720" cy="337320"/>
          </a:xfrm>
          <a:prstGeom prst="rect">
            <a:avLst/>
          </a:prstGeom>
          <a:solidFill>
            <a:srgbClr val="7a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aris, 16/09/200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 flipH="1">
            <a:off x="1295280" y="925560"/>
            <a:ext cx="8686800" cy="60958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7764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4840" y="1676520"/>
            <a:ext cx="8912160" cy="24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ddf9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df9ff"/>
                </a:solidFill>
                <a:latin typeface="Maiandra GD"/>
              </a:rPr>
              <a:t> </a:t>
            </a:r>
            <a:r>
              <a:rPr b="1" lang="fr-FR" sz="2000" spc="-1" strike="noStrike">
                <a:solidFill>
                  <a:srgbClr val="ddf9ff"/>
                </a:solidFill>
                <a:latin typeface="Maiandra GD"/>
              </a:rPr>
              <a:t>Estime de soi et capacités de résili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df9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ddf9ff"/>
                </a:solidFill>
                <a:latin typeface="Maiandra GD"/>
              </a:rPr>
              <a:t> </a:t>
            </a:r>
            <a:r>
              <a:rPr b="1" lang="fr-FR" sz="2000" spc="-1" strike="noStrike">
                <a:solidFill>
                  <a:srgbClr val="ddf9ff"/>
                </a:solidFill>
                <a:latin typeface="Maiandra GD"/>
              </a:rPr>
              <a:t>Impact du manque d’estime de soi dans la relation avec les aut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df9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ddf9ff"/>
                </a:solidFill>
                <a:latin typeface="Maiandra GD"/>
              </a:rPr>
              <a:t> </a:t>
            </a:r>
            <a:r>
              <a:rPr b="1" lang="fr-FR" sz="2000" spc="-1" strike="noStrike">
                <a:solidFill>
                  <a:srgbClr val="ddf9ff"/>
                </a:solidFill>
                <a:latin typeface="Maiandra GD"/>
              </a:rPr>
              <a:t>Prise de </a:t>
            </a:r>
            <a:r>
              <a:rPr b="1" lang="fr-FR" sz="2000" spc="-1" strike="noStrike">
                <a:solidFill>
                  <a:srgbClr val="ffffff"/>
                </a:solidFill>
                <a:latin typeface="Maiandra GD"/>
              </a:rPr>
              <a:t>conscience des auto-verbalisations positives et négatives 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Maiandra GD"/>
              </a:rPr>
              <a:t>  et des conduites d’auto-sabotag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aiandra GD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Maiandra GD"/>
              </a:rPr>
              <a:t>Repenser projets et relations aux autres à partir d’une meilleure 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Maiandra GD"/>
              </a:rPr>
              <a:t>  estime de so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255680" y="0"/>
            <a:ext cx="9030960" cy="1230120"/>
            <a:chOff x="1255680" y="0"/>
            <a:chExt cx="9030960" cy="1230120"/>
          </a:xfrm>
        </p:grpSpPr>
        <p:sp>
          <p:nvSpPr>
            <p:cNvPr id="176" name=""/>
            <p:cNvSpPr/>
            <p:nvPr/>
          </p:nvSpPr>
          <p:spPr>
            <a:xfrm>
              <a:off x="1255680" y="150840"/>
              <a:ext cx="8776440" cy="1079280"/>
            </a:xfrm>
            <a:prstGeom prst="rect">
              <a:avLst/>
            </a:prstGeom>
            <a:gradFill rotWithShape="0">
              <a:gsLst>
                <a:gs pos="0">
                  <a:srgbClr val="f5c233"/>
                </a:gs>
                <a:gs pos="100000">
                  <a:srgbClr val="3d331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55680" y="0"/>
              <a:ext cx="90309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ffffff"/>
                  </a:solidFill>
                  <a:latin typeface="Maiandra GD"/>
                </a:rPr>
                <a:t>Atelier</a:t>
              </a:r>
              <a:r>
                <a:rPr b="0" lang="fr-FR" sz="3200" spc="-1" strike="noStrike">
                  <a:solidFill>
                    <a:srgbClr val="000000"/>
                  </a:solidFill>
                  <a:latin typeface="Maiandra GD"/>
                </a:rPr>
                <a:t> estime</a:t>
              </a:r>
              <a:r>
                <a:rPr b="0" lang="fr-FR" sz="3200" spc="-1" strike="noStrike">
                  <a:solidFill>
                    <a:srgbClr val="ffffff"/>
                  </a:solidFill>
                  <a:latin typeface="Maiandra GD"/>
                </a:rPr>
                <a:t> de soi (1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133720" y="4419720"/>
            <a:ext cx="8153280" cy="19047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00cc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380880"/>
            <a:ext cx="1890720" cy="1008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3cf35"/>
                </a:solidFill>
                <a:latin typeface="Comic Sans MS"/>
              </a:rPr>
              <a:t>Petit groupe d’environ 12 personn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4495680"/>
            <a:ext cx="7620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cc66"/>
                </a:solidFill>
                <a:latin typeface="Comic Sans MS"/>
              </a:rPr>
              <a:t>Un manque d’estime de soi nous amène à penser qu’il n’y a qu’un être de peu de valeur qui peut s’attacher à nous. En réaction, on aura donc tendance à dévaloriser la personne qui nous a choisi, ce qui en retour l’amènera à prendre ses distances et s’éloigner de nous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 flipH="1">
            <a:off x="1295280" y="925560"/>
            <a:ext cx="8686800" cy="60958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7764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74840" y="1523880"/>
            <a:ext cx="891216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e1f0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e1f0ff"/>
                </a:solidFill>
                <a:latin typeface="Maiandra GD"/>
                <a:ea typeface="Times New Roman"/>
              </a:rPr>
              <a:t>Mise en scène d’une situation dans l’atelier Estime de So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e1f0ff"/>
                </a:solidFill>
                <a:latin typeface="Maiandra GD"/>
                <a:ea typeface="Times New Roman"/>
              </a:rPr>
              <a:t>et Reprise 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e1f0ff"/>
                </a:solidFill>
                <a:latin typeface="Maiandra GD"/>
                <a:ea typeface="Times New Roman"/>
              </a:rPr>
              <a:t>- Ce qu’éprouve Philippe, est-ce que cela vous est déjà arrivé ? </a:t>
            </a:r>
            <a:r>
              <a:rPr b="1" lang="fr-FR" sz="2000" spc="-1" strike="noStrike">
                <a:solidFill>
                  <a:srgbClr val="e1f0ff"/>
                </a:solidFill>
                <a:latin typeface="Maiandra GD"/>
                <a:ea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e1f0ff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e1f0ff"/>
                </a:solidFill>
                <a:latin typeface="Maiandra GD"/>
                <a:ea typeface="Arial Unicode MS"/>
              </a:rPr>
              <a:t>Comment vous expliquez-vous cela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e1f0ff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e1f0ff"/>
                </a:solidFill>
                <a:latin typeface="Maiandra GD"/>
                <a:ea typeface="Arial Unicode MS"/>
              </a:rPr>
              <a:t>Comment peut-on faire alors pour changer sans s’en vouloir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e1f0ff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e1f0ff"/>
                </a:solidFill>
                <a:latin typeface="Maiandra GD"/>
                <a:ea typeface="Arial Unicode MS"/>
              </a:rPr>
              <a:t>Qu’est-ce qu’on peut se dire soi-même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e1f0ff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e1f0ff"/>
                </a:solidFill>
                <a:latin typeface="Maiandra GD"/>
                <a:ea typeface="Arial Unicode MS"/>
              </a:rPr>
              <a:t>Qu’est-ce qu’on peut dire aux autres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e1f0ff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e1f0ff"/>
                </a:solidFill>
                <a:latin typeface="Maiandra GD"/>
                <a:ea typeface="Arial Unicode MS"/>
              </a:rPr>
              <a:t>On reprend le scénario de Philippe et on rejoue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255680" y="0"/>
            <a:ext cx="9030960" cy="1230120"/>
            <a:chOff x="1255680" y="0"/>
            <a:chExt cx="9030960" cy="1230120"/>
          </a:xfrm>
        </p:grpSpPr>
        <p:sp>
          <p:nvSpPr>
            <p:cNvPr id="184" name=""/>
            <p:cNvSpPr/>
            <p:nvPr/>
          </p:nvSpPr>
          <p:spPr>
            <a:xfrm>
              <a:off x="1255680" y="150840"/>
              <a:ext cx="8776440" cy="1079280"/>
            </a:xfrm>
            <a:prstGeom prst="rect">
              <a:avLst/>
            </a:prstGeom>
            <a:gradFill rotWithShape="0">
              <a:gsLst>
                <a:gs pos="0">
                  <a:srgbClr val="f5c233"/>
                </a:gs>
                <a:gs pos="100000">
                  <a:srgbClr val="3d331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55680" y="0"/>
              <a:ext cx="90309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ffffff"/>
                  </a:solidFill>
                  <a:latin typeface="Maiandra GD"/>
                </a:rPr>
                <a:t>Atelier</a:t>
              </a:r>
              <a:r>
                <a:rPr b="0" lang="fr-FR" sz="3200" spc="-1" strike="noStrike">
                  <a:solidFill>
                    <a:srgbClr val="000000"/>
                  </a:solidFill>
                  <a:latin typeface="Maiandra GD"/>
                </a:rPr>
                <a:t> estime</a:t>
              </a:r>
              <a:r>
                <a:rPr b="0" lang="fr-FR" sz="3200" spc="-1" strike="noStrike">
                  <a:solidFill>
                    <a:srgbClr val="ffffff"/>
                  </a:solidFill>
                  <a:latin typeface="Maiandra GD"/>
                </a:rPr>
                <a:t> de soi (2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133720" y="5029200"/>
            <a:ext cx="8153280" cy="1295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00cc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Changer touche à l’estime de soi. Beaucoup d’obstacles </a:t>
            </a:r>
            <a:br>
              <a:rPr sz="2000"/>
            </a:br>
            <a:r>
              <a:rPr b="1" i="1" lang="fr-FR" sz="20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au changement sont liés à la nécessité perçue de la </a:t>
            </a:r>
            <a:br>
              <a:rPr sz="2000"/>
            </a:br>
            <a:r>
              <a:rPr b="1" i="1" lang="fr-FR" sz="20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préservation de l’image de soi</a:t>
            </a:r>
            <a:r>
              <a:rPr b="1" i="1" lang="fr-FR" sz="2000" spc="-1" strike="noStrike">
                <a:solidFill>
                  <a:srgbClr val="ffcc66"/>
                </a:solidFill>
                <a:latin typeface="Comic Sans MS"/>
                <a:ea typeface="Arial Unicode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 flipH="1">
            <a:off x="1600200" y="1447920"/>
            <a:ext cx="8686800" cy="54100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7764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79400" y="2017800"/>
            <a:ext cx="815040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buClr>
                <a:srgbClr val="ddf9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ddf9ff"/>
                </a:solidFill>
                <a:latin typeface="Maiandra GD"/>
              </a:rPr>
              <a:t>Apprentissage techniques de négociation en situations de rencontres affectives et sexuel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ddf9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ddf9ff"/>
                </a:solidFill>
                <a:latin typeface="Maiandra GD"/>
              </a:rPr>
              <a:t> </a:t>
            </a:r>
            <a:r>
              <a:rPr b="1" lang="fr-FR" sz="2000" spc="-1" strike="noStrike">
                <a:solidFill>
                  <a:srgbClr val="ddf9ff"/>
                </a:solidFill>
                <a:latin typeface="Maiandra GD"/>
              </a:rPr>
              <a:t>Situations présentées, jouées en groupe, discuté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ddf9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ddf9ff"/>
                </a:solidFill>
                <a:latin typeface="Maiandra GD"/>
              </a:rPr>
              <a:t> </a:t>
            </a:r>
            <a:r>
              <a:rPr b="1" lang="fr-FR" sz="2000" spc="-1" strike="noStrike">
                <a:solidFill>
                  <a:srgbClr val="ddf9ff"/>
                </a:solidFill>
                <a:latin typeface="Maiandra GD"/>
              </a:rPr>
              <a:t>Climat lud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560600" y="-163800"/>
            <a:ext cx="9030960" cy="1230480"/>
            <a:chOff x="1560600" y="-163800"/>
            <a:chExt cx="9030960" cy="1230480"/>
          </a:xfrm>
        </p:grpSpPr>
        <p:sp>
          <p:nvSpPr>
            <p:cNvPr id="190" name=""/>
            <p:cNvSpPr/>
            <p:nvPr/>
          </p:nvSpPr>
          <p:spPr>
            <a:xfrm>
              <a:off x="1560600" y="-12240"/>
              <a:ext cx="8776440" cy="1078920"/>
            </a:xfrm>
            <a:prstGeom prst="rect">
              <a:avLst/>
            </a:prstGeom>
            <a:gradFill rotWithShape="0">
              <a:gsLst>
                <a:gs pos="0">
                  <a:srgbClr val="f5c233"/>
                </a:gs>
                <a:gs pos="100000">
                  <a:srgbClr val="3d331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560600" y="-163800"/>
              <a:ext cx="90309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Maiandra GD"/>
                </a:rPr>
                <a:t>Atelier</a:t>
              </a:r>
              <a:r>
                <a:rPr b="0" lang="fr-FR" sz="3200" spc="-1" strike="noStrike">
                  <a:solidFill>
                    <a:srgbClr val="ffffff"/>
                  </a:solidFill>
                  <a:latin typeface="Maiandra GD"/>
                </a:rPr>
                <a:t> </a:t>
              </a:r>
              <a:r>
                <a:rPr b="0" lang="fr-FR" sz="3200" spc="-1" strike="noStrike">
                  <a:solidFill>
                    <a:srgbClr val="000000"/>
                  </a:solidFill>
                  <a:latin typeface="Maiandra GD"/>
                </a:rPr>
                <a:t>négociation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133720" y="4495680"/>
            <a:ext cx="8153280" cy="16765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00cc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cc66"/>
                </a:solidFill>
                <a:latin typeface="Comic Sans MS"/>
              </a:rPr>
              <a:t>- Le problème,ce n’est pas que les gens ne désirent pas faire d</a:t>
            </a:r>
            <a:br>
              <a:rPr sz="2000"/>
            </a:br>
            <a:r>
              <a:rPr b="1" i="1" lang="fr-FR" sz="2000" spc="-1" strike="noStrike">
                <a:solidFill>
                  <a:srgbClr val="ffcc66"/>
                </a:solidFill>
                <a:latin typeface="Comic Sans MS"/>
              </a:rPr>
              <a:t>e changements dans leur vie… C’est qu’ils pensent qu’ils n’en </a:t>
            </a:r>
            <a:br>
              <a:rPr sz="2000"/>
            </a:br>
            <a:r>
              <a:rPr b="1" i="1" lang="fr-FR" sz="2000" spc="-1" strike="noStrike">
                <a:solidFill>
                  <a:srgbClr val="ffcc66"/>
                </a:solidFill>
                <a:latin typeface="Comic Sans MS"/>
              </a:rPr>
              <a:t>seront pas capables et qu’il n’y arriveront jamais !</a:t>
            </a:r>
            <a:br>
              <a:rPr sz="2000"/>
            </a:br>
            <a:r>
              <a:rPr b="1" i="1" lang="fr-FR" sz="2000" spc="-1" strike="noStrike">
                <a:solidFill>
                  <a:srgbClr val="ffcc66"/>
                </a:solidFill>
                <a:latin typeface="Comic Sans MS"/>
              </a:rPr>
              <a:t>- Le changement, c’est d’abord une intention… puis une action </a:t>
            </a:r>
            <a:br>
              <a:rPr sz="2000"/>
            </a:br>
            <a:r>
              <a:rPr b="1" i="1" lang="fr-FR" sz="2000" spc="-1" strike="noStrike">
                <a:solidFill>
                  <a:srgbClr val="ffcc66"/>
                </a:solidFill>
                <a:latin typeface="Comic Sans MS"/>
              </a:rPr>
              <a:t>qui nécessite la mise en œuvre d’un plan d’action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380880"/>
            <a:ext cx="1890720" cy="1008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3cf35"/>
                </a:solidFill>
                <a:latin typeface="Comic Sans MS"/>
              </a:rPr>
              <a:t>Petit groupe d’environ 12 personn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7764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371600" y="152280"/>
            <a:ext cx="8915040" cy="1067040"/>
            <a:chOff x="1371600" y="152280"/>
            <a:chExt cx="8915040" cy="1067040"/>
          </a:xfrm>
        </p:grpSpPr>
        <p:sp>
          <p:nvSpPr>
            <p:cNvPr id="196" name=""/>
            <p:cNvSpPr/>
            <p:nvPr/>
          </p:nvSpPr>
          <p:spPr>
            <a:xfrm>
              <a:off x="1371600" y="152280"/>
              <a:ext cx="8915040" cy="1067040"/>
            </a:xfrm>
            <a:prstGeom prst="rect">
              <a:avLst/>
            </a:prstGeom>
            <a:gradFill rotWithShape="0">
              <a:gsLst>
                <a:gs pos="0">
                  <a:srgbClr val="f5c233"/>
                </a:gs>
                <a:gs pos="100000">
                  <a:srgbClr val="3d331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71600" y="317520"/>
              <a:ext cx="89150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Maiandra GD"/>
                </a:rPr>
                <a:t>Atelier préservatif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1600200" y="2057400"/>
            <a:ext cx="8381880" cy="35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Maiandra GD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Maiandra GD"/>
              </a:rPr>
              <a:t>Féminin et mascul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aiandra GD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Maiandra GD"/>
              </a:rPr>
              <a:t>Connaissances préservatifs et us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aiandra GD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Maiandra GD"/>
              </a:rPr>
              <a:t>Jeux de rôles : négociation préservatifs lors de rencontre sexuel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aiandra GD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Maiandra GD"/>
              </a:rPr>
              <a:t>Familiaris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aiandra GD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Maiandra GD"/>
              </a:rPr>
              <a:t>Discussions à partir de difficultés dans situations véc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304920"/>
            <a:ext cx="1890720" cy="1008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3cf35"/>
                </a:solidFill>
                <a:latin typeface="Comic Sans MS"/>
              </a:rPr>
              <a:t>Petit groupe d’environ 12 personn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914400"/>
            <a:ext cx="5029200" cy="59436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838080"/>
            <a:ext cx="163440" cy="6019920"/>
          </a:xfrm>
          <a:prstGeom prst="rect">
            <a:avLst/>
          </a:prstGeom>
          <a:gradFill rotWithShape="0">
            <a:gsLst>
              <a:gs pos="0">
                <a:srgbClr val="3d3317"/>
              </a:gs>
              <a:gs pos="100000">
                <a:srgbClr val="f5c2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65600" y="6566040"/>
            <a:ext cx="2787480" cy="2919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9d87b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403848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3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7ce5b"/>
                </a:solidFill>
                <a:uFillTx/>
                <a:latin typeface="Maiandra GD"/>
              </a:rPr>
              <a:t>UN PROJET PILOTE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« de mise en place d’un programme d’information et d’accompagnement sur la prévention 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direction 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sonnes séropositives » (Janvier 2004 / Décembre 200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7ce5b"/>
                </a:solidFill>
                <a:uFillTx/>
                <a:latin typeface="Maiandra GD"/>
              </a:rPr>
              <a:t>MIS EN OEUV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 </a:t>
            </a: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Counseling Santé et Développement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en partenariat avec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ENT DI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sous la responsabilité scientifique de Catherine Tourette-Turgis, PhD, MC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1295280"/>
            <a:ext cx="3272040" cy="53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7ce5b"/>
                </a:solidFill>
                <a:uFillTx/>
                <a:latin typeface="Maiandra GD"/>
              </a:rPr>
              <a:t>DANS DEUX SI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IT de l’hôpital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int Anto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d’immunologie de l’HEGP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7ce5b"/>
                </a:solidFill>
                <a:uFillTx/>
                <a:latin typeface="Maiandra GD"/>
              </a:rPr>
              <a:t>GRACE A UN FINANC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du Ministère de la Sant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7ce5b"/>
                </a:solidFill>
                <a:uFillTx/>
                <a:latin typeface="Maiandra GD"/>
              </a:rPr>
              <a:t>EN PARTENARI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ides Ile de France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RIP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les équipes des deux site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et en collaboration avec un groupe de patient(e)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52280"/>
            <a:ext cx="10287000" cy="719280"/>
          </a:xfrm>
          <a:prstGeom prst="rect">
            <a:avLst/>
          </a:prstGeom>
          <a:gradFill rotWithShape="0">
            <a:gsLst>
              <a:gs pos="0">
                <a:srgbClr val="3d3317"/>
              </a:gs>
              <a:gs pos="100000">
                <a:srgbClr val="f7ce5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Maiandra GD"/>
              </a:rPr>
              <a:t>LE PROJET </a:t>
            </a:r>
            <a:r>
              <a:rPr b="1" lang="fr-FR" sz="2400" spc="-1" strike="noStrike">
                <a:solidFill>
                  <a:srgbClr val="ffffff"/>
                </a:solidFill>
                <a:latin typeface="Maiandra GD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094360" y="1328760"/>
            <a:ext cx="163440" cy="5529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930320" y="1912680"/>
            <a:ext cx="3022560" cy="37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7ce5b"/>
                </a:solidFill>
                <a:uFillTx/>
                <a:latin typeface="Maiandra GD"/>
              </a:rPr>
              <a:t>DES ENTRETIE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7ce5b"/>
                </a:solidFill>
                <a:uFillTx/>
                <a:latin typeface="Maiandra GD"/>
              </a:rPr>
              <a:t>INDIVIDUELS OU 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7ce5b"/>
                </a:solidFill>
                <a:uFillTx/>
                <a:latin typeface="Maiandra GD"/>
              </a:rPr>
              <a:t>COUP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5c233"/>
              </a:buClr>
              <a:buSzPct val="80000"/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Maiandra GD"/>
              </a:rPr>
              <a:t>Consultation information et soutien en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Maiandra GD"/>
              </a:rPr>
              <a:t>prév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5c233"/>
              </a:buClr>
              <a:buSzPct val="80000"/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Maiandra GD"/>
              </a:rPr>
              <a:t>Consultation de sex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96000" y="1905120"/>
            <a:ext cx="388152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7ce5b"/>
                </a:solidFill>
                <a:uFillTx/>
                <a:latin typeface="Maiandra GD"/>
              </a:rPr>
              <a:t>DES  ACTIVITES </a:t>
            </a:r>
            <a:br>
              <a:rPr sz="2000"/>
            </a:br>
            <a:r>
              <a:rPr b="1" lang="fr-FR" sz="2000" spc="-1" strike="noStrike" u="sng">
                <a:solidFill>
                  <a:srgbClr val="f7ce5b"/>
                </a:solidFill>
                <a:uFillTx/>
                <a:latin typeface="Maiandra GD"/>
              </a:rPr>
              <a:t>EN PETIT GROUPE </a:t>
            </a:r>
            <a:br>
              <a:rPr sz="2000"/>
            </a:br>
            <a:r>
              <a:rPr b="1" lang="fr-FR" sz="2000" spc="-1" strike="noStrike" u="sng">
                <a:solidFill>
                  <a:srgbClr val="f7ce5b"/>
                </a:solidFill>
                <a:uFillTx/>
                <a:latin typeface="Maiandra GD"/>
              </a:rPr>
              <a:t>DE 12 PERSONNES ENVIR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5c233"/>
              </a:buClr>
              <a:buSzPct val="80000"/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Maiandra GD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Maiandra GD"/>
              </a:rPr>
              <a:t>Atelier estime de so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5c233"/>
              </a:buClr>
              <a:buSzPct val="80000"/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Maiandra GD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Maiandra GD"/>
              </a:rPr>
              <a:t>Atelier techniques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Maiandra GD"/>
              </a:rPr>
              <a:t>   de négoc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5c233"/>
              </a:buClr>
              <a:buSzPct val="80000"/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Maiandra GD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Maiandra GD"/>
              </a:rPr>
              <a:t>Atelier préservatifs 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Maiandra GD"/>
              </a:rPr>
              <a:t>  (masculin et fémini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81800"/>
            <a:ext cx="10287000" cy="1008360"/>
          </a:xfrm>
          <a:prstGeom prst="rect">
            <a:avLst/>
          </a:prstGeom>
          <a:gradFill rotWithShape="0">
            <a:gsLst>
              <a:gs pos="0">
                <a:srgbClr val="3d3317"/>
              </a:gs>
              <a:gs pos="50000">
                <a:srgbClr val="f7ce5b"/>
              </a:gs>
              <a:gs pos="100000">
                <a:srgbClr val="3d33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Maiandra GD"/>
              </a:rPr>
              <a:t>LE DISPOSITIF</a:t>
            </a:r>
            <a:r>
              <a:rPr b="1" lang="fr-FR" sz="2400" spc="-1" strike="noStrike">
                <a:solidFill>
                  <a:srgbClr val="ffffff"/>
                </a:solidFill>
                <a:latin typeface="Maiandra GD"/>
              </a:rPr>
              <a:t> </a:t>
            </a:r>
            <a:br>
              <a:rPr sz="2400"/>
            </a:br>
            <a:r>
              <a:rPr b="1" i="1" lang="fr-FR" sz="2400" spc="-1" strike="noStrike">
                <a:solidFill>
                  <a:srgbClr val="ffffff"/>
                </a:solidFill>
                <a:latin typeface="Maiandra GD"/>
              </a:rPr>
              <a:t>Une plate-forme de prise en charge diversifi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7764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352680" y="1066680"/>
            <a:ext cx="6934320" cy="5791320"/>
          </a:xfrm>
          <a:prstGeom prst="rect">
            <a:avLst/>
          </a:prstGeom>
          <a:gradFill rotWithShape="0">
            <a:gsLst>
              <a:gs pos="0">
                <a:srgbClr val="77642d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1981080"/>
            <a:ext cx="4952880" cy="862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3cf35"/>
                </a:solidFill>
                <a:latin typeface="Comic Sans MS"/>
              </a:rPr>
              <a:t>3 heures hebdomadaires (pour 1 a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3cf35"/>
                </a:solidFill>
                <a:latin typeface="Comic Sans MS"/>
              </a:rPr>
              <a:t>Sur rendez-vo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5486400"/>
            <a:ext cx="2819520" cy="429120"/>
          </a:xfrm>
          <a:prstGeom prst="rect">
            <a:avLst/>
          </a:prstGeom>
          <a:noFill/>
          <a:ln w="28440">
            <a:solidFill>
              <a:srgbClr val="f5c2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Times New Roman"/>
              </a:rPr>
              <a:t>Atelie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1828800"/>
            <a:ext cx="2895480" cy="109944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Times New Roman"/>
              </a:rPr>
              <a:t>Consultation </a:t>
            </a:r>
            <a:br>
              <a:rPr sz="2200"/>
            </a:br>
            <a:r>
              <a:rPr b="1" lang="fr-FR" sz="2200" spc="-1" strike="noStrike">
                <a:solidFill>
                  <a:srgbClr val="ffffff"/>
                </a:solidFill>
                <a:latin typeface="Times New Roman"/>
              </a:rPr>
              <a:t>information et soutien en prévention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24280" y="3733920"/>
            <a:ext cx="5029200" cy="862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3cf35"/>
                </a:solidFill>
                <a:latin typeface="Comic Sans MS"/>
              </a:rPr>
              <a:t>3 heures tous les 15 jours (pour 1 a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3cf35"/>
                </a:solidFill>
                <a:latin typeface="Comic Sans MS"/>
              </a:rPr>
              <a:t>Sur rendez-vo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3809880"/>
            <a:ext cx="2819520" cy="7642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Times New Roman"/>
              </a:rPr>
              <a:t>Consultation </a:t>
            </a:r>
            <a:br>
              <a:rPr sz="2200"/>
            </a:br>
            <a:r>
              <a:rPr b="1" lang="fr-FR" sz="2200" spc="-1" strike="noStrike">
                <a:solidFill>
                  <a:srgbClr val="ffffff"/>
                </a:solidFill>
                <a:latin typeface="Times New Roman"/>
              </a:rPr>
              <a:t>de sexologi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096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380988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54864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5257800"/>
            <a:ext cx="5105520" cy="862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3cf35"/>
                </a:solidFill>
                <a:latin typeface="Comic Sans MS"/>
              </a:rPr>
              <a:t>3 ateliers / an (12 personnes / ateli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3cf35"/>
                </a:solidFill>
                <a:latin typeface="Comic Sans MS"/>
              </a:rPr>
              <a:t>Sur inscrip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81800"/>
            <a:ext cx="10287000" cy="1008360"/>
          </a:xfrm>
          <a:prstGeom prst="rect">
            <a:avLst/>
          </a:prstGeom>
          <a:gradFill rotWithShape="0">
            <a:gsLst>
              <a:gs pos="0">
                <a:srgbClr val="3d3317"/>
              </a:gs>
              <a:gs pos="50000">
                <a:srgbClr val="f7ce5b"/>
              </a:gs>
              <a:gs pos="100000">
                <a:srgbClr val="3d33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Maiandra GD"/>
              </a:rPr>
              <a:t>LE DISPOSITIF</a:t>
            </a:r>
            <a:r>
              <a:rPr b="1" lang="fr-FR" sz="2400" spc="-1" strike="noStrike">
                <a:solidFill>
                  <a:srgbClr val="ffffff"/>
                </a:solidFill>
                <a:latin typeface="Maiandra GD"/>
              </a:rPr>
              <a:t> </a:t>
            </a:r>
            <a:br>
              <a:rPr sz="2400"/>
            </a:br>
            <a:r>
              <a:rPr b="1" i="1" lang="fr-FR" sz="2400" spc="-1" strike="noStrike">
                <a:solidFill>
                  <a:srgbClr val="ffffff"/>
                </a:solidFill>
                <a:latin typeface="Maiandra GD"/>
              </a:rPr>
              <a:t>Fonctionnement de la plate-forme dans chaque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7764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28240"/>
            <a:ext cx="10287000" cy="642600"/>
          </a:xfrm>
          <a:prstGeom prst="rect">
            <a:avLst/>
          </a:prstGeom>
          <a:gradFill rotWithShape="0">
            <a:gsLst>
              <a:gs pos="0">
                <a:srgbClr val="3d3317"/>
              </a:gs>
              <a:gs pos="50000">
                <a:srgbClr val="f5c233"/>
              </a:gs>
              <a:gs pos="100000">
                <a:srgbClr val="3d33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omic Sans MS"/>
              </a:rPr>
              <a:t>L’accès des patientEs à la plate-for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352680" y="914400"/>
            <a:ext cx="6934320" cy="5943600"/>
          </a:xfrm>
          <a:prstGeom prst="rect">
            <a:avLst/>
          </a:prstGeom>
          <a:gradFill rotWithShape="0">
            <a:gsLst>
              <a:gs pos="0">
                <a:srgbClr val="77642d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1447920"/>
            <a:ext cx="1981080" cy="1831320"/>
          </a:xfrm>
          <a:prstGeom prst="rect">
            <a:avLst/>
          </a:prstGeom>
          <a:noFill/>
          <a:ln w="76320">
            <a:solidFill>
              <a:srgbClr val="f5c2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Consultation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médic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Comic Sans MS"/>
              </a:rPr>
              <a:t>Sensibilis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Comic Sans MS"/>
              </a:rPr>
              <a:t>Moti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Comic Sans MS"/>
              </a:rPr>
              <a:t>Ori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18240" y="1278000"/>
            <a:ext cx="154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81480" y="4191120"/>
            <a:ext cx="483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ffff"/>
                </a:solidFill>
                <a:latin typeface="Comic Sans MS"/>
              </a:rPr>
              <a:t>Atelier estime de soi</a:t>
            </a:r>
            <a:br>
              <a:rPr sz="2000"/>
            </a:br>
            <a:r>
              <a:rPr b="1" i="1" lang="fr-FR" sz="2000" spc="-1" strike="noStrike">
                <a:solidFill>
                  <a:srgbClr val="f5c233"/>
                </a:solidFill>
                <a:latin typeface="Times New Roman"/>
              </a:rPr>
              <a:t>3 x 3 h sur 2 mois en soiré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76920" y="6156360"/>
            <a:ext cx="472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ffff"/>
                </a:solidFill>
                <a:latin typeface="Comic Sans MS"/>
              </a:rPr>
              <a:t>Atelier techniques de négociation</a:t>
            </a:r>
            <a:br>
              <a:rPr sz="2000"/>
            </a:br>
            <a:r>
              <a:rPr b="1" i="1" lang="fr-FR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i="1" lang="fr-FR" sz="2000" spc="-1" strike="noStrike">
                <a:solidFill>
                  <a:srgbClr val="f5c233"/>
                </a:solidFill>
                <a:latin typeface="Times New Roman"/>
              </a:rPr>
              <a:t>3 x 3 h sur 2 mois en soiré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53080" y="52578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ffff"/>
                </a:solidFill>
                <a:latin typeface="Comic Sans MS"/>
              </a:rPr>
              <a:t>Atelier préservatifs</a:t>
            </a:r>
            <a:br>
              <a:rPr sz="2000"/>
            </a:br>
            <a:r>
              <a:rPr b="1" i="1" lang="fr-FR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i="1" lang="fr-FR" sz="2000" spc="-1" strike="noStrike">
                <a:solidFill>
                  <a:srgbClr val="f5c233"/>
                </a:solidFill>
                <a:latin typeface="Times New Roman"/>
              </a:rPr>
              <a:t>1 x 3 h en soirée ou samed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388620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e0b548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4508280" y="4025520"/>
            <a:ext cx="519120" cy="2830680"/>
          </a:xfrm>
          <a:prstGeom prst="downArrow">
            <a:avLst>
              <a:gd name="adj1" fmla="val 50000"/>
              <a:gd name="adj2" fmla="val 136321"/>
            </a:avLst>
          </a:prstGeom>
          <a:gradFill rotWithShape="0">
            <a:gsLst>
              <a:gs pos="0">
                <a:srgbClr val="f5c233"/>
              </a:gs>
              <a:gs pos="100000">
                <a:srgbClr val="3d33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7984400">
            <a:off x="3780360" y="5316840"/>
            <a:ext cx="490320" cy="1524240"/>
          </a:xfrm>
          <a:prstGeom prst="downArrow">
            <a:avLst>
              <a:gd name="adj1" fmla="val 50000"/>
              <a:gd name="adj2" fmla="val 77717"/>
            </a:avLst>
          </a:prstGeom>
          <a:gradFill rotWithShape="0">
            <a:gsLst>
              <a:gs pos="0">
                <a:srgbClr val="f5c233"/>
              </a:gs>
              <a:gs pos="100000">
                <a:srgbClr val="3d33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4326200">
            <a:off x="3803040" y="4045320"/>
            <a:ext cx="466560" cy="1519200"/>
          </a:xfrm>
          <a:prstGeom prst="downArrow">
            <a:avLst>
              <a:gd name="adj1" fmla="val 50000"/>
              <a:gd name="adj2" fmla="val 81404"/>
            </a:avLst>
          </a:prstGeom>
          <a:gradFill rotWithShape="0">
            <a:gsLst>
              <a:gs pos="0">
                <a:srgbClr val="f5c233"/>
              </a:gs>
              <a:gs pos="100000">
                <a:srgbClr val="3d33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4343400"/>
            <a:ext cx="1981080" cy="1923480"/>
          </a:xfrm>
          <a:prstGeom prst="rect">
            <a:avLst/>
          </a:prstGeom>
          <a:noFill/>
          <a:ln w="76320">
            <a:solidFill>
              <a:srgbClr val="f5c2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Consultations, affiches, «bouche à oreille», soignants,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patien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81480" y="1143000"/>
            <a:ext cx="4834080" cy="1313640"/>
          </a:xfrm>
          <a:prstGeom prst="rect">
            <a:avLst/>
          </a:prstGeom>
          <a:noFill/>
          <a:ln w="6480">
            <a:solidFill>
              <a:srgbClr val="a388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ffff"/>
                </a:solidFill>
                <a:latin typeface="Times New Roman"/>
              </a:rPr>
              <a:t>Consultation d’information  et  de soutien en préven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5c233"/>
                </a:solidFill>
                <a:latin typeface="Times New Roman"/>
              </a:rPr>
              <a:t>4 entretiens de 40 minutes  à 2 ou 3 semaines d’interval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81480" y="2666880"/>
            <a:ext cx="4834080" cy="1008720"/>
          </a:xfrm>
          <a:prstGeom prst="rect">
            <a:avLst/>
          </a:prstGeom>
          <a:noFill/>
          <a:ln w="6480">
            <a:solidFill>
              <a:srgbClr val="a388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ffff"/>
                </a:solidFill>
                <a:latin typeface="Times New Roman"/>
              </a:rPr>
              <a:t>Consultation de sexolog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5c233"/>
                </a:solidFill>
                <a:latin typeface="Times New Roman"/>
              </a:rPr>
              <a:t>2 entretiens de 40 minutes  à 2 ou 3 semaines d’interval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4326200">
            <a:off x="3803040" y="1073520"/>
            <a:ext cx="466560" cy="1519200"/>
          </a:xfrm>
          <a:prstGeom prst="downArrow">
            <a:avLst>
              <a:gd name="adj1" fmla="val 50000"/>
              <a:gd name="adj2" fmla="val 81404"/>
            </a:avLst>
          </a:prstGeom>
          <a:gradFill rotWithShape="0">
            <a:gsLst>
              <a:gs pos="0">
                <a:srgbClr val="f5c233"/>
              </a:gs>
              <a:gs pos="100000">
                <a:srgbClr val="3d33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7984400">
            <a:off x="3856680" y="2040480"/>
            <a:ext cx="490680" cy="1523880"/>
          </a:xfrm>
          <a:prstGeom prst="downArrow">
            <a:avLst>
              <a:gd name="adj1" fmla="val 50000"/>
              <a:gd name="adj2" fmla="val 77641"/>
            </a:avLst>
          </a:prstGeom>
          <a:gradFill rotWithShape="0">
            <a:gsLst>
              <a:gs pos="0">
                <a:srgbClr val="f5c233"/>
              </a:gs>
              <a:gs pos="100000">
                <a:srgbClr val="3d33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H="1">
            <a:off x="3886200" y="5029200"/>
            <a:ext cx="6400800" cy="1295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7764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es membres des équipes médicales et infirmière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qui orientent vers la plate-form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t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es patientE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qui co-animent les ateli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1393920" cy="6858000"/>
          </a:xfrm>
          <a:prstGeom prst="rect">
            <a:avLst/>
          </a:prstGeom>
          <a:gradFill rotWithShape="0">
            <a:gsLst>
              <a:gs pos="0">
                <a:srgbClr val="77642d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5181480"/>
            <a:ext cx="8379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71600" y="78480"/>
            <a:ext cx="8915400" cy="1135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ffff"/>
                </a:solidFill>
                <a:latin typeface="Comic Sans MS"/>
              </a:rPr>
              <a:t>Les acteurs de la plate-form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9880" y="1222200"/>
            <a:ext cx="6477120" cy="35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ans chaque site qui a bénéficié d’une formation et d’un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coaching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pour assurer la «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consultation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information et soutien en prévention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 »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ntervenant dans les deux si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our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nimer les atelier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Estime de Soi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t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Techniques de négociation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dans les deux si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pour l’atelier « Préservatifs »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dans les deux si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1371600"/>
            <a:ext cx="3124440" cy="3988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Un médecin du 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2514600"/>
            <a:ext cx="2057400" cy="3988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Un sexolog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3352680"/>
            <a:ext cx="3124440" cy="3988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Une psychosociolog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4419720"/>
            <a:ext cx="2057400" cy="3988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Un animate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5410080"/>
            <a:ext cx="609840" cy="58140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 flipH="1">
            <a:off x="1370880" y="1143000"/>
            <a:ext cx="8381880" cy="48769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7764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évelopper une relation d’alliance et d’empathi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t non de contrô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artir de l’expertise accumulée par  la personne 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t de ses expériences véc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’aider à réduire le stress engendré par le VIH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ans sa vie affective et sexuel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outenir son sentiment d’efficacité personnel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’aider à résoudre des difficultés rencontré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u anticipées dans ses stratégies de prévention sexuel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1393920" cy="6858000"/>
          </a:xfrm>
          <a:prstGeom prst="rect">
            <a:avLst/>
          </a:prstGeom>
          <a:gradFill rotWithShape="0">
            <a:gsLst>
              <a:gs pos="0">
                <a:srgbClr val="77642d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5181480"/>
            <a:ext cx="8379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71600" y="78480"/>
            <a:ext cx="8915400" cy="1135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ffff"/>
                </a:solidFill>
                <a:latin typeface="Comic Sans MS"/>
              </a:rPr>
              <a:t>Les principes d’intervention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7764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1676520"/>
            <a:ext cx="6019560" cy="1631160"/>
          </a:xfrm>
          <a:prstGeom prst="rect">
            <a:avLst/>
          </a:prstGeom>
          <a:noFill/>
          <a:ln w="3240">
            <a:solidFill>
              <a:srgbClr val="a388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Un guide d’entreti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Un carnet individualisé de suivi par pat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Un questionnaire d’évaluation de la consultation (patient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5334120"/>
            <a:ext cx="2514600" cy="429120"/>
          </a:xfrm>
          <a:prstGeom prst="rect">
            <a:avLst/>
          </a:prstGeom>
          <a:solidFill>
            <a:srgbClr val="a3883d"/>
          </a:solidFill>
          <a:ln w="28440">
            <a:solidFill>
              <a:srgbClr val="a388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Atelie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1676520"/>
            <a:ext cx="2514600" cy="1434600"/>
          </a:xfrm>
          <a:prstGeom prst="rect">
            <a:avLst/>
          </a:prstGeom>
          <a:solidFill>
            <a:srgbClr val="a3883d"/>
          </a:solidFill>
          <a:ln w="28440">
            <a:solidFill>
              <a:srgbClr val="a388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Consultation </a:t>
            </a:r>
            <a:br>
              <a:rPr sz="2200"/>
            </a:b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information et soutien en prévention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3809880"/>
            <a:ext cx="2514600" cy="764280"/>
          </a:xfrm>
          <a:prstGeom prst="rect">
            <a:avLst/>
          </a:prstGeom>
          <a:solidFill>
            <a:srgbClr val="a3883d"/>
          </a:solidFill>
          <a:ln w="28440">
            <a:solidFill>
              <a:srgbClr val="a388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Consultation </a:t>
            </a:r>
            <a:br>
              <a:rPr sz="2200"/>
            </a:b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de sexologi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52680" y="2057400"/>
            <a:ext cx="5335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78480"/>
            <a:ext cx="8915400" cy="1135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ffff"/>
                </a:solidFill>
                <a:latin typeface="Comic Sans MS"/>
              </a:rPr>
              <a:t>Les outils de la plate-forme (1)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62520" y="5257800"/>
            <a:ext cx="6019560" cy="1167480"/>
          </a:xfrm>
          <a:prstGeom prst="rect">
            <a:avLst/>
          </a:prstGeom>
          <a:noFill/>
          <a:ln w="3240">
            <a:solidFill>
              <a:srgbClr val="a388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Un guide d’ani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Un questionnaire d’évaluation de l’atelier (patient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3429000"/>
            <a:ext cx="6019560" cy="1631160"/>
          </a:xfrm>
          <a:prstGeom prst="rect">
            <a:avLst/>
          </a:prstGeom>
          <a:noFill/>
          <a:ln w="3240">
            <a:solidFill>
              <a:srgbClr val="a388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Un guide d’entreti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Un carnet individualisé de suivi par pat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Un questionnaire d’évaluation de la consultation (patient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7764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2520" y="1676520"/>
            <a:ext cx="6019560" cy="1472400"/>
          </a:xfrm>
          <a:prstGeom prst="rect">
            <a:avLst/>
          </a:prstGeom>
          <a:noFill/>
          <a:ln w="3240">
            <a:solidFill>
              <a:srgbClr val="a388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Un outil diagnostique des besoins en prévention (HEGP) pour l’orientation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Une fiche pour l’orientation vers les consultations et les ateliers (St Antoine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676520"/>
            <a:ext cx="2514600" cy="1099440"/>
          </a:xfrm>
          <a:prstGeom prst="rect">
            <a:avLst/>
          </a:prstGeom>
          <a:solidFill>
            <a:srgbClr val="a3883d"/>
          </a:solidFill>
          <a:ln w="28440">
            <a:solidFill>
              <a:srgbClr val="a388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Consultations </a:t>
            </a:r>
            <a:br>
              <a:rPr sz="2200"/>
            </a:b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médicales et psychologiqu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4114800"/>
            <a:ext cx="2514600" cy="1099440"/>
          </a:xfrm>
          <a:prstGeom prst="rect">
            <a:avLst/>
          </a:prstGeom>
          <a:solidFill>
            <a:srgbClr val="a3883d"/>
          </a:solidFill>
          <a:ln w="28440">
            <a:solidFill>
              <a:srgbClr val="a388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Communication sur la plate-form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00400" y="1981080"/>
            <a:ext cx="53352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78480"/>
            <a:ext cx="8915400" cy="1135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ffff"/>
                </a:solidFill>
                <a:latin typeface="Comic Sans MS"/>
              </a:rPr>
              <a:t>Les outils de la plate-forme (2)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3657600"/>
            <a:ext cx="6019560" cy="2399760"/>
          </a:xfrm>
          <a:prstGeom prst="rect">
            <a:avLst/>
          </a:prstGeom>
          <a:noFill/>
          <a:ln w="3240">
            <a:solidFill>
              <a:srgbClr val="a388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Une brochure pour les patientEs (St Antoine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Une plaquette de présentation de la plate-forme (HEGP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Des affiches pour les atel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Une permanence téléphonique pour les atel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21:01:26Z</dcterms:created>
  <dc:creator>apsu</dc:creator>
  <dc:description/>
  <dc:language>en-US</dc:language>
  <cp:lastModifiedBy>Maryline</cp:lastModifiedBy>
  <dcterms:modified xsi:type="dcterms:W3CDTF">2006-04-26T10:14:57Z</dcterms:modified>
  <cp:revision>187</cp:revision>
  <dc:subject/>
  <dc:title>PREVENTION  DES  IST  ET  SEXOLOGIE</dc:title>
</cp:coreProperties>
</file>