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E21-8F4D-484B-8404-A53DCFCE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6E4-68D6-4AC5-9E47-95D55965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97F-D198-4FD9-BF19-D6E5633A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DAF-8E4B-4F6A-9D92-D0F5BF51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6E01-5A9A-4434-AEBD-274C8E63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E54E-260A-4A55-A527-EBA19C43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2279-17B2-4257-A43E-1B175C14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D858-A4DD-4769-94E4-AEC9D6E7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617D-38C9-4640-AC75-F4E31AA0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388B-582A-44A2-B8A0-04DFFDEB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95C8-91BC-4F34-BDC8-B02A58E3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A23-54F1-44CC-9074-0B8E6D88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1D62-4406-404D-8059-47FAA417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F9B8-0F0F-4E41-817E-DFACAD27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9986-D6C9-4398-B78F-1E8DD96B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B25C-8D9C-4F92-AD36-48758598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A3D7-7359-4FC8-844C-CC7C334E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983-DCCF-4FB3-BD3F-EA497BA3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68D-1901-4804-B73E-794A8F3E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D35-0273-4659-B926-268E6362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C08-2F9E-401D-899A-F3D65D0E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FB1-B1B5-47F2-8A14-3E3E3AAF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DAE-B3C9-4279-8C98-65AA31C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8B80-0244-4512-B653-8717503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AA87-F5F4-47D5-8559-A62F08C04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5767-1D67-4B5A-B30B-94228E4BD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609480"/>
            <a:ext cx="7742160" cy="190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La Prévention :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Un enjeu dans le soin des maladies chroniqu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76360" y="2971440"/>
            <a:ext cx="563868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Catherine Tourette-Turgis</a:t>
            </a:r>
            <a:br>
              <a:rPr sz="36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aître de Conférences des Université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ercheure affiliée à l’HEGP (Paris)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iversité de Miami (USA)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MENT DIRE (Paris)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ice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855-8CD7-4A5F-A5FB-E862F79002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533520"/>
            <a:ext cx="7772400" cy="91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66"/>
                </a:solidFill>
                <a:latin typeface="Times New Roman"/>
              </a:rPr>
              <a:t>Variables affectant l’observanc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61976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lles peuvent être regroupées en quat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grandes catégories 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s caractéristiques du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caractéristiques de la maladie et de ses trai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lation médecin-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ystème et l’organisation des so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1E4-AECA-4092-AAC9-C1EBB861A4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1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66"/>
                </a:solidFill>
                <a:latin typeface="Times New Roman"/>
              </a:rPr>
              <a:t>Méthodologies d’interven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éducation du patient à s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éducation du patient à sa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éducation thérapeutique du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unseling (Modèle MOTH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éducation du patient et le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925-A3ED-43FE-A0CD-2DDD501140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Cinq points clefs à retenir       </a:t>
            </a:r>
            <a:r>
              <a:rPr b="1" lang="fr-F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1)</a:t>
            </a:r>
            <a:r>
              <a:rPr b="1" lang="en-GB" sz="3600" spc="-1" strike="noStrike">
                <a:solidFill>
                  <a:srgbClr val="003366"/>
                </a:solidFill>
                <a:latin typeface="Syntax-Bold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5490a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avancées bio-médicales, en allongeant la vie des patients, créent des besoins 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isant en la nécessité d’une nouvelle off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termes de prestations et de nouveaux serv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490a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existence d’un clivage entre promesse thérapeutique et promesse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469-8028-47BA-B7D9-357B7A074D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609480"/>
            <a:ext cx="77724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inq points clefs à retenir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4216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5490a8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existence d’un conflit entre traiteme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qualité de vi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5490a8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nécessité d’un soutien de l’observance et du suivi du soin au fil du temps (prévention de la non observance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5490a8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valuation de la santé du patient ayant une maladie chronique ne peut se réduire à une évaluation en termes de critères bio-médic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94E-D3CA-45B0-9D81-0D7192998A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’observance thérapeutique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1)</a:t>
            </a: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e désigne une variété de comportements incluant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ses médicaments en suivant la prescrip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r aux rendez-vous de suivi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les recommandations médicales et  les régimes nécessitant une modification de style de vie (régimes alimentaires, sport, réduction du str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43B-2E19-4861-ACB7-0EFDDE3B78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’observance thérapeutique 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                                       (2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aliser les procédures de soin à domicile telles qu’elles ont été prescrites ou enseign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iter les comportements dangereux pour la santé (tabac, alcool, usage de drogu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ichenbaum D., and Turk D.C ( 1987).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ting Treatment Adherence :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oner’s Guidebook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lenum Pres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4A2-C00C-4EE4-BD11-36BBEEFC5D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609120"/>
            <a:ext cx="777240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e degré d’observanc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69608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mi les personnes âgées de plus de 65 ans, seulement  45% d’entre elles prennent leurs traitements en suivant la prescription (tendance au sous-dosage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’épilepsie, 60 à 70% prennent leurs médica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7% des diabétiques suivent toutes les recommandations pour maintenir leur diabète sous contrôle (insuline, régime alimentaire, soins complémentaires, surveillances à effectuer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EEB-5F30-4AEC-895B-C09DC5539B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8026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 degré d’observanc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2)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édiatrie, seulement 50% des parents donnent à leurs enfants les médicaments prescr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famille sur deux suit  les rééducations ou thérapies recommand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’hypertension, 50% des patients suivent leurs prescriptions la première année mais ils ne sont plus que 30% à les suivre la deuxième anné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ED6-200C-47B9-9B67-7429A7A010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84836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 degré d’observanc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 la dialyse rénale, 50% seulement prennent les médicaments complémentaires et suivent  le régime diététique adéqu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’infarctus du myocarde, 50% suivent pendant un an  les recommandations d’exercice prescr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a dépression, moins de 50% prennent les médicaments prescr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28A-266C-4835-A68A-5A23EA7E3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878960" cy="91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e coût de la non observ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2209320"/>
            <a:ext cx="7772400" cy="31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1984, la Chambre de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méricaine estimait à 13-15 billion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llars le coût de la non-obser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801-DFC1-494D-B6FD-8786222FDE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a mesure de l’observance</a:t>
            </a:r>
            <a:r>
              <a:rPr b="1" lang="en-US" sz="4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1)</a:t>
            </a: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l existe plusieurs outils, parmi lesquels 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’interview du pati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’auto-questionna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comptage des comprimé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’utilisation de piluliers électroniq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1B6-7CBE-4EE5-BDEB-DF0B4A9AD0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848360" cy="609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mesure de l’observanc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2)</a:t>
            </a: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665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suivi des données administratives liées au  renouvellement d’ordonnance à la pharmaci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’utilisation de marqueurs bio-chimiqu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suivi des rendez-vou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s résultats cliniqu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’observance directe de la prise du traitement par le patient (Directly Observed Thera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28C-23E9-402A-A55E-F2C4566564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3T16:19:20Z</dcterms:created>
  <dc:creator>Comment Dire</dc:creator>
  <dc:description/>
  <dc:language>en-US</dc:language>
  <cp:lastModifiedBy>Maryline</cp:lastModifiedBy>
  <dcterms:modified xsi:type="dcterms:W3CDTF">2003-11-06T22:04:28Z</dcterms:modified>
  <cp:revision>72</cp:revision>
  <dc:subject>Maladies chroniques</dc:subject>
  <dc:title>La Prévention : Un enjeu dans le soin des maladies chroniques</dc:title>
</cp:coreProperties>
</file>