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AA2A-C831-400D-9F9D-3ED51A81E8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3A76-3A0D-46D8-A36D-7D6FDCAD7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C395-EAF4-4923-BC0F-D7825BA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622A-9BAE-469A-ABF7-C8CD18B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5947-7449-4D09-A0B5-CDC4391D9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807E0-C05C-4DD5-99C5-64ADC80B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F61A-E462-442F-89AF-9B58197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E41A4-2AF6-4478-A573-73131C35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006DB-89F7-4B04-A519-7A05368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E1C7-545E-4088-B144-B536234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5AD35-19E7-44E6-BD3F-51FC3CEC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5E79-8B06-490E-8796-FB913E0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AA88-6071-4773-B298-40BD0256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75DD6-12A9-45C5-BC98-28D98A5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8B32-164A-4C41-99A8-26048C3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5C483-E47C-45DB-922C-305FF4B6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3416C-A02C-415D-8AA9-DCF84C9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C06B-ED00-4567-AF6B-3528A125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72CB-1BDB-4011-BB9F-AD878E8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DF1C-B25E-4A9A-83B2-E72E8FD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2F65-5836-4497-997B-3ADD685B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3C30-EEB6-4881-96C0-9779403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9438-F1B2-46A5-9719-B0A70BD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5B02-AFAB-417E-87A3-54287C47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A96D-B2BC-47CF-99E7-D9AA9A5E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158-F608-4908-BABB-C3BE69630B1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BE9-D674-4A97-8737-CAEC8EB011E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Arial"/>
              </a:rPr>
              <a:t>Dépistage, réduction des risques sexuels, prévention…</a:t>
            </a:r>
            <a:br>
              <a:rPr sz="4400"/>
            </a:br>
            <a:r>
              <a:rPr b="1" lang="fr-FR" sz="4400" spc="-1" strike="noStrike">
                <a:solidFill>
                  <a:srgbClr val="ffcc66"/>
                </a:solidFill>
                <a:latin typeface="Arial"/>
              </a:rPr>
              <a:t>Le counseling en a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14800" y="441936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atherine Tourette-Turg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Maître de Conférences des Universités / Comment D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6095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3244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SIS, Journée dépistage, Paris, 16 juin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identifier les changement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qu’elle a déjà effectués ou envisage d’effectu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Identifier et Renforcer ses inten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plorer la perception du risque VIH de ses pairs,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de son entour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larifier les fausses croyances, donner les informa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nécessaires complémentai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Identifier les actions et les intention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895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809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4956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’est-ce que vous faîtes en ce moment pour protéger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os relations sexuelles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’est-ce que vos amis, vos partenaires disent sur le VI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t le SIDA 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vec qui utilisez-vous des préservatif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/…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 – Identifier les actions et les intention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895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809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lle est la fréquence d’utilisation des préservatifs av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votre partenaire habituel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lle est la fréquence d’utilisation des préservatifs av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es partenaires que vous ne connaissez pas très bien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and avez-vous commencé à réduire vos risques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’est-ce qui s’est passé à ce moment là qui a fait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vous ayez pu le faire ?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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 – Identifier les actions et les intention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038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1240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8769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4864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0570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identifier les obstacles rencontr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ans sa préven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plorer en détail ses tentatives en l’aidant à décrir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ans ses propres mots ses difficulté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ticiper d’autres obstac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Identifier les obstacles rencontré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0481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1148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105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09120" y="19810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le est  la partie la plus difficile à changer dans votr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 ?… votre attitude ?… vos croyances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s obstacles avez-vous rencontré chaque foi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vous avez essayé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s obstacles allez-vous rencontrer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vous vous en êtes sorti(e) la dernière foi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 – Identifier les obstacles rencontré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48769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5627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819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761760" y="20570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allez-vous fair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’est-ce qui va se passer si vous renoncez à vo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 habituel ?  à vos croyances ?  à vo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inion antérieur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d’après vous, va tenter de saboter vos intention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219320" y="289548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 – Identifier les obstacles rencontré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36576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5105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construire  les différentes éta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un plan de réduction des risques en y intégrant le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bstacles anticip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alider son initiative, rester centré(e) sur son senti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compétence personnelle essentielle à la réuss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l’action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3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819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26708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lle est la chose que vous pourriez faire dè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aintenant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st-ce que cela vous paraît réaliste ? Qu’est-ce q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ous fait dire que cela va marcher comme prévu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va vous aider dans votre entourage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r quelle partie de vous, allez-vous vous appuyer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3 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29718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5181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9436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quoi auriez-vous besoin pour être sûr(e) d’y arriver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n quoi ce changement va faciliter votre vi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t si vous commenciez par une chose très simple 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aire qui ne vous mettrait ni en difficulté, ni en échec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3 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39625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6483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Remerciements aux partenai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- Croix Rouge Française (Par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llule CDAG – Toulon / Conseil Général 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– Hôpital F. Widal (AP-H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Strasbourg (DDASS 67 et Hôpitaux Universitaires de Strasbour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DASS et COGES Guadeloupe (CDAG – Pointe à Pitr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t St Martin des Caraïb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RASS Midi-Pyrénées (Stages à Toulou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– Rue du Jura, Paris – Médecins du M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évaluation du risque sexuel nécessite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l’explora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vec la personne des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situation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et des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comportement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’ayant exposée passivement ou activement à un risque de cont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ormuler des questions préci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avoriser l’express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aire appel à l’histoire présente / passé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03848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41972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80060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81280" y="13716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nduire un bref historique </a:t>
            </a:r>
            <a:br>
              <a:rPr sz="2400"/>
            </a:b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du risque sexuel </a:t>
            </a:r>
            <a:br>
              <a:rPr sz="2400"/>
            </a:b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iagnostic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    préventio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Expliquer à la personne pourquoi on lui pose des questions sur ses pratiques sexuell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Parler de sexualité peut être accompagné d’émotions difficiles à gérer même si l’anonymat facilite le récit.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Poser les questions essentielles, ne pas laisser la personne nous en confier plus qu’elle ne le désire ou que l’on en a besoin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bd04924_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80880" cy="515880"/>
          </a:xfrm>
          <a:prstGeom prst="rect">
            <a:avLst/>
          </a:prstGeom>
          <a:ln w="0">
            <a:noFill/>
          </a:ln>
        </p:spPr>
      </p:pic>
      <p:pic>
        <p:nvPicPr>
          <p:cNvPr id="106" name="bd04924_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81240" cy="515880"/>
          </a:xfrm>
          <a:prstGeom prst="rect">
            <a:avLst/>
          </a:prstGeom>
          <a:ln w="0">
            <a:noFill/>
          </a:ln>
        </p:spPr>
      </p:pic>
      <p:pic>
        <p:nvPicPr>
          <p:cNvPr id="107" name="bd04924_" descr=""/>
          <p:cNvPicPr/>
          <p:nvPr/>
        </p:nvPicPr>
        <p:blipFill>
          <a:blip r:embed="rId3"/>
          <a:stretch/>
        </p:blipFill>
        <p:spPr>
          <a:xfrm>
            <a:off x="762120" y="5334120"/>
            <a:ext cx="380880" cy="515880"/>
          </a:xfrm>
          <a:prstGeom prst="rect">
            <a:avLst/>
          </a:prstGeom>
          <a:ln w="0">
            <a:noFill/>
          </a:ln>
        </p:spPr>
      </p:pic>
      <p:pic>
        <p:nvPicPr>
          <p:cNvPr id="108" name="logoCommentDire" descr=""/>
          <p:cNvPicPr/>
          <p:nvPr/>
        </p:nvPicPr>
        <p:blipFill>
          <a:blip r:embed="rId4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2743200"/>
            <a:ext cx="0" cy="3352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09588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743200"/>
            <a:ext cx="0" cy="3352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09480"/>
            <a:ext cx="3353040" cy="99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Évaluation du risque sex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971800" y="19807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’est-ce qui se passe ou qu’est-ce qui s’est passé qui fait que vous éprouvez des difficultés à avoir des relations sexuelles  protégée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 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 études montrent qu’il y a des personnes qui éprouvent le besoin d’utiliser l’alcool ou des drogues récréatives avant les rapports sexuels, en quoi ceci  s’applique-t-il à votre situation ? à celle de votre partenaire ? d’un de vos partenaire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9440" y="57150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…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05120"/>
            <a:ext cx="19051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43828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057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Identification des difficul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886200"/>
            <a:ext cx="190512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57200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0384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Exploration des contextes défavor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Exemples de questions starter sur 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l’évaluation du risqu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97180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ec quelle personne estimez-vous que vous n’avez pas besoin d’utiliser des préservatifs ? Que pense cette personne ?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y a des fois, on désire se protéger mais on n’y arrive pas, y-a-t-il des personnes avec lesquelles cela vous est arrivé ? Dans quelles circonstances ?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écrivez moi une situation dans laquelle vous avez réussi à avoir une relation sexuelle protégée. Qu’est-ce qui s’est passé qui a fait que cela a été possibl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133720"/>
            <a:ext cx="152424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505320"/>
            <a:ext cx="152424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029200"/>
            <a:ext cx="152424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traté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657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apa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029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Expérience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5410080"/>
            <a:ext cx="8384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88620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2438280"/>
            <a:ext cx="99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52680" y="457200"/>
            <a:ext cx="2819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questions st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1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ez-vous une vie sexuelle en ce moment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828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1952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floue, pour certaines personnes « en ce moment  » signifie la semaine passée, pour d’autres le mois  passé, pour d’autres encore l’année passé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267080"/>
            <a:ext cx="7315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le est la date de votre dernier rapport sexuel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quand remonte votre dernier rapport sexuel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– Exemples de pièges à évit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2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nsieur X, vous me dîtes que vous êtes marié mais vous est-il arrivé d’avoir des relations sexuelles avec d’autres femm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0020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1240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précise. Mr X peut être bi-sexuel ou homosexuel, et comme vous suggérez qu’il est hétérosexuel, il n’osera pas vous en parl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267080"/>
            <a:ext cx="6705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ez-vous des relations sexuelles au cours des derniers mois avec d’autres partenaires sexuels... des femmes... des hommes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4952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457200"/>
            <a:ext cx="2667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ièges à évi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1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3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sez-vous des préservatif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523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81952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précise. La personne peut répondre « oui » même si elle les utilise occasionnell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886200"/>
            <a:ext cx="71625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ns quel type de rencontre et de situatio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xuelle utilisez  vous des préservatifs ?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 vous n’en utilisez pas, comment faîtes-vou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2578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52680" y="457200"/>
            <a:ext cx="2667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ièges à évi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32004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1 - identifier les actions et les intentions de la pers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2 - identifier les obstacles rencontrés par la pers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3 - Aider la personne à établir un plan personnalisé de réduction des risqu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971800"/>
            <a:ext cx="0" cy="3048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05920" y="2971800"/>
            <a:ext cx="0" cy="3048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019920"/>
            <a:ext cx="7620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971800"/>
            <a:ext cx="7620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280" y="609480"/>
            <a:ext cx="3124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Réduction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de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37160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nstruire un plan de réduction  </a:t>
            </a:r>
            <a:br>
              <a:rPr sz="2400"/>
            </a:b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de risques sexuels </a:t>
            </a:r>
            <a:br>
              <a:rPr sz="2400"/>
            </a:b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réduction risques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    prév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2209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ment Dire</dc:creator>
  <dc:description/>
  <cp:keywords>Dépistage CDAG prévention réduction de risques sexuels counseling</cp:keywords>
  <dc:language>en-US</dc:language>
  <cp:lastModifiedBy>Maryline</cp:lastModifiedBy>
  <dcterms:modified xsi:type="dcterms:W3CDTF">2004-03-05T18:48:29Z</dcterms:modified>
  <cp:revision>79</cp:revision>
  <dc:subject>Journée Réflexion DEPISTAGE</dc:subject>
  <dc:title>Colloque depistage VIH  - 16 juin 2003</dc:title>
</cp:coreProperties>
</file>