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0E8-1CCF-40DE-8A75-F705925B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018-A573-4E07-9BAF-EEA0EFB1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B57-B471-44E8-9F94-9CF5074B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2C8-037B-4556-A881-DD6A6989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D619-D43B-4DE6-A0B4-B8A44DF5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88B1-EFEC-4BD2-88F7-5D99C048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9BE7-5BCC-4964-AB39-9B170BDF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DB05-135D-49C3-8FB3-A054D4CB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B57E-E4CB-4842-B630-97E0848B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FE0C-287D-4424-B6FB-6CF746E1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1571-7B30-4FA8-ADB3-0CE23B23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665-7460-491C-B109-13913A93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DEDB-1E46-4A11-91BA-79D18B7A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6A58-1A02-4C28-B500-DA2FAEB1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36F5-2D9E-4710-AF13-57DFC935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615F-DBE4-425A-80B4-A4F0D9CD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C9A9-1F88-44A8-B720-5D07AB29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83B-2ED0-4A1A-BCFC-D4CBCAAC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A7A-C3C5-4DD2-B939-BF0CCB3B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416-2EC0-405D-90C0-B12B2146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E6D-BE80-45E5-8DC2-4BB87721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4AC-3602-4476-912B-E3B0069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E9A-0CB2-4D08-A074-4612A24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37D-85F3-42A9-8261-F2784917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F2C0-C86D-46FA-8139-AE65CD49882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4167-A98D-40C2-887D-F8873916242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121680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émarche volontaire de dépistage de l’infection VIH : guideline de counsel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 Tourette-Turgis, M. Rébillo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asbourg, décembr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8300-45D6-414E-BC63-F1077ED809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685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Conseil post te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8720" y="1676160"/>
            <a:ext cx="7574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nner les résultat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érifier la compréhensi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PUIS … 1/ Si les résultats sont négatif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         … </a:t>
            </a:r>
            <a:r>
              <a:rPr b="0" lang="fr-FR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2/ Si les résultats sont posi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510-E618-4113-ABA4-541F86477D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5331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 / les résultats sont négatifs…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er à la personne ce qu'elle en pense et ce qu'elle ressent (à qui va-t-elle en parler ? comment ?...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visager avec elle les moyens qu'elle compte utiliser pour pouvoir  rester séronégativ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prendre ce qui a été vu avec la personne dans l’entretien pré-test (contexte, évaluation des risque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ter et explorer en profondeur toute procédure de prévention présentée par la pers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AB3-F6F2-4A11-AD93-35CBBD20E1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5331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 / les résultats sont négatifs…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ider la personne à concevoir ou maintenir un plan individualisé de réduction des risques (utilisation d’un script de réduction des risques adapté à sa situation 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nner l'adresse des réseaux et associations et toute information utile de prévention (brochures, dépliants...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ndre un autre rendez-vous le cas échéant, et indiquer les contenus de ce rendez-vous, les actions à conduire par la person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09A-1C2F-49A2-90C7-B863FF845C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5331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 / les résultats sont positifs…</a:t>
            </a:r>
            <a:r>
              <a:rPr b="1" lang="fr-FR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fr-FR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isser à la personne le temps d’exprimer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s émotions  (modèle d’intervention de crise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’assurer que la personne a compris le résultat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er la personne sur les stratégies thérapeutiqu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er les problèmes immédiats qui se posent ou vont se poser dans les 24 he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aluer ce qui l'inquiète le plus (A qui aimerait-elle en parler ? A qui pense-t-elle qu’elle devrait en parler ?)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7FC-8E32-430E-9CDA-AD7BCA4F11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5331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 / les résultats sont positifs…</a:t>
            </a:r>
            <a:r>
              <a:rPr b="1" lang="fr-FR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alider la personne dans ses sentiments et ses émotions et l’aider à anticiper les différentes phases du vécu de la séropositivité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er avec la personne toutes les difficultés éventuelles qu'elle anticipe et envisager concrètement les moyens de les résoud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urnir à la personne toutes informations utiles (ressources locales, documentation) et si nécessaire l’orienter vers une équipe médicale, des professionnels du soutien ou vers une associ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7010640" cy="82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D90-6B0D-4CB5-91BB-1D448784B5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90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éala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er l’accès au dépistage, accompagner la personne dans cette démarche et lui proposer une démarche de réduction des risques adaptée à sa situation personnell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’assurer que les personnes se trouvant dans des situations les exposant directement ou indirectement au risque d’infection VIH :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reçoivent un counseling de prévention et de souti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aient accès à des services psychosociaux assurant des prestations de prévention spécifiques au VIH ou complémentaires (alcool, toxicomanie, MST, grande précarité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/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7010640" cy="82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CB7-4E65-49C6-8EEC-3D68A6014D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84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s variables en jeu dans la prévention</a:t>
            </a:r>
            <a:r>
              <a:rPr b="1" lang="fr-FR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391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 risque perçu de trans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 intentions de prévent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’attitude envers les préservatif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 sentiment d’efficacité personnelle (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f efficacy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 compétences dans l’utilisation des préservatif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 compétences en communication, en négociation et en affirmation de s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E85-215C-4FF9-97B9-1FACC1EC20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jectifs du counseling dans le dépist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9080" y="1600200"/>
            <a:ext cx="7802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80"/>
                </a:solidFill>
                <a:latin typeface="Arial"/>
                <a:ea typeface="Times New Roman"/>
              </a:rPr>
              <a:t>Le counseling dans la démarche de test est une intervention centr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80"/>
                </a:solidFill>
                <a:latin typeface="Arial"/>
                <a:ea typeface="Times New Roman"/>
              </a:rPr>
              <a:t>sur la personne visant à lui permettre 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faire le point sur son histoire sexuelle présente et passée en lien avec les risques d’infection VIH, VHB, M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’explorer les informations dont elle dispose en matière de prévention du VIH et des MST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considérer les avantages et les inconvénients de sa démarche de test et de la connaissance de son statut sérologique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EC9-2179-47D0-ADE3-49F5FE5E62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685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jectifs du counseling</a:t>
            </a:r>
            <a:r>
              <a:rPr b="1" lang="fr-FR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ns le dépistage</a:t>
            </a:r>
            <a:r>
              <a:rPr b="1" lang="fr-FR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2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9080" y="1523880"/>
            <a:ext cx="780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’anticiper les difficultés liées aux résultats et de bénéficier d’un soutien lors de l’annonce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l’aider à comprendre ses attitudes et ses comportements face à l’infection au VIH, aux MST et autres risques qui leur sont indirectement liés (toxicomanie, usage d’alcool,...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mobiliser ses capacités à faire face, à initialiser ou à maintenir les changements qu’elle désire effectuer dans sa vie concernant l’infection par le VIH, la prévention, l’adoption de comportements de san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doter de compétences en prévention et en communication nécessaires au maintien de sa santé (capacités à se protéger, à négocier,  estime de soi, sentiment d’efficacité personnelle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…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F1F-CCC3-4AE1-B07F-41B1171762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685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jectifs du counseling</a:t>
            </a:r>
            <a:r>
              <a:rPr b="1" lang="fr-FR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ns le dépistage</a:t>
            </a:r>
            <a:r>
              <a:rPr b="1" lang="fr-FR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3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8720" y="1676520"/>
            <a:ext cx="7954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l’aider à concevoir un plan de réduction des risques individualisé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biliser le degré de perception objective et subjective des risques d’exposition et de transmission de l’infection VIH,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HC et des M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duire les risques perçus dans un Plan Individualisé de Réduction des Ris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ider la personne à initialiser et maintenir les changements requis par son Plan de Réduction des Ris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bénéficier immédiatement d’un soutien et d’un suivi médical en cas de résultats positifs (réduction des effets traumatiques de l’anno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085-C1F3-4852-BD13-3F12B1F543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685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-list Conseil pré test</a:t>
            </a:r>
            <a:r>
              <a:rPr b="1" lang="fr-FR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fr-F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9080" y="1447560"/>
            <a:ext cx="780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ueil et présentation mut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ésentation des objectifs des entretiens pré et post test avec indication de la durée de l’entretie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er à la personne ce qui l'amène à effectuer cette démarche aujourd'hui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ider la personne à identifier son niveau d'exposition à un ou plusieurs risques ainsi que leurs contextes (relations, usage d’alcool, usage de drogues, évènements négatifs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érifier les connaissances de la personne sur les modes de transmission et de prévention ainsi que sur le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722-7AED-47BA-A1A6-CBEA6712E0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685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-list Conseil pré test (2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9080" y="1600200"/>
            <a:ext cx="7802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ire une rapide évaluation des risques (nombre de partenaires présents et passés, types de pratiques sexuelles, type de contraception, historique des MST, Risque de grossesse, de MST, et HIV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ider la personne à faire le point sur les stratégies de prévention qu’elle a déjà utilisé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r l’impact  de sa démarche de test sur son entourag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ticiper les émotions liées aux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E6C-4E3A-4ED1-BED0-4C305BBA2E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685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-list Conseil pré test  (3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9080" y="1676160"/>
            <a:ext cx="7726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er à la personne d'évaluer les avantages et les inconvénients de sa démarche d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quer à la personne tous les numéros utiles dont elle pourrait avoir besoin pendant l’attente des résultats (SIS, réseaux, associations...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éparer avec la personne le prochain rendez-vous en indiquant les objectifs et les contenus de l’entretien post-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NT DIRE -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54C-E902-497D-AA94-3700427C98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5:57:49Z</dcterms:created>
  <dc:creator>Catherine Tourette-Turgis, Maryline Rébillon</dc:creator>
  <dc:description/>
  <dc:language>en-US</dc:language>
  <cp:lastModifiedBy>Maryline</cp:lastModifiedBy>
  <dcterms:modified xsi:type="dcterms:W3CDTF">2003-11-28T10:43:35Z</dcterms:modified>
  <cp:revision>155</cp:revision>
  <dc:subject>Dépistage  et Counseling</dc:subject>
  <dc:title>Démarche volontaire de dépistage de l’infection VIH : guideline de counseling</dc:title>
</cp:coreProperties>
</file>