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2E50-A691-4CF1-92EE-BD95511AB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80CD-0E5C-41C5-B5B7-5BB3BC39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2EA2-3B1C-402B-B0DC-FC5327A3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40A5-3CE8-4F77-8159-F412922D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C644-C566-4C36-9C83-A62163CE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ECC8-6F2C-496C-A4DE-1E21441A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62CE-2168-4B5D-A589-3C1893DB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F87C-6723-4455-9A6D-69C1862A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5AE7-C5CE-4E65-B4B1-D4F05547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A29B-7B30-44E3-9A32-7C7E7D31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03C3-6954-4EAC-A1EE-767324F9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8A89-342D-4854-99C9-F442AF48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6A6D-BB0A-41F9-9CA0-0764EFEC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D835-9A41-4DCB-97D3-A5B92CD4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E1FB-2999-4FD6-9F00-30CBF90B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8287-99AF-4514-AA5C-134E073B7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D28C-7FE2-4C01-AD2F-20FE3C0C6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B151-BE9B-4A4E-8249-2BBD890A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6EA6-6493-4B98-9E44-7E29A110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71B5-3C5D-4FDE-A207-25C43BA5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43D6-8C4D-4D09-B7F0-1460DE47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BD07-1D33-4844-9404-EECF329B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3E1E-6EE5-454F-B44B-BEFAF8B3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F4F4-673F-4683-9E8B-7A7BB85B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910800" y="0"/>
            <a:ext cx="3762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11160" y="4489560"/>
            <a:ext cx="647388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918540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10287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10287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10287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10287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94377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515160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8650-70A0-4FDB-A447-C9FA75EE12A2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910800" y="0"/>
            <a:ext cx="3762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11160" y="4489560"/>
            <a:ext cx="647388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918540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10287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10287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10287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10287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94377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515160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1120" y="2285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7A48-833F-48CA-A1F0-A0B94DDECD88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1676520"/>
            <a:ext cx="9296280" cy="457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1447920"/>
            <a:ext cx="8381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66"/>
                </a:solidFill>
                <a:latin typeface="Arial"/>
              </a:rPr>
              <a:t>Prévention des infections sexuellement transmissibles &amp; Qualité de vie sexuelle</a:t>
            </a:r>
            <a:br>
              <a:rPr sz="3200"/>
            </a:br>
            <a:r>
              <a:rPr b="0" i="1" lang="fr-FR" sz="3200" spc="-1" strike="noStrike">
                <a:solidFill>
                  <a:srgbClr val="ffcc66"/>
                </a:solidFill>
                <a:latin typeface="Arial"/>
              </a:rPr>
              <a:t>Projet pilote d’une plateforme d’information, d’écoute et de soutien pour des personnes séropositives au VIH suivies en milieu hospital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579132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rojet 2004-2005 mis en œuvre par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Counseling, Santé et Développ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 flipH="1">
            <a:off x="1600200" y="925560"/>
            <a:ext cx="8305920" cy="59324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7764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2209680"/>
            <a:ext cx="799776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ddf9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df9ff"/>
                </a:solidFill>
                <a:latin typeface="Maiandra GD"/>
              </a:rPr>
              <a:t> </a:t>
            </a:r>
            <a:r>
              <a:rPr b="1" lang="fr-FR" sz="2000" spc="-1" strike="noStrike">
                <a:solidFill>
                  <a:srgbClr val="ddf9ff"/>
                </a:solidFill>
                <a:latin typeface="Maiandra GD"/>
              </a:rPr>
              <a:t>Estime de soi et capacités de résili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df9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ddf9ff"/>
                </a:solidFill>
                <a:latin typeface="Maiandra GD"/>
              </a:rPr>
              <a:t> </a:t>
            </a:r>
            <a:r>
              <a:rPr b="1" lang="fr-FR" sz="2000" spc="-1" strike="noStrike">
                <a:solidFill>
                  <a:srgbClr val="ddf9ff"/>
                </a:solidFill>
                <a:latin typeface="Maiandra GD"/>
              </a:rPr>
              <a:t>Impact du manque d’estime de soi dans la relation </a:t>
            </a:r>
            <a:br>
              <a:rPr sz="2000"/>
            </a:br>
            <a:r>
              <a:rPr b="1" lang="fr-FR" sz="2000" spc="-1" strike="noStrike">
                <a:solidFill>
                  <a:srgbClr val="ddf9ff"/>
                </a:solidFill>
                <a:latin typeface="Maiandra GD"/>
              </a:rPr>
              <a:t>   avec les aut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df9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ddf9ff"/>
                </a:solidFill>
                <a:latin typeface="Maiandra GD"/>
              </a:rPr>
              <a:t> </a:t>
            </a:r>
            <a:r>
              <a:rPr b="1" lang="fr-FR" sz="2000" spc="-1" strike="noStrike">
                <a:solidFill>
                  <a:srgbClr val="ddf9ff"/>
                </a:solidFill>
                <a:latin typeface="Maiandra GD"/>
              </a:rPr>
              <a:t>A</a:t>
            </a:r>
            <a:r>
              <a:rPr b="1" lang="fr-FR" sz="2000" spc="-1" strike="noStrike">
                <a:solidFill>
                  <a:srgbClr val="ffffff"/>
                </a:solidFill>
                <a:latin typeface="Maiandra GD"/>
              </a:rPr>
              <a:t>uto-verbalisations positives/négatives et conduites 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Maiandra GD"/>
              </a:rPr>
              <a:t>  d’auto sabotag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Maiandra GD"/>
              </a:rPr>
              <a:t>Projets et relations aux autres à partir d’une meilleure 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Maiandra GD"/>
              </a:rPr>
              <a:t>  estime de so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36680" y="6461280"/>
            <a:ext cx="3962160" cy="398880"/>
            <a:chOff x="436680" y="6461280"/>
            <a:chExt cx="3962160" cy="398880"/>
          </a:xfrm>
        </p:grpSpPr>
        <p:sp>
          <p:nvSpPr>
            <p:cNvPr id="171" name=""/>
            <p:cNvSpPr/>
            <p:nvPr/>
          </p:nvSpPr>
          <p:spPr>
            <a:xfrm>
              <a:off x="436680" y="6553080"/>
              <a:ext cx="3962160" cy="228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9d87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8760" y="6461280"/>
              <a:ext cx="363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SEXUALITE  ET  PREVENTION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0" y="228600"/>
            <a:ext cx="10287000" cy="12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66ff"/>
                </a:solidFill>
                <a:latin typeface="Maiandra GD"/>
              </a:rPr>
              <a:t>Atelier ESTIME DE SOI</a:t>
            </a:r>
            <a:r>
              <a:rPr b="0" lang="fr-FR" sz="3600" spc="-1" strike="noStrike">
                <a:solidFill>
                  <a:srgbClr val="000000"/>
                </a:solidFill>
                <a:latin typeface="Maiandra GD"/>
              </a:rPr>
              <a:t>                  </a:t>
            </a:r>
            <a:r>
              <a:rPr b="1" i="1" lang="fr-FR" sz="2800" spc="-1" strike="noStrike">
                <a:solidFill>
                  <a:srgbClr val="ffffff"/>
                </a:solidFill>
                <a:latin typeface="Maiandra GD"/>
              </a:rPr>
              <a:t>Exemples de thèmes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 flipH="1">
            <a:off x="1599480" y="1447920"/>
            <a:ext cx="7924680" cy="54100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7764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514600"/>
            <a:ext cx="815004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buClr>
                <a:srgbClr val="ddf9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ddf9ff"/>
                </a:solidFill>
                <a:latin typeface="Maiandra GD"/>
              </a:rPr>
              <a:t>Apprentissage techniques de négociation en situations de rencontres affectives et sexuel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ddf9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ddf9ff"/>
                </a:solidFill>
                <a:latin typeface="Maiandra GD"/>
              </a:rPr>
              <a:t> </a:t>
            </a:r>
            <a:r>
              <a:rPr b="1" lang="fr-FR" sz="2000" spc="-1" strike="noStrike">
                <a:solidFill>
                  <a:srgbClr val="ddf9ff"/>
                </a:solidFill>
                <a:latin typeface="Maiandra GD"/>
              </a:rPr>
              <a:t>Situations présentées, jouées en groupe, discuté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ddf9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ddf9ff"/>
                </a:solidFill>
                <a:latin typeface="Maiandra GD"/>
              </a:rPr>
              <a:t> </a:t>
            </a:r>
            <a:r>
              <a:rPr b="1" lang="fr-FR" sz="2000" spc="-1" strike="noStrike">
                <a:solidFill>
                  <a:srgbClr val="ddf9ff"/>
                </a:solidFill>
                <a:latin typeface="Maiandra GD"/>
              </a:rPr>
              <a:t>Climat lud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41600" y="6461280"/>
            <a:ext cx="3962160" cy="398880"/>
            <a:chOff x="741600" y="6461280"/>
            <a:chExt cx="3962160" cy="398880"/>
          </a:xfrm>
        </p:grpSpPr>
        <p:sp>
          <p:nvSpPr>
            <p:cNvPr id="177" name=""/>
            <p:cNvSpPr/>
            <p:nvPr/>
          </p:nvSpPr>
          <p:spPr>
            <a:xfrm>
              <a:off x="741600" y="6553080"/>
              <a:ext cx="3962160" cy="228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9d87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13680" y="6461280"/>
              <a:ext cx="363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SEXUALITE  ET  PREVENTION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0" y="228600"/>
            <a:ext cx="10287000" cy="12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66ff"/>
                </a:solidFill>
                <a:latin typeface="Maiandra GD"/>
              </a:rPr>
              <a:t>Atelier TECHNIQUES DE NEGOCIATION</a:t>
            </a:r>
            <a:r>
              <a:rPr b="0" lang="fr-FR" sz="3600" spc="-1" strike="noStrike">
                <a:solidFill>
                  <a:srgbClr val="000000"/>
                </a:solidFill>
                <a:latin typeface="Maiandra GD"/>
              </a:rPr>
              <a:t>     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Maiandra GD"/>
              </a:rPr>
              <a:t>                                                  </a:t>
            </a:r>
            <a:r>
              <a:rPr b="1" i="1" lang="fr-FR" sz="2800" spc="-1" strike="noStrike">
                <a:solidFill>
                  <a:srgbClr val="ffffff"/>
                </a:solidFill>
                <a:latin typeface="Maiandra GD"/>
              </a:rPr>
              <a:t>Exemples de thèmes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7764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71320" y="6461280"/>
            <a:ext cx="3959280" cy="398880"/>
            <a:chOff x="571320" y="6461280"/>
            <a:chExt cx="3959280" cy="398880"/>
          </a:xfrm>
        </p:grpSpPr>
        <p:sp>
          <p:nvSpPr>
            <p:cNvPr id="182" name=""/>
            <p:cNvSpPr/>
            <p:nvPr/>
          </p:nvSpPr>
          <p:spPr>
            <a:xfrm>
              <a:off x="571320" y="6522840"/>
              <a:ext cx="3959280" cy="291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9d87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1040" y="6461280"/>
              <a:ext cx="363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SEXUALITE  ET  PREVENTION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600200" y="2743200"/>
            <a:ext cx="8381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Maiandra GD"/>
              </a:rPr>
              <a:t>Préservatif féminin et mascul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Maiandra GD"/>
              </a:rPr>
              <a:t>Connaissances préservatifs et us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Maiandra GD"/>
              </a:rPr>
              <a:t>Jeux de rôles : négociation préservatifs lors de rencontre sexuel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Maiandra GD"/>
              </a:rPr>
              <a:t>Familiaris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Maiandra GD"/>
              </a:rPr>
              <a:t>Discussions à partir de difficultés dans situations véc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28600"/>
            <a:ext cx="10287000" cy="12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66ff"/>
                </a:solidFill>
                <a:latin typeface="Maiandra GD"/>
              </a:rPr>
              <a:t>Atelier PRESERVATIFS</a:t>
            </a:r>
            <a:r>
              <a:rPr b="0" lang="fr-FR" sz="3600" spc="-1" strike="noStrike">
                <a:solidFill>
                  <a:srgbClr val="000000"/>
                </a:solidFill>
                <a:latin typeface="Maiandra GD"/>
              </a:rPr>
              <a:t>     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Maiandra GD"/>
              </a:rPr>
              <a:t>                                                  </a:t>
            </a:r>
            <a:r>
              <a:rPr b="1" i="1" lang="fr-FR" sz="2800" spc="-1" strike="noStrike">
                <a:solidFill>
                  <a:srgbClr val="ffffff"/>
                </a:solidFill>
                <a:latin typeface="Maiandra GD"/>
              </a:rPr>
              <a:t>Exemples de thèmes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1328760"/>
            <a:ext cx="152280" cy="4995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147840" y="6537240"/>
            <a:ext cx="3959280" cy="398880"/>
            <a:chOff x="3147840" y="6537240"/>
            <a:chExt cx="3959280" cy="398880"/>
          </a:xfrm>
        </p:grpSpPr>
        <p:sp>
          <p:nvSpPr>
            <p:cNvPr id="188" name=""/>
            <p:cNvSpPr/>
            <p:nvPr/>
          </p:nvSpPr>
          <p:spPr>
            <a:xfrm>
              <a:off x="3147840" y="6537240"/>
              <a:ext cx="3959280" cy="343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9d87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72480" y="6537240"/>
              <a:ext cx="363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SEXUALITE  ET  PREVENTION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0" y="181800"/>
            <a:ext cx="10287000" cy="1008360"/>
          </a:xfrm>
          <a:prstGeom prst="rect">
            <a:avLst/>
          </a:prstGeom>
          <a:gradFill rotWithShape="0">
            <a:gsLst>
              <a:gs pos="0">
                <a:srgbClr val="3d3317"/>
              </a:gs>
              <a:gs pos="50000">
                <a:srgbClr val="f7ce5b"/>
              </a:gs>
              <a:gs pos="100000">
                <a:srgbClr val="3d33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Maiandra GD"/>
              </a:rPr>
              <a:t>LE DISPOSITIF</a:t>
            </a:r>
            <a:r>
              <a:rPr b="1" lang="fr-FR" sz="2400" spc="-1" strike="noStrike">
                <a:solidFill>
                  <a:srgbClr val="ffffff"/>
                </a:solidFill>
                <a:latin typeface="Maiandra GD"/>
              </a:rPr>
              <a:t>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1" i="1" lang="fr-FR" sz="2400" spc="-1" strike="noStrike">
                <a:solidFill>
                  <a:srgbClr val="ffffff"/>
                </a:solidFill>
                <a:latin typeface="Maiandra GD"/>
              </a:rPr>
              <a:t>Outils de suivi et d’éval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1828800"/>
            <a:ext cx="8686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n carnet de suivi du dispositif dans son ensemble et sur les deux sites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Un dossier d’évaluation individuel rempli par les médecins à l’issue de la consultation d’information et de soutien en prévention  ou de sexolog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Un compte rendu des ateliers rédigé par les intervenant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n questionnaire patient :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d’évaluation de la consultation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d’information et de soutien en prévention et/ou de sexologie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- d’évaluation des atel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914400"/>
            <a:ext cx="5029200" cy="59436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838080"/>
            <a:ext cx="163440" cy="6019920"/>
          </a:xfrm>
          <a:prstGeom prst="rect">
            <a:avLst/>
          </a:prstGeom>
          <a:gradFill rotWithShape="0">
            <a:gsLst>
              <a:gs pos="0">
                <a:srgbClr val="3d3317"/>
              </a:gs>
              <a:gs pos="100000">
                <a:srgbClr val="f5c2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65600" y="6566040"/>
            <a:ext cx="2787480" cy="2919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9d87b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7ce5b"/>
                </a:solidFill>
                <a:uFillTx/>
                <a:latin typeface="Maiandra GD"/>
              </a:rPr>
              <a:t>UN PROGRAMME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« d’information et d’accompagnement sur la prévention 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direction 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onnes séropositives 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7ce5b"/>
                </a:solidFill>
                <a:uFillTx/>
                <a:latin typeface="Maiandra GD"/>
              </a:rPr>
              <a:t>MIS EN OEUV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 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Counseling, Santé 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Développement &amp; 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ent D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sous la responsabilité scientifique de Catherine Tourette-Turg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9920" y="1523880"/>
            <a:ext cx="3805200" cy="45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7ce5b"/>
                </a:solidFill>
                <a:uFillTx/>
                <a:latin typeface="Maiandra GD"/>
              </a:rPr>
              <a:t>DANS DEUX S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IT de l’hôpital  Saint Anto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d’immunologie de l’HEGP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7ce5b"/>
                </a:solidFill>
                <a:uFillTx/>
                <a:latin typeface="Maiandra GD"/>
              </a:rPr>
              <a:t>GRACE A UN FINANC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du Ministère de la Sant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7ce5b"/>
                </a:solidFill>
                <a:uFillTx/>
                <a:latin typeface="Maiandra GD"/>
              </a:rPr>
              <a:t>EN PARTENARI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ides Ile de France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RIP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les équipes des deux site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t en collaboration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vec un groupe de patient(e)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6553080"/>
            <a:ext cx="4343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SEXUALITE  ET  PREVEN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64680"/>
            <a:ext cx="10287000" cy="642600"/>
          </a:xfrm>
          <a:prstGeom prst="rect">
            <a:avLst/>
          </a:prstGeom>
          <a:gradFill rotWithShape="0">
            <a:gsLst>
              <a:gs pos="0">
                <a:srgbClr val="3d3317"/>
              </a:gs>
              <a:gs pos="50000">
                <a:srgbClr val="f7ce5b"/>
              </a:gs>
              <a:gs pos="100000">
                <a:srgbClr val="3d33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Maiandra GD"/>
              </a:rPr>
              <a:t>LE PROJET PILOTE</a:t>
            </a:r>
            <a:r>
              <a:rPr b="1" lang="fr-FR" sz="2400" spc="-1" strike="noStrike">
                <a:solidFill>
                  <a:srgbClr val="ffffff"/>
                </a:solidFill>
                <a:latin typeface="Maiandra G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094360" y="1328760"/>
            <a:ext cx="163440" cy="5529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912680"/>
            <a:ext cx="4495680" cy="45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7ce5b"/>
                </a:solidFill>
                <a:uFillTx/>
                <a:latin typeface="Maiandra GD"/>
              </a:rPr>
              <a:t>ENTRETIENS INDIVIDUEL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7ce5b"/>
                </a:solidFill>
                <a:uFillTx/>
                <a:latin typeface="Maiandra GD"/>
              </a:rPr>
              <a:t>OU EN COUP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Maiandra GD"/>
              </a:rPr>
              <a:t>Consultation d’information et de soutien en prév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Maiandra GD"/>
              </a:rPr>
              <a:t>Consultation de sex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38680" y="1905120"/>
            <a:ext cx="4191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7ce5b"/>
                </a:solidFill>
                <a:uFillTx/>
                <a:latin typeface="Maiandra GD"/>
              </a:rPr>
              <a:t>ACTIVITES EN PETIT GROUPE </a:t>
            </a:r>
            <a:br>
              <a:rPr sz="2000"/>
            </a:br>
            <a:r>
              <a:rPr b="1" lang="fr-FR" sz="2000" spc="-1" strike="noStrike" u="sng">
                <a:solidFill>
                  <a:srgbClr val="f7ce5b"/>
                </a:solidFill>
                <a:uFillTx/>
                <a:latin typeface="Maiandra GD"/>
              </a:rPr>
              <a:t>DE 12 PERSONNES ENVIR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5c2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Maiandra GD"/>
              </a:rPr>
              <a:t>Atelier estime de so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5c2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Maiandra GD"/>
              </a:rPr>
              <a:t>Atelier techniques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Maiandra GD"/>
              </a:rPr>
              <a:t>   de négoc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5c2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Maiandra GD"/>
              </a:rPr>
              <a:t>Atelier préservatifs 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Maiandra GD"/>
              </a:rPr>
              <a:t>  (masculin et fémini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5c2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Maiandra GD"/>
              </a:rPr>
              <a:t>Groupes de par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147840" y="6537240"/>
            <a:ext cx="3959280" cy="398880"/>
            <a:chOff x="3147840" y="6537240"/>
            <a:chExt cx="3959280" cy="398880"/>
          </a:xfrm>
        </p:grpSpPr>
        <p:sp>
          <p:nvSpPr>
            <p:cNvPr id="114" name=""/>
            <p:cNvSpPr/>
            <p:nvPr/>
          </p:nvSpPr>
          <p:spPr>
            <a:xfrm>
              <a:off x="3147840" y="6537240"/>
              <a:ext cx="3959280" cy="343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9d87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72480" y="6537240"/>
              <a:ext cx="363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SEXUALITE  ET  PREVENTION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0" y="181800"/>
            <a:ext cx="10287000" cy="1008360"/>
          </a:xfrm>
          <a:prstGeom prst="rect">
            <a:avLst/>
          </a:prstGeom>
          <a:gradFill rotWithShape="0">
            <a:gsLst>
              <a:gs pos="0">
                <a:srgbClr val="3d3317"/>
              </a:gs>
              <a:gs pos="50000">
                <a:srgbClr val="f7ce5b"/>
              </a:gs>
              <a:gs pos="100000">
                <a:srgbClr val="3d33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Maiandra GD"/>
              </a:rPr>
              <a:t>LE DISPOSITIF</a:t>
            </a:r>
            <a:r>
              <a:rPr b="1" lang="fr-FR" sz="2400" spc="-1" strike="noStrike">
                <a:solidFill>
                  <a:srgbClr val="ffffff"/>
                </a:solidFill>
                <a:latin typeface="Maiandra GD"/>
              </a:rPr>
              <a:t> </a:t>
            </a:r>
            <a:br>
              <a:rPr sz="2400"/>
            </a:br>
            <a:r>
              <a:rPr b="1" i="1" lang="fr-FR" sz="2400" spc="-1" strike="noStrike">
                <a:solidFill>
                  <a:srgbClr val="ffffff"/>
                </a:solidFill>
                <a:latin typeface="Maiandra GD"/>
              </a:rPr>
              <a:t>Une plate-forme de prise en charge diversifi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7764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352680" y="1371600"/>
            <a:ext cx="6400800" cy="5486400"/>
          </a:xfrm>
          <a:prstGeom prst="rect">
            <a:avLst/>
          </a:prstGeom>
          <a:gradFill rotWithShape="0">
            <a:gsLst>
              <a:gs pos="0">
                <a:srgbClr val="77642d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2438280"/>
            <a:ext cx="1879560" cy="22071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3cf35"/>
                </a:solidFill>
                <a:latin typeface="Comic Sans MS"/>
              </a:rPr>
              <a:t>Consultation</a:t>
            </a:r>
            <a:br>
              <a:rPr sz="2000"/>
            </a:br>
            <a:r>
              <a:rPr b="1" lang="fr-FR" sz="2000" spc="-1" strike="noStrike">
                <a:solidFill>
                  <a:srgbClr val="f3cf35"/>
                </a:solidFill>
                <a:latin typeface="Comic Sans MS"/>
              </a:rPr>
              <a:t>médic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3cf35"/>
                </a:solidFill>
                <a:latin typeface="Comic Sans MS"/>
              </a:rPr>
              <a:t>Diagnost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3cf35"/>
                </a:solidFill>
                <a:latin typeface="Comic Sans MS"/>
              </a:rPr>
              <a:t>Sensibilis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3cf35"/>
                </a:solidFill>
                <a:latin typeface="Comic Sans MS"/>
              </a:rPr>
              <a:t>Moti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3cf35"/>
                </a:solidFill>
                <a:latin typeface="Comic Sans MS"/>
              </a:rPr>
              <a:t>Ori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18240" y="1278000"/>
            <a:ext cx="154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7984400">
            <a:off x="3692880" y="3273840"/>
            <a:ext cx="490680" cy="1143000"/>
          </a:xfrm>
          <a:prstGeom prst="downArrow">
            <a:avLst>
              <a:gd name="adj1" fmla="val 50000"/>
              <a:gd name="adj2" fmla="val 58236"/>
            </a:avLst>
          </a:prstGeom>
          <a:gradFill rotWithShape="0">
            <a:gsLst>
              <a:gs pos="0">
                <a:srgbClr val="f5c233"/>
              </a:gs>
              <a:gs pos="100000">
                <a:srgbClr val="3d33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4326200">
            <a:off x="3706560" y="2538000"/>
            <a:ext cx="466920" cy="1295280"/>
          </a:xfrm>
          <a:prstGeom prst="downArrow">
            <a:avLst>
              <a:gd name="adj1" fmla="val 50000"/>
              <a:gd name="adj2" fmla="val 69352"/>
            </a:avLst>
          </a:prstGeom>
          <a:gradFill rotWithShape="0">
            <a:gsLst>
              <a:gs pos="0">
                <a:srgbClr val="f5c233"/>
              </a:gs>
              <a:gs pos="100000">
                <a:srgbClr val="3d33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880" y="6537240"/>
            <a:ext cx="3959280" cy="398880"/>
            <a:chOff x="2880" y="6537240"/>
            <a:chExt cx="3959280" cy="398880"/>
          </a:xfrm>
        </p:grpSpPr>
        <p:sp>
          <p:nvSpPr>
            <p:cNvPr id="124" name=""/>
            <p:cNvSpPr/>
            <p:nvPr/>
          </p:nvSpPr>
          <p:spPr>
            <a:xfrm>
              <a:off x="2880" y="6537240"/>
              <a:ext cx="3959280" cy="343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9d87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7520" y="6537240"/>
              <a:ext cx="363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SEXUALITE  ET  PREVENTION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4572000" y="1752480"/>
            <a:ext cx="5029200" cy="198396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ffff"/>
                </a:solidFill>
                <a:latin typeface="Times New Roman"/>
              </a:rPr>
              <a:t>Consultation information et soutien </a:t>
            </a:r>
            <a:br>
              <a:rPr sz="2200"/>
            </a:br>
            <a:r>
              <a:rPr b="1" lang="fr-FR" sz="2200" spc="-1" strike="noStrike">
                <a:solidFill>
                  <a:srgbClr val="00ffff"/>
                </a:solidFill>
                <a:latin typeface="Times New Roman"/>
              </a:rPr>
              <a:t>en prévention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5c233"/>
                </a:solidFill>
                <a:latin typeface="Times New Roman"/>
              </a:rPr>
              <a:t>Elle est assurée sur </a:t>
            </a:r>
            <a:r>
              <a:rPr b="1" i="1" lang="fr-FR" sz="2000" spc="-1" strike="noStrike" u="sng">
                <a:solidFill>
                  <a:srgbClr val="f5c233"/>
                </a:solidFill>
                <a:uFillTx/>
                <a:latin typeface="Times New Roman"/>
              </a:rPr>
              <a:t>rendez-vous</a:t>
            </a:r>
            <a:r>
              <a:rPr b="1" i="1" lang="fr-FR" sz="2000" spc="-1" strike="noStrike">
                <a:solidFill>
                  <a:srgbClr val="f5c233"/>
                </a:solidFill>
                <a:latin typeface="Times New Roman"/>
              </a:rPr>
              <a:t> par un médec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5c233"/>
                </a:solidFill>
                <a:latin typeface="Times New Roman"/>
              </a:rPr>
              <a:t>Elle fonctionne 3 heures par semain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5c233"/>
                </a:solidFill>
                <a:latin typeface="Times New Roman"/>
              </a:rPr>
              <a:t>Elle propose 4 entretiens de 40 minut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4267080"/>
            <a:ext cx="5029200" cy="164880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ffff"/>
                </a:solidFill>
                <a:latin typeface="Times New Roman"/>
              </a:rPr>
              <a:t>Consultation de sexologi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5c233"/>
                </a:solidFill>
                <a:latin typeface="Times New Roman"/>
              </a:rPr>
              <a:t>Elle est assurée sur </a:t>
            </a:r>
            <a:r>
              <a:rPr b="1" i="1" lang="fr-FR" sz="2000" spc="-1" strike="noStrike" u="sng">
                <a:solidFill>
                  <a:srgbClr val="f5c233"/>
                </a:solidFill>
                <a:uFillTx/>
                <a:latin typeface="Times New Roman"/>
              </a:rPr>
              <a:t>rendez-vous</a:t>
            </a:r>
            <a:r>
              <a:rPr b="1" i="1" lang="fr-FR" sz="2000" spc="-1" strike="noStrike">
                <a:solidFill>
                  <a:srgbClr val="f5c233"/>
                </a:solidFill>
                <a:latin typeface="Times New Roman"/>
              </a:rPr>
              <a:t> par un sexologu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5c233"/>
                </a:solidFill>
                <a:latin typeface="Times New Roman"/>
              </a:rPr>
              <a:t>Elle fonctionne 3 heures deux fois par moi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5c233"/>
                </a:solidFill>
                <a:latin typeface="Times New Roman"/>
              </a:rPr>
              <a:t>Elle propose 2 entretie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-1080"/>
            <a:ext cx="10287000" cy="1374120"/>
          </a:xfrm>
          <a:prstGeom prst="rect">
            <a:avLst/>
          </a:prstGeom>
          <a:gradFill rotWithShape="0">
            <a:gsLst>
              <a:gs pos="0">
                <a:srgbClr val="3d3317"/>
              </a:gs>
              <a:gs pos="50000">
                <a:srgbClr val="f7ce5b"/>
              </a:gs>
              <a:gs pos="100000">
                <a:srgbClr val="3d33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Maiandra GD"/>
              </a:rPr>
              <a:t>LE DISPOSITIF</a:t>
            </a:r>
            <a:r>
              <a:rPr b="1" lang="fr-FR" sz="2400" spc="-1" strike="noStrike">
                <a:solidFill>
                  <a:srgbClr val="ffffff"/>
                </a:solidFill>
                <a:latin typeface="Maiandra GD"/>
              </a:rPr>
              <a:t> </a:t>
            </a:r>
            <a:br>
              <a:rPr sz="2400"/>
            </a:br>
            <a:r>
              <a:rPr b="1" i="1" lang="fr-FR" sz="2400" spc="-1" strike="noStrike">
                <a:solidFill>
                  <a:srgbClr val="ffffff"/>
                </a:solidFill>
                <a:latin typeface="Maiandra GD"/>
              </a:rPr>
              <a:t>mode d’accès des patientEs aux consultations </a:t>
            </a:r>
            <a:br>
              <a:rPr sz="2400"/>
            </a:br>
            <a:r>
              <a:rPr b="1" i="1" lang="fr-FR" sz="2400" spc="-1" strike="noStrike">
                <a:solidFill>
                  <a:srgbClr val="ffffff"/>
                </a:solidFill>
                <a:latin typeface="Maiandra GD"/>
              </a:rPr>
              <a:t>&amp;  fonctionnement des consult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7764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352680" y="1143000"/>
            <a:ext cx="6477120" cy="5715000"/>
          </a:xfrm>
          <a:prstGeom prst="rect">
            <a:avLst/>
          </a:prstGeom>
          <a:gradFill rotWithShape="0">
            <a:gsLst>
              <a:gs pos="0">
                <a:srgbClr val="77642d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18240" y="1278000"/>
            <a:ext cx="154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447920"/>
            <a:ext cx="4800600" cy="1923480"/>
          </a:xfrm>
          <a:prstGeom prst="rect">
            <a:avLst/>
          </a:prstGeom>
          <a:noFill/>
          <a:ln w="12600">
            <a:solidFill>
              <a:srgbClr val="f5c2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ffff"/>
                </a:solidFill>
                <a:latin typeface="Comic Sans MS"/>
              </a:rPr>
              <a:t>Atelier estime de soi</a:t>
            </a:r>
            <a:br>
              <a:rPr sz="2000"/>
            </a:br>
            <a:r>
              <a:rPr b="1" i="1" lang="fr-FR" sz="2000" spc="-1" strike="noStrike">
                <a:solidFill>
                  <a:srgbClr val="f5c233"/>
                </a:solidFill>
                <a:latin typeface="Times New Roman"/>
              </a:rPr>
              <a:t>Il est animé par Comment Dire à concurrence d’un atelier par hôpital.</a:t>
            </a:r>
            <a:br>
              <a:rPr sz="2000"/>
            </a:br>
            <a:r>
              <a:rPr b="1" i="1" lang="fr-FR" sz="2000" spc="-1" strike="noStrike">
                <a:solidFill>
                  <a:srgbClr val="f5c233"/>
                </a:solidFill>
                <a:latin typeface="Times New Roman"/>
              </a:rPr>
              <a:t>Il propose 2 séances de 3 h (ou 3 séances de  2 heures) à 3 semaines d’intervalle.</a:t>
            </a:r>
            <a:br>
              <a:rPr sz="2000"/>
            </a:br>
            <a:r>
              <a:rPr b="1" i="1" lang="fr-FR" sz="2000" spc="-1" strike="noStrike">
                <a:solidFill>
                  <a:srgbClr val="f5c233"/>
                </a:solidFill>
                <a:latin typeface="Times New Roman"/>
              </a:rPr>
              <a:t>Il s’adresse aux patientEs qui s’inscrive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5410080"/>
            <a:ext cx="4876920" cy="703800"/>
          </a:xfrm>
          <a:prstGeom prst="rect">
            <a:avLst/>
          </a:prstGeom>
          <a:noFill/>
          <a:ln w="12600">
            <a:solidFill>
              <a:srgbClr val="f5c2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ffff"/>
                </a:solidFill>
                <a:latin typeface="Comic Sans MS"/>
              </a:rPr>
              <a:t>Atelier techniques de négociation</a:t>
            </a:r>
            <a:br>
              <a:rPr sz="2000"/>
            </a:br>
            <a:r>
              <a:rPr b="1" i="1" lang="fr-FR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i="1" lang="fr-FR" sz="2000" spc="-1" strike="noStrike">
                <a:solidFill>
                  <a:srgbClr val="f5c233"/>
                </a:solidFill>
                <a:latin typeface="Times New Roman"/>
              </a:rPr>
              <a:t>Idem atelier Estime de so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3581280"/>
            <a:ext cx="3505320" cy="1618560"/>
          </a:xfrm>
          <a:prstGeom prst="rect">
            <a:avLst/>
          </a:prstGeom>
          <a:noFill/>
          <a:ln w="12600">
            <a:solidFill>
              <a:srgbClr val="f5c2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ffff"/>
                </a:solidFill>
                <a:latin typeface="Comic Sans MS"/>
              </a:rPr>
              <a:t>Atelier préservatifs</a:t>
            </a:r>
            <a:br>
              <a:rPr sz="2000"/>
            </a:br>
            <a:r>
              <a:rPr b="1" i="1" lang="fr-FR" sz="2000" spc="-1" strike="noStrike">
                <a:solidFill>
                  <a:srgbClr val="f5c233"/>
                </a:solidFill>
                <a:latin typeface="Times New Roman"/>
              </a:rPr>
              <a:t>Il est co-animé par le CRIPS Ile de France &amp; Comment Dire</a:t>
            </a:r>
            <a:br>
              <a:rPr sz="2000"/>
            </a:br>
            <a:r>
              <a:rPr b="1" i="1" lang="fr-FR" sz="2000" spc="-1" strike="noStrike">
                <a:solidFill>
                  <a:srgbClr val="f5c233"/>
                </a:solidFill>
                <a:latin typeface="Times New Roman"/>
              </a:rPr>
              <a:t>Il se déroule sur 2 x 3 h en soirée ou samed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4660920" y="2349720"/>
            <a:ext cx="519120" cy="2830320"/>
          </a:xfrm>
          <a:prstGeom prst="downArrow">
            <a:avLst>
              <a:gd name="adj1" fmla="val 50000"/>
              <a:gd name="adj2" fmla="val 136304"/>
            </a:avLst>
          </a:prstGeom>
          <a:gradFill rotWithShape="0">
            <a:gsLst>
              <a:gs pos="0">
                <a:srgbClr val="f5c233"/>
              </a:gs>
              <a:gs pos="100000">
                <a:srgbClr val="3d33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7984400">
            <a:off x="3932280" y="3992400"/>
            <a:ext cx="490320" cy="1344600"/>
          </a:xfrm>
          <a:prstGeom prst="downArrow">
            <a:avLst>
              <a:gd name="adj1" fmla="val 50000"/>
              <a:gd name="adj2" fmla="val 68557"/>
            </a:avLst>
          </a:prstGeom>
          <a:gradFill rotWithShape="0">
            <a:gsLst>
              <a:gs pos="0">
                <a:srgbClr val="f5c233"/>
              </a:gs>
              <a:gs pos="100000">
                <a:srgbClr val="3d33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4326200">
            <a:off x="3955320" y="1835640"/>
            <a:ext cx="466560" cy="1519200"/>
          </a:xfrm>
          <a:prstGeom prst="downArrow">
            <a:avLst>
              <a:gd name="adj1" fmla="val 50000"/>
              <a:gd name="adj2" fmla="val 81404"/>
            </a:avLst>
          </a:prstGeom>
          <a:gradFill rotWithShape="0">
            <a:gsLst>
              <a:gs pos="0">
                <a:srgbClr val="f5c233"/>
              </a:gs>
              <a:gs pos="100000">
                <a:srgbClr val="3d33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2590920"/>
            <a:ext cx="1890720" cy="1923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3cf35"/>
                </a:solidFill>
                <a:latin typeface="Comic Sans MS"/>
              </a:rPr>
              <a:t>Consultation médicale, affiches, «bouche à oreille», soigna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880" y="6537240"/>
            <a:ext cx="3959280" cy="398880"/>
            <a:chOff x="2880" y="6537240"/>
            <a:chExt cx="3959280" cy="398880"/>
          </a:xfrm>
        </p:grpSpPr>
        <p:sp>
          <p:nvSpPr>
            <p:cNvPr id="140" name=""/>
            <p:cNvSpPr/>
            <p:nvPr/>
          </p:nvSpPr>
          <p:spPr>
            <a:xfrm>
              <a:off x="2880" y="6537240"/>
              <a:ext cx="3959280" cy="343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9d87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7520" y="6537240"/>
              <a:ext cx="363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SEXUALITE  ET  PREVENTION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0" y="181800"/>
            <a:ext cx="10287000" cy="1008360"/>
          </a:xfrm>
          <a:prstGeom prst="rect">
            <a:avLst/>
          </a:prstGeom>
          <a:gradFill rotWithShape="0">
            <a:gsLst>
              <a:gs pos="0">
                <a:srgbClr val="3d3317"/>
              </a:gs>
              <a:gs pos="50000">
                <a:srgbClr val="f7ce5b"/>
              </a:gs>
              <a:gs pos="100000">
                <a:srgbClr val="3d33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Maiandra GD"/>
              </a:rPr>
              <a:t>LE DISPOSITIF</a:t>
            </a:r>
            <a:r>
              <a:rPr b="1" lang="fr-FR" sz="2400" spc="-1" strike="noStrike">
                <a:solidFill>
                  <a:srgbClr val="ffffff"/>
                </a:solidFill>
                <a:latin typeface="Maiandra GD"/>
              </a:rPr>
              <a:t> </a:t>
            </a:r>
            <a:br>
              <a:rPr sz="2400"/>
            </a:br>
            <a:r>
              <a:rPr b="1" i="1" lang="fr-FR" sz="2400" spc="-1" strike="noStrike">
                <a:solidFill>
                  <a:srgbClr val="ffffff"/>
                </a:solidFill>
                <a:latin typeface="Maiandra GD"/>
              </a:rPr>
              <a:t>Son fonctionnement et le mode d’accès des pat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H="1">
            <a:off x="1219320" y="3429000"/>
            <a:ext cx="8610480" cy="3429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7764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1393920" cy="6858000"/>
          </a:xfrm>
          <a:prstGeom prst="rect">
            <a:avLst/>
          </a:prstGeom>
          <a:gradFill rotWithShape="0">
            <a:gsLst>
              <a:gs pos="0">
                <a:srgbClr val="77642d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6400" y="2433600"/>
            <a:ext cx="3022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71600" y="3276720"/>
            <a:ext cx="82472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évelopper une relation d’alliance et d’empathie et non pas de contrô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artir de l’expertise accumulée par  la personne et de ses expériences véc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’aider à réduire le stress engendré par le VIH dans sa vie affective et sexuel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outenir son sentiment d’efficacité personnel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’aider à résoudre des difficultés rencontrées ou anticipées dans ses stratégies de prévention sexuel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85800" y="6537240"/>
            <a:ext cx="4035240" cy="398880"/>
            <a:chOff x="685800" y="6537240"/>
            <a:chExt cx="4035240" cy="398880"/>
          </a:xfrm>
        </p:grpSpPr>
        <p:sp>
          <p:nvSpPr>
            <p:cNvPr id="148" name=""/>
            <p:cNvSpPr/>
            <p:nvPr/>
          </p:nvSpPr>
          <p:spPr>
            <a:xfrm>
              <a:off x="685800" y="6565680"/>
              <a:ext cx="4035240" cy="292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9d87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30600" y="6537240"/>
              <a:ext cx="363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SEXUALITE  ET  PREVENTION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371600" y="1600200"/>
            <a:ext cx="8915400" cy="1326240"/>
          </a:xfrm>
          <a:prstGeom prst="rect">
            <a:avLst/>
          </a:prstGeom>
          <a:noFill/>
          <a:ln cap="sq" w="28440">
            <a:solidFill>
              <a:srgbClr val="e0b5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Médecins formé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Guides d’entretie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Carnets de suivi, auto-questionnaire patientE d’évalu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10287000" cy="12589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66ff"/>
                </a:solidFill>
                <a:latin typeface="Maiandra GD"/>
              </a:rPr>
              <a:t>La consultation d’information</a:t>
            </a:r>
            <a:br>
              <a:rPr sz="3200"/>
            </a:br>
            <a:r>
              <a:rPr b="0" lang="fr-FR" sz="3200" spc="-1" strike="noStrike">
                <a:solidFill>
                  <a:srgbClr val="3366ff"/>
                </a:solidFill>
                <a:latin typeface="Maiandra GD"/>
              </a:rPr>
              <a:t>et de soutien en prévention</a:t>
            </a:r>
            <a:r>
              <a:rPr b="0" lang="fr-FR" sz="3600" spc="-1" strike="noStrike">
                <a:solidFill>
                  <a:srgbClr val="000000"/>
                </a:solidFill>
                <a:latin typeface="Maiandra GD"/>
              </a:rPr>
              <a:t>                        </a:t>
            </a:r>
            <a:r>
              <a:rPr b="1" i="1" lang="fr-FR" sz="2800" spc="-1" strike="noStrike">
                <a:solidFill>
                  <a:srgbClr val="ffffff"/>
                </a:solidFill>
                <a:latin typeface="Maiandra GD"/>
              </a:rPr>
              <a:t>Objectifs</a:t>
            </a:r>
            <a:r>
              <a:rPr b="0" lang="fr-FR" sz="4400" spc="-1" strike="noStrike">
                <a:solidFill>
                  <a:srgbClr val="000000"/>
                </a:solidFill>
                <a:latin typeface="Maiandra GD"/>
              </a:rPr>
              <a:t> </a:t>
            </a:r>
            <a:r>
              <a:rPr b="0" lang="fr-FR" sz="4400" spc="-1" strike="noStrike">
                <a:solidFill>
                  <a:srgbClr val="000000"/>
                </a:solidFill>
                <a:latin typeface="Maiandra GD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7764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6629400"/>
            <a:ext cx="3962160" cy="228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9d87b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10287000" cy="12589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66ff"/>
                </a:solidFill>
                <a:latin typeface="Maiandra GD"/>
              </a:rPr>
              <a:t>La consultation d’information</a:t>
            </a:r>
            <a:br>
              <a:rPr sz="3200"/>
            </a:br>
            <a:r>
              <a:rPr b="0" lang="fr-FR" sz="3200" spc="-1" strike="noStrike">
                <a:solidFill>
                  <a:srgbClr val="3366ff"/>
                </a:solidFill>
                <a:latin typeface="Maiandra GD"/>
              </a:rPr>
              <a:t>et de soutien en prévention</a:t>
            </a:r>
            <a:r>
              <a:rPr b="0" lang="fr-FR" sz="3600" spc="-1" strike="noStrike">
                <a:solidFill>
                  <a:srgbClr val="000000"/>
                </a:solidFill>
                <a:latin typeface="Maiandra GD"/>
              </a:rPr>
              <a:t>           </a:t>
            </a:r>
            <a:r>
              <a:rPr b="1" i="1" lang="fr-FR" sz="2800" spc="-1" strike="noStrike">
                <a:solidFill>
                  <a:srgbClr val="ffffff"/>
                </a:solidFill>
                <a:latin typeface="Maiandra GD"/>
              </a:rPr>
              <a:t>Principes et postulat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Toute personne est une personne autonome, libre de ses options et de ses choi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Elle est valorisée, jamais attaquée, jamais jugée, elle est écoutée (40 minutes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es difficultés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ns la mise en acte de ses décisions, ses allers et retours ne sont pas considérés comme des échecs de sa motivation mais comme faisant partie du processus de change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Elle participe pleinement au processus et elle est invitée à définir son propre projet, ses options, elle définit elle-même l’aide dont elle a besoin au fur et à mesure des entretiens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34200" y="6537240"/>
            <a:ext cx="36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SEXUALITE  ET  PREVEN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152388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7764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6629400"/>
            <a:ext cx="3962160" cy="228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9d87b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10287000" cy="12589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66ff"/>
                </a:solidFill>
                <a:latin typeface="Maiandra GD"/>
              </a:rPr>
              <a:t>La consultation d’information</a:t>
            </a:r>
            <a:br>
              <a:rPr sz="3200"/>
            </a:br>
            <a:r>
              <a:rPr b="0" lang="fr-FR" sz="3200" spc="-1" strike="noStrike">
                <a:solidFill>
                  <a:srgbClr val="3366ff"/>
                </a:solidFill>
                <a:latin typeface="Maiandra GD"/>
              </a:rPr>
              <a:t>et de soutien en prévention</a:t>
            </a:r>
            <a:r>
              <a:rPr b="0" lang="fr-FR" sz="3600" spc="-1" strike="noStrike">
                <a:solidFill>
                  <a:srgbClr val="000000"/>
                </a:solidFill>
                <a:latin typeface="Maiandra GD"/>
              </a:rPr>
              <a:t>    </a:t>
            </a:r>
            <a:r>
              <a:rPr b="1" i="1" lang="fr-FR" sz="2800" spc="-1" strike="noStrike">
                <a:solidFill>
                  <a:srgbClr val="ffffff"/>
                </a:solidFill>
                <a:latin typeface="Maiandra GD"/>
              </a:rPr>
              <a:t>Exemples de thèmes traité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99840" y="21333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e sens donné par la personne à sa santé, à sa vie affective, à sa sexualité (valeurs, croyances personnelles, normes sociales)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s modes de communication et l’établissement de ses limites dans les situations sexuelles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a qualité de vie, les notions de plaisir, ses satisfactions dans sa vie ainsi que les conflits d’intérêt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s stratégies face au changement …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   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34200" y="6537240"/>
            <a:ext cx="36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SEXUALITE  ET  PREVEN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7764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523880" y="1981080"/>
            <a:ext cx="8763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ise en évidence du désir et des objectifs de la personne 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n termes de sexualité et de préven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ploration du sens donné à la santé, à la vie affective, à la sexualité (idéaux, croyances et normes sociales intériorisé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’atteinte érotique peut être profonde, les problèmes sexuels dominants, l’intervention vise à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éduire les troubles de la sexualité érotique en lien ou non 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vec l’infection VI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-mobiliser le potentiel érotique restant et le potentiel affectif restant  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62120" y="6537240"/>
            <a:ext cx="3962160" cy="398880"/>
            <a:chOff x="762120" y="6537240"/>
            <a:chExt cx="3962160" cy="398880"/>
          </a:xfrm>
        </p:grpSpPr>
        <p:sp>
          <p:nvSpPr>
            <p:cNvPr id="165" name=""/>
            <p:cNvSpPr/>
            <p:nvPr/>
          </p:nvSpPr>
          <p:spPr>
            <a:xfrm>
              <a:off x="762120" y="6629400"/>
              <a:ext cx="3962160" cy="228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9d87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34200" y="6537240"/>
              <a:ext cx="363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SEXUALITE  ET  PREVENTION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-360" y="228240"/>
            <a:ext cx="10287000" cy="12589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66ff"/>
                </a:solidFill>
                <a:latin typeface="Maiandra GD"/>
              </a:rPr>
              <a:t>La consultation de sexologie</a:t>
            </a:r>
            <a:r>
              <a:rPr b="0" lang="fr-FR" sz="3600" spc="-1" strike="noStrike">
                <a:solidFill>
                  <a:srgbClr val="000000"/>
                </a:solidFill>
                <a:latin typeface="Maiandra GD"/>
              </a:rPr>
              <a:t>             </a:t>
            </a:r>
            <a:r>
              <a:rPr b="1" i="1" lang="fr-FR" sz="2800" spc="-1" strike="noStrike">
                <a:solidFill>
                  <a:srgbClr val="ffffff"/>
                </a:solidFill>
                <a:latin typeface="Maiandra GD"/>
              </a:rPr>
              <a:t>Objectifs et thèmes                                        </a:t>
            </a:r>
            <a:br>
              <a:rPr sz="2800"/>
            </a:br>
            <a:r>
              <a:rPr b="1" i="1" lang="fr-FR" sz="2800" spc="-1" strike="noStrike">
                <a:solidFill>
                  <a:srgbClr val="ffffff"/>
                </a:solidFill>
                <a:latin typeface="Maiandra GD"/>
              </a:rPr>
              <a:t>                                                                  des entretien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1:01:26Z</dcterms:created>
  <dc:creator>apsu</dc:creator>
  <dc:description/>
  <dc:language>en-US</dc:language>
  <cp:lastModifiedBy>Maryline</cp:lastModifiedBy>
  <dcterms:modified xsi:type="dcterms:W3CDTF">2004-10-25T14:14:38Z</dcterms:modified>
  <cp:revision>206</cp:revision>
  <dc:subject/>
  <dc:title>PREVENTION  DES  IST  ET  SEXOLOGIE</dc:title>
</cp:coreProperties>
</file>