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3.wmf" ContentType="image/x-wmf"/>
  <Override PartName="/ppt/media/image9.png" ContentType="image/png"/>
  <Override PartName="/ppt/media/image8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D54-CDB3-48FB-96CF-3D0F1280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056-91B2-4C72-8648-3B63B6A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430-9B48-4ED9-9822-EE18AB71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B2C-2E4D-4335-8456-6CD71CAC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9B5-2EDC-4A90-BC83-4809C20F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F6-175F-4B57-8922-A5931051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E1E-510C-47CF-BB8C-AFA5A8B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D40-3C37-4347-9EC8-9E5C890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40B-EFF2-493D-BE8E-55DC6E8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A40-FE28-4240-9B4C-C967635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F65-46F2-4617-AA96-57FCB27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1C3-DEFE-4284-8C55-FBC3EB5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05280" y="6552720"/>
            <a:ext cx="608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13th World AIDS Conference, Durba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882-ABC0-49E6-89A1-3BB970E4D4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9601200" y="6624720"/>
          <a:ext cx="685800" cy="2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01200" y="6624720"/>
                    <a:ext cx="6858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7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Bookman Old Style"/>
              </a:rPr>
              <a:t>Déterminants et dynamique de l’observance </a:t>
            </a:r>
            <a:br>
              <a:rPr sz="4800"/>
            </a:br>
            <a:br>
              <a:rPr sz="4800"/>
            </a:br>
            <a:r>
              <a:rPr b="1" lang="fr-FR" sz="4000" spc="-1" strike="noStrike">
                <a:solidFill>
                  <a:srgbClr val="ff0066"/>
                </a:solidFill>
                <a:latin typeface="Bookman Old Style"/>
              </a:rPr>
              <a:t>exemple des cohortes APROCO et MANIF 2000</a:t>
            </a: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4114440"/>
            <a:ext cx="923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runo  S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SERM U37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38360" y="6856560"/>
            <a:ext cx="217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8600"/>
            <a:ext cx="9982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Cohorte APROCO : facteurs associés à l’observance à M4 (n=44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odèle multivarié, régression logis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ne tient compte que des variables d ’i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variables médicales et psychosociales sont retenues pour le modèle initial que si il existe une tendance significative en analyse univariée (p&gt;0.1)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990720"/>
          <a:ext cx="10287000" cy="56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28700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300320" y="3049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7520" y="51814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4960" y="3019320"/>
            <a:ext cx="734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10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6200" y="144792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o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éca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88620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tien impor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2400" y="2057400"/>
            <a:ext cx="10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lcoo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&gt;1U/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152388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e parle pas de ses problèmes avec le médec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1148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blèmes d’observ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éri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911920"/>
            <a:ext cx="94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Facteurs associés à l ’observance à M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cohorte APROCO, n=4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038480" y="5181480"/>
            <a:ext cx="446040" cy="49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44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8360" y="6856560"/>
            <a:ext cx="217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28600"/>
            <a:ext cx="9982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Cohorte APROCO : facteurs associés à l’observance à M4 (n=44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odèle multivarié, régression logis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tient compte des variables d ’inclusion et des variables mesurées à M4, tenant compte du vécu des premiers mois de trai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variables médicales et psychosociales sont retenues pour le modèle initial que si il existe une tendance significative en analyse univariée (p&gt;0.1)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9520" y="1538280"/>
            <a:ext cx="1800" cy="393696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81000" y="5475240"/>
            <a:ext cx="2574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000" y="3506760"/>
            <a:ext cx="2574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1000" y="1538280"/>
            <a:ext cx="2574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3506760"/>
            <a:ext cx="83901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5440" y="3605040"/>
            <a:ext cx="1440" cy="42732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6920" y="1965240"/>
            <a:ext cx="1440" cy="137808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6720" y="2195640"/>
            <a:ext cx="1440" cy="127944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78200" y="2227320"/>
            <a:ext cx="1800" cy="1116000"/>
          </a:xfrm>
          <a:prstGeom prst="line">
            <a:avLst/>
          </a:prstGeom>
          <a:ln w="96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49680" y="1636560"/>
            <a:ext cx="1800" cy="160812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1160" y="2392200"/>
            <a:ext cx="1800" cy="8524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0960" y="2982960"/>
            <a:ext cx="1800" cy="49212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32440" y="1735200"/>
            <a:ext cx="1800" cy="17398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4280" y="2424240"/>
            <a:ext cx="1440" cy="9190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42280" y="2424240"/>
            <a:ext cx="1800" cy="91908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13760" y="2620800"/>
            <a:ext cx="1800" cy="657360"/>
          </a:xfrm>
          <a:prstGeom prst="line">
            <a:avLst/>
          </a:prstGeom>
          <a:ln w="96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5440" y="3736800"/>
            <a:ext cx="6516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6920" y="2620800"/>
            <a:ext cx="6516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06720" y="2817720"/>
            <a:ext cx="6336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78200" y="2752560"/>
            <a:ext cx="63720" cy="334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49680" y="2424240"/>
            <a:ext cx="6372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1160" y="2786040"/>
            <a:ext cx="637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0960" y="3179880"/>
            <a:ext cx="637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32440" y="2589120"/>
            <a:ext cx="637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2851200"/>
            <a:ext cx="6336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42280" y="2851200"/>
            <a:ext cx="65160" cy="3312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3760" y="2786040"/>
            <a:ext cx="6516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7680" y="5213520"/>
            <a:ext cx="546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8080"/>
                </a:solidFill>
                <a:latin typeface="Arial"/>
              </a:rPr>
              <a:t>0,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760" y="3244680"/>
            <a:ext cx="21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8080"/>
                </a:solidFill>
                <a:latin typeface="Arial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000" y="127620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8080"/>
                </a:solidFill>
                <a:latin typeface="Arial"/>
              </a:rPr>
              <a:t>10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414036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Age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ff"/>
                </a:solidFill>
                <a:latin typeface="Arial"/>
              </a:rPr>
              <a:t>10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0720" y="116856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préc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5053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P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soutie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143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Problè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d’ob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antéri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581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ab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1905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lc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049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7520" y="51814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505320"/>
            <a:ext cx="1676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p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762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erception état de san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809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fficacité  du trai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xici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6576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e parle pas du traitement à un autre médec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00" y="175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911920"/>
            <a:ext cx="94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Facteurs associés à l ’observance à M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cohorte APROCO, n=4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5143680"/>
            <a:ext cx="446040" cy="495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867280" y="190512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763120" y="182880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657600" y="304920"/>
            <a:ext cx="446040" cy="495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353360" y="1066680"/>
            <a:ext cx="342720" cy="381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8186760" y="4457880"/>
            <a:ext cx="3096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Sujets abordé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 phénomène dynamique de l’obser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exemple de la cohorte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 complexité des déterminants associés à l’observance à court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général :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s particulier : UDVI, cohorte MANI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s facteurs associés à la rupture d’observance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dans le suivi à long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14560" y="15228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La cohorte MANIF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523880"/>
            <a:ext cx="1002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horte de sujets infectés par le VIH par usage de drogue IV, avec  des CD4&gt;300 et pas d’infection opportuniste à l’i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5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itiée en juillet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5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uivi médical biologique et socio-comportemental tous les 6m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5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467 patients inc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4840" y="2004840"/>
            <a:ext cx="1440" cy="405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6059520"/>
            <a:ext cx="2286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60360" y="4718160"/>
            <a:ext cx="2286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3346560"/>
            <a:ext cx="2286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0360" y="2004840"/>
            <a:ext cx="2286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4840" y="4718160"/>
            <a:ext cx="7415280" cy="1440"/>
          </a:xfrm>
          <a:prstGeom prst="line">
            <a:avLst/>
          </a:prstGeom>
          <a:ln w="0">
            <a:solidFill>
              <a:srgbClr val="ff66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60680" y="4200480"/>
            <a:ext cx="1440" cy="88272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33440" y="4840200"/>
            <a:ext cx="1800" cy="9748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6560" y="3651120"/>
            <a:ext cx="1800" cy="131148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78240" y="4200480"/>
            <a:ext cx="1440" cy="88272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1360" y="2949480"/>
            <a:ext cx="1440" cy="161604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24480" y="3621240"/>
            <a:ext cx="1440" cy="118872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97600" y="2706840"/>
            <a:ext cx="1440" cy="17668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0480" y="4260960"/>
            <a:ext cx="1440" cy="36504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13600" y="2187720"/>
            <a:ext cx="1440" cy="234792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6720" y="3316320"/>
            <a:ext cx="1440" cy="100476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59480" y="4230720"/>
            <a:ext cx="1800" cy="82224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31160" y="4473720"/>
            <a:ext cx="1440" cy="82368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04280" y="4108320"/>
            <a:ext cx="1440" cy="103680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60680" y="4595760"/>
            <a:ext cx="5688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235480"/>
            <a:ext cx="5724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6560" y="4321080"/>
            <a:ext cx="5724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8240" y="4595760"/>
            <a:ext cx="5724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1360" y="3711600"/>
            <a:ext cx="5724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24480" y="4168800"/>
            <a:ext cx="5688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97600" y="3621240"/>
            <a:ext cx="56880" cy="298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40480" y="4413240"/>
            <a:ext cx="5688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13600" y="3498840"/>
            <a:ext cx="5688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6720" y="3773520"/>
            <a:ext cx="5688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59480" y="4626000"/>
            <a:ext cx="57240" cy="3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31160" y="4840200"/>
            <a:ext cx="5724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04280" y="4595760"/>
            <a:ext cx="57240" cy="30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960" y="5815080"/>
            <a:ext cx="514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6600"/>
                </a:solidFill>
                <a:latin typeface="Arial"/>
              </a:rPr>
              <a:t>0,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69840" y="447372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7520" y="3102120"/>
            <a:ext cx="412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840" y="1762200"/>
            <a:ext cx="618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6600"/>
                </a:solidFill>
                <a:latin typeface="Arial"/>
              </a:rPr>
              <a:t>100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00" y="3051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2360" y="1541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2360" y="64008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4240" y="3749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77680" y="60069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ge/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0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49480" y="2460600"/>
            <a:ext cx="145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éducation &gt;b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59120" y="52578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rav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8440" y="21733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D ac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s Sub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7840" y="4956120"/>
            <a:ext cx="1107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x U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s sub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4160" y="1738440"/>
            <a:ext cx="127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lcool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 U-mo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4000" y="4800600"/>
            <a:ext cx="77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 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3840" y="519444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t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8480" y="3684600"/>
            <a:ext cx="1157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&gt; 80 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/sem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90280" y="54561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aï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26520" y="1212840"/>
            <a:ext cx="153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bl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inanc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27280" y="2592360"/>
            <a:ext cx="18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roubles av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pol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28600"/>
            <a:ext cx="1028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Cohorte MANIF : facteurs associés à l’observance à court terme (n=16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9880" y="6324480"/>
            <a:ext cx="446040" cy="495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44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Sujets abordé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 phénomène dynamique de l’obser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exemple de la cohorte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a complexité des déterminants associés à l’observance à court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général :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particulier : UDVI, cohorte MANI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facteurs associés à la rupture d’observance dans le suivi à long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Bookman Old Style"/>
              </a:rPr>
              <a:t>Rupture d’observance dans la cohorte APRO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10287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élection des patients ayant répondu à M0, M4 et M20 avec la variable observance renseignée : n=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6200" y="3581280"/>
          <a:ext cx="5469120" cy="27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3581280"/>
                    <a:ext cx="546912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856120" y="2971800"/>
            <a:ext cx="44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omparaison des 83 patients devenant non observants à M20 aux 194 patients qui restent observa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odèle de régression logistique (n=27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Bookman Old Style"/>
              </a:rPr>
              <a:t>Hypothèse : la perception des effets secondaires à long terme pourrait être associée à une rupture d’observan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43000" y="1163520"/>
          <a:ext cx="8229600" cy="574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63520"/>
                    <a:ext cx="8229600" cy="57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753920" y="152388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=2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6095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76% des patients déclar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au moins un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symptôme lié aux 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Bookman Old Style"/>
              </a:rPr>
              <a:t>Approche de l’observan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10287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pproche « prédictive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cherche de facteurs individuels associés à une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onne ou à une mauvaise obser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iblage de populations éligibles pour le trai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rventions pour « corriger » le comportement avant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ise sous trai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pproche « empathique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études prédictives sont basées sur de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nalyses transversales et ignorent l’aspect dynam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ntrage sur l’ensemble des problèmes du 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Hypothèse : la perception des effets secondaires à long terme pourrait être associée à une rupture d’observance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271520"/>
          <a:ext cx="10058400" cy="55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1520"/>
                    <a:ext cx="100584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59080" y="156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83000" y="19051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cc"/>
                </a:solidFill>
                <a:latin typeface="Arial"/>
              </a:rPr>
              <a:t>p=0.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560" y="1447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cc"/>
                </a:solidFill>
                <a:latin typeface="Arial"/>
              </a:rPr>
              <a:t>p=0.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51000" y="2225520"/>
            <a:ext cx="1440" cy="3892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36520" y="6118200"/>
            <a:ext cx="2271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6520" y="4186080"/>
            <a:ext cx="2271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36520" y="2225520"/>
            <a:ext cx="2271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1000" y="4186080"/>
            <a:ext cx="8609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77520" y="3276720"/>
            <a:ext cx="1440" cy="966600"/>
          </a:xfrm>
          <a:prstGeom prst="line">
            <a:avLst/>
          </a:prstGeom>
          <a:ln w="85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462960" y="3759120"/>
            <a:ext cx="57240" cy="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600" y="5891040"/>
            <a:ext cx="477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8080"/>
                </a:solidFill>
                <a:latin typeface="Arial"/>
              </a:rPr>
              <a:t>0,1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6080" y="3959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808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280" y="1996920"/>
            <a:ext cx="381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8080"/>
                </a:solidFill>
                <a:latin typeface="Arial"/>
              </a:rPr>
              <a:t>1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73040" y="4697280"/>
            <a:ext cx="676080" cy="1218240"/>
            <a:chOff x="1373040" y="4697280"/>
            <a:chExt cx="676080" cy="1218240"/>
          </a:xfrm>
        </p:grpSpPr>
        <p:sp>
          <p:nvSpPr>
            <p:cNvPr id="254" name=""/>
            <p:cNvSpPr/>
            <p:nvPr/>
          </p:nvSpPr>
          <p:spPr>
            <a:xfrm>
              <a:off x="1806480" y="4697280"/>
              <a:ext cx="1080" cy="370080"/>
            </a:xfrm>
            <a:prstGeom prst="line">
              <a:avLst/>
            </a:prstGeom>
            <a:ln w="85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06480" y="4754520"/>
              <a:ext cx="55080" cy="284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3040" y="5334120"/>
              <a:ext cx="67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Age</a:t>
              </a:r>
              <a:r>
                <a:rPr b="0" lang="fr-FR" sz="1800" spc="-1" strike="noStrike">
                  <a:solidFill>
                    <a:srgbClr val="00ffff"/>
                  </a:solidFill>
                  <a:latin typeface="Arial"/>
                </a:rPr>
                <a:t>/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Arial"/>
                </a:rPr>
                <a:t>5a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7440" y="3247920"/>
            <a:ext cx="1273320" cy="1540080"/>
            <a:chOff x="2287440" y="3247920"/>
            <a:chExt cx="1273320" cy="1540080"/>
          </a:xfrm>
        </p:grpSpPr>
        <p:sp>
          <p:nvSpPr>
            <p:cNvPr id="258" name=""/>
            <p:cNvSpPr/>
            <p:nvPr/>
          </p:nvSpPr>
          <p:spPr>
            <a:xfrm>
              <a:off x="2835360" y="3247920"/>
              <a:ext cx="1440" cy="938160"/>
            </a:xfrm>
            <a:prstGeom prst="line">
              <a:avLst/>
            </a:prstGeom>
            <a:ln w="85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35360" y="3703680"/>
              <a:ext cx="57240" cy="270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7440" y="44197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Lo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352680" y="3048120"/>
            <a:ext cx="2133360" cy="1052280"/>
            <a:chOff x="3352680" y="3048120"/>
            <a:chExt cx="2133360" cy="1052280"/>
          </a:xfrm>
        </p:grpSpPr>
        <p:sp>
          <p:nvSpPr>
            <p:cNvPr id="262" name=""/>
            <p:cNvSpPr/>
            <p:nvPr/>
          </p:nvSpPr>
          <p:spPr>
            <a:xfrm>
              <a:off x="4392360" y="3675240"/>
              <a:ext cx="1440" cy="425160"/>
            </a:xfrm>
            <a:prstGeom prst="line">
              <a:avLst/>
            </a:prstGeom>
            <a:ln w="85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92360" y="3787920"/>
              <a:ext cx="57240" cy="284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680" y="30481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alco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106960" y="2133720"/>
            <a:ext cx="1590480" cy="1882800"/>
            <a:chOff x="5106960" y="2133720"/>
            <a:chExt cx="1590480" cy="1882800"/>
          </a:xfrm>
        </p:grpSpPr>
        <p:sp>
          <p:nvSpPr>
            <p:cNvPr id="266" name=""/>
            <p:cNvSpPr/>
            <p:nvPr/>
          </p:nvSpPr>
          <p:spPr>
            <a:xfrm>
              <a:off x="5900760" y="2992320"/>
              <a:ext cx="1440" cy="1024200"/>
            </a:xfrm>
            <a:prstGeom prst="line">
              <a:avLst/>
            </a:prstGeom>
            <a:ln w="85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00760" y="3446640"/>
              <a:ext cx="57240" cy="284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06960" y="2133720"/>
              <a:ext cx="159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changemen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silhouet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562720" y="3133800"/>
            <a:ext cx="2914560" cy="2080800"/>
            <a:chOff x="5562720" y="3133800"/>
            <a:chExt cx="2914560" cy="2080800"/>
          </a:xfrm>
        </p:grpSpPr>
        <p:sp>
          <p:nvSpPr>
            <p:cNvPr id="270" name=""/>
            <p:cNvSpPr/>
            <p:nvPr/>
          </p:nvSpPr>
          <p:spPr>
            <a:xfrm>
              <a:off x="7061400" y="3133800"/>
              <a:ext cx="1440" cy="1138320"/>
            </a:xfrm>
            <a:prstGeom prst="line">
              <a:avLst/>
            </a:prstGeom>
            <a:ln w="85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61400" y="3646440"/>
              <a:ext cx="57240" cy="28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62720" y="4572000"/>
              <a:ext cx="291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Autres symptômes lipodystroph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389000" y="2819520"/>
            <a:ext cx="1639080" cy="1536480"/>
            <a:chOff x="7389000" y="2819520"/>
            <a:chExt cx="1639080" cy="1536480"/>
          </a:xfrm>
        </p:grpSpPr>
        <p:sp>
          <p:nvSpPr>
            <p:cNvPr id="274" name=""/>
            <p:cNvSpPr/>
            <p:nvPr/>
          </p:nvSpPr>
          <p:spPr>
            <a:xfrm>
              <a:off x="8086320" y="3703680"/>
              <a:ext cx="1800" cy="652320"/>
            </a:xfrm>
            <a:prstGeom prst="line">
              <a:avLst/>
            </a:prstGeom>
            <a:ln w="85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6320" y="3675240"/>
              <a:ext cx="55800" cy="284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9000" y="281952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Autres effet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ffff"/>
                  </a:solidFill>
                  <a:latin typeface="Arial"/>
                </a:rPr>
                <a:t>secondai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771040" y="42670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Aggra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dép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6120" y="20574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2440" y="60958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Facteurs associés aux ruptures d’observance à M20 chez les patients initialement observants à M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cohorte APROCO, n=27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343400" y="6019920"/>
            <a:ext cx="446040" cy="495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8915400" y="312408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267080" y="2057400"/>
            <a:ext cx="44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63680" y="2085840"/>
            <a:ext cx="1440" cy="396576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39840" y="6051600"/>
            <a:ext cx="247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4068720"/>
            <a:ext cx="247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39840" y="2085840"/>
            <a:ext cx="247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3680" y="4068720"/>
            <a:ext cx="84582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0720" y="4068720"/>
            <a:ext cx="1440" cy="1395360"/>
          </a:xfrm>
          <a:prstGeom prst="line">
            <a:avLst/>
          </a:prstGeom>
          <a:ln w="9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43360" y="2178000"/>
            <a:ext cx="1440" cy="1890720"/>
          </a:xfrm>
          <a:prstGeom prst="line">
            <a:avLst/>
          </a:prstGeom>
          <a:ln w="93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7440" y="2085840"/>
            <a:ext cx="1440" cy="1982880"/>
          </a:xfrm>
          <a:prstGeom prst="line">
            <a:avLst/>
          </a:prstGeom>
          <a:ln w="9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49720" y="2425680"/>
            <a:ext cx="1800" cy="1487520"/>
          </a:xfrm>
          <a:prstGeom prst="line">
            <a:avLst/>
          </a:prstGeom>
          <a:ln w="93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35840" y="2519280"/>
            <a:ext cx="1440" cy="1549440"/>
          </a:xfrm>
          <a:prstGeom prst="line">
            <a:avLst/>
          </a:prstGeom>
          <a:ln w="9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88120" y="2457360"/>
            <a:ext cx="1800" cy="1517760"/>
          </a:xfrm>
          <a:prstGeom prst="line">
            <a:avLst/>
          </a:prstGeom>
          <a:ln w="93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42200" y="3635280"/>
            <a:ext cx="1800" cy="371520"/>
          </a:xfrm>
          <a:prstGeom prst="line">
            <a:avLst/>
          </a:prstGeom>
          <a:ln w="93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94840" y="2736720"/>
            <a:ext cx="1440" cy="1425600"/>
          </a:xfrm>
          <a:prstGeom prst="line">
            <a:avLst/>
          </a:prstGeom>
          <a:ln w="93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90720" y="4813200"/>
            <a:ext cx="61920" cy="3024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43360" y="3108240"/>
            <a:ext cx="61920" cy="3024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97440" y="3014640"/>
            <a:ext cx="619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49720" y="3138480"/>
            <a:ext cx="619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35840" y="3262320"/>
            <a:ext cx="619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88120" y="3170160"/>
            <a:ext cx="61920" cy="3024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2200" y="3789360"/>
            <a:ext cx="61920" cy="3168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294840" y="3449520"/>
            <a:ext cx="61920" cy="30240"/>
          </a:xfrm>
          <a:prstGeom prst="rect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040" y="5803920"/>
            <a:ext cx="514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8080"/>
                </a:solidFill>
                <a:latin typeface="Arial"/>
              </a:rPr>
              <a:t>0,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34920" y="382104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808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7400" y="1836720"/>
            <a:ext cx="412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ff8080"/>
                </a:solidFill>
                <a:latin typeface="Arial"/>
              </a:rPr>
              <a:t>10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Facteurs associés aux ruptures d’observance chez les patients initialement observants à la première vi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Bookman Old Style"/>
              </a:rPr>
              <a:t>cohorte MANIF, n=96, 171 visites, modèle G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3040" y="5562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Relation 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3240" y="17524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Usage de cocaï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3400" y="42670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In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2240" y="44197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Dép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1752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Consommation de psychotro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7920" y="64008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0" y="13716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ff00"/>
                </a:solidFill>
                <a:uFillTx/>
                <a:latin typeface="Arial"/>
              </a:rPr>
              <a:t>OBSER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31560" y="19051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Anxié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67480" y="2438280"/>
            <a:ext cx="1676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Évènements cliniques perç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ffff"/>
                </a:solidFill>
                <a:latin typeface="Arial"/>
              </a:rPr>
              <a:t>(/1symp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12280" y="43434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Moléc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à je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38880" y="6400800"/>
            <a:ext cx="37800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446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Conclusion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10287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’observance est un phénomène dynamique au cours du tem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a majorité des patients ne sont pas observants tout du long du suiv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’observance est principalement associée à des facteurs qui tiennent au vécu autour du VIH et des trait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es effets secondaires jouent un rôle négatif dans l ’établissement et le maintien de l’obser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10287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Nos résultats plaident pour des interventions </a:t>
            </a:r>
            <a:r>
              <a:rPr b="1" lang="fr-FR" sz="3000" spc="-1" strike="noStrike" u="sng">
                <a:solidFill>
                  <a:srgbClr val="ffffff"/>
                </a:solidFill>
                <a:uFillTx/>
                <a:latin typeface="Arial"/>
              </a:rPr>
              <a:t>répétées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auprès des patients qui pourraient faire parti du système de prise en char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ventions par les équipes soignant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ventions par des psychologu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ventions par les pair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Conclusion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I~000003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ookman Old Style"/>
              </a:rPr>
              <a:t>GROUPE D’ETUDE APRO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10287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Conseil Scientifique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ité de Pilotag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nvestigateurs principaux : C. Leport, F. Raff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éthodologistes : G. Chêne, R. Salamo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- investigateurs : J-P. Moatti, J. Pierret, F. Brun-Vézinet, H. Fleury, G. Peytavi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. Costagliola, P. Dellamonica, C. Katlama, L. Meyer, M. Morin, D. Sicard, A. Sobel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. Vincent-Ballereau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Observateurs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 : F. Agid, F. Bourdillon, JF. Delfraissy, J. Dormont, JY. Lacut,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Y. Souteyrand, JL. Vildé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Monitorage et analyse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V. Cailleton, C. Deveaud, C. Droz, S. Duran, S. Dutoit, JL. Ecobichon, C. Egouy, S. Gautier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. Jadand, V. Journot, R. Lassalle, L. Latour, V. Le Moing, C. Lewden, B. Masquelier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W. Nouioua, G. Palmer, S. Roloff, V. Rondé-Oustau, A. Sangue, M. Savès, M. Souville, B. Spi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Promoteur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gence Nationale de Recherches sur le Sida (ANRS, Action Coordonnée n°7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Soutien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PPIT et laboratoires Abbot, Boerhinger-Ingelheim, Roche, Bristol Myers Squib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erck Dohm Chibret, Glaxo-Welc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639200" y="114480"/>
            <a:ext cx="2562120" cy="19810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296280" y="6095880"/>
            <a:ext cx="99072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72400" y="6248520"/>
            <a:ext cx="25146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3080" y="304920"/>
            <a:ext cx="8743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Bookman Old Style"/>
              </a:rPr>
              <a:t>GROUPE D ’ETUDE APROCO</a:t>
            </a:r>
            <a:br>
              <a:rPr sz="3200"/>
            </a:br>
            <a:r>
              <a:rPr b="1" lang="fr-FR" sz="3200" spc="-1" strike="noStrike">
                <a:solidFill>
                  <a:srgbClr val="ffff00"/>
                </a:solidFill>
                <a:latin typeface="Bookman Old Style"/>
              </a:rPr>
              <a:t>Centres Investigateu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0120" y="1599840"/>
            <a:ext cx="4286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MIENS (Pr Schmi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NGERS (Dr Chennebaul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ELFORT (Dr Fall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ESANCON (Dr Estavoyer, Pr Laurent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 Vuitt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ORDEAUX (Pr Beylot, Pr Lacut, Pr Le Bra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 Ragnau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OURG-EN-BRESSE (Dr Grani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REST (Pr Garré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AEN (Pr Baz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MPIEGNE (Dr Veyssi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RBEIL ESSONNES (Dr Dev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RETEIL (Pr Sobe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IJON (Pr Porti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GARCHES (Pr Perronn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AGNY (Dr Lagar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IBOURNE (Dr Ceccald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YON (Pr Peyramon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428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EAUX (Dr Allar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ONTPELLIER (Pr Reyn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ANCY (Pr Cant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ANTES (Pr Raff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ICE (Pr Cassuto, Pr Dellamonic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RLEANS (Dr Arsa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IS (Pr Bricaire, Pr Caulin, Pr Frottie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 Herson, Pr Imbert, Dr Malkin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 Rozenbaum, Pr Sicard, Pr Vachon, Pr Vildé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OITIERS (Pr Becq-Giraud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IMS (Pr Rém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NNES (Pr Carti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AINT-ETIENNE (Pr Luch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AINT MANDE (Pr Roué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TRASBOURG (Pr La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OULON (Dr Jaureguiberr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OULOUSE (Pr Massi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OURS (Pr Choute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743960" y="0"/>
            <a:ext cx="254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872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Le groupe MANIF 200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1352160"/>
            <a:ext cx="5257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 Boir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D Bouhn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P Carr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P Cass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 Dellamo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 Dujar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 Escaff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 Gall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A Gast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G Lep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Lound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 Marimout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28840" y="1391760"/>
            <a:ext cx="480060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 Mech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P Moa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 Mor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Y Oba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 Prad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 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 Reynaud-Mo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Schae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 Sp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 Tama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 Trémoli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 Vlah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Sujets abordé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phénomène dynamique de l’obser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emple de la cohorte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a complexité des déterminants associés à l’observance à court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général :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particulier : UDVI, cohorte MANI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s facteurs associés à la rupture d’observance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dans le suivi à long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La cohorte APRO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10058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horte APROCO multidisciplinaire pour étudier le suivi des patients VIH</a:t>
            </a:r>
            <a:r>
              <a:rPr b="1" lang="fr-FR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initiant une multi-thérapie avec anti-proté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horte nationale, multicentrique (47 centres, 1281 patients inclu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uivi à l’inclusion, à M1, M4 et tous les 4 m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esures de variables cliniques, biologiques et socio-comporte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Observance et succès virologiq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833400"/>
          <a:ext cx="5410080" cy="29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3400"/>
                    <a:ext cx="54100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3800520"/>
          <a:ext cx="560556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0520"/>
                    <a:ext cx="56055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68800" y="841320"/>
          <a:ext cx="5218200" cy="2930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8800" y="841320"/>
                    <a:ext cx="521820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95080" y="3165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1520" y="320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M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4640" y="6248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M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5120" y="954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Arial"/>
              </a:rPr>
              <a:t>p=0.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9280" y="99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Arial"/>
              </a:rPr>
              <a:t>p&lt;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8680" y="39625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Arial"/>
              </a:rPr>
              <a:t>p=0.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4280" y="1600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6600" y="91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3600" y="144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656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5880" y="472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5200" y="4038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7160" y="2438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17200" y="1143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4200" y="1752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Times New Roman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1520" y="640080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Times New Roman"/>
              </a:rPr>
              <a:t>N=7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7480" y="327672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Times New Roman"/>
              </a:rPr>
              <a:t>N=8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53800" y="320040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Times New Roman"/>
              </a:rPr>
              <a:t>N=5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962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lations établies sur l’ensemble des patients ayant la variable observance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la charge virale renseig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Bookman Old Style"/>
              </a:rPr>
              <a:t>Analyse de l’observance</a:t>
            </a:r>
            <a:br>
              <a:rPr sz="4800"/>
            </a:br>
            <a:r>
              <a:rPr b="1" lang="fr-FR" sz="4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Times New Roman"/>
              </a:rPr>
              <a:t>patients inclus dans APROCO ayant répondu aux AQ de M4, M12 et M20 (n=507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604880"/>
          <a:ext cx="8305920" cy="52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4880"/>
                    <a:ext cx="83059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Dynamique de l’observance</a:t>
            </a:r>
            <a:br>
              <a:rPr sz="4400"/>
            </a:b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(n=507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295280"/>
          <a:ext cx="812952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812952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1571760"/>
          <a:ext cx="9296280" cy="52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2962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rot="16200000">
            <a:off x="-506520" y="3710880"/>
            <a:ext cx="30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% CV indétec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5200" y="19810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p= 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Dynamique de l’observance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Bookman Old Style"/>
              </a:rPr>
              <a:t>et succès virologique à M2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9240" y="236232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p= 0.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6400" y="2819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p= 0.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Bookman Old Style"/>
              </a:rPr>
              <a:t>Sujets abordé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 phénomène dynamique de l’obser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exemple de la cohorte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 complexité des déterminants associés à l’observance à court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s général : APR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69696"/>
                </a:solidFill>
                <a:latin typeface="Arial"/>
              </a:rPr>
              <a:t>cas particulier : UDVI, cohorte MANI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Les facteurs associés à la rupture d’observance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969696"/>
                </a:solidFill>
                <a:latin typeface="Arial"/>
              </a:rPr>
              <a:t>dans le suivi à long t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8:36:46Z</dcterms:created>
  <dc:creator>Bruno SPIRE</dc:creator>
  <dc:description/>
  <dc:language>en-US</dc:language>
  <cp:lastModifiedBy>rigard</cp:lastModifiedBy>
  <dcterms:modified xsi:type="dcterms:W3CDTF">2001-03-13T11:36:35Z</dcterms:modified>
  <cp:revision>56</cp:revision>
  <dc:subject/>
  <dc:title>Validité d’une mesure de l’observance fondée sur la déclaration des patients</dc:title>
</cp:coreProperties>
</file>