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876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Aft>
                <a:spcPts val="876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9080"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06640" indent="-289080">
              <a:spcAft>
                <a:spcPts val="8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68600" indent="-289080">
              <a:spcAft>
                <a:spcPts val="876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2240" y="1102320"/>
            <a:ext cx="7139520" cy="16135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82080" y="6284880"/>
            <a:ext cx="780840" cy="42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6124680"/>
            <a:ext cx="476280" cy="5810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89320" y="152280"/>
            <a:ext cx="2565000" cy="579600"/>
            <a:chOff x="3289320" y="152280"/>
            <a:chExt cx="2565000" cy="57960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777480" y="233280"/>
              <a:ext cx="2076840" cy="4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3289320" y="152280"/>
              <a:ext cx="436320" cy="465840"/>
              <a:chOff x="3289320" y="152280"/>
              <a:chExt cx="436320" cy="465840"/>
            </a:xfrm>
          </p:grpSpPr>
          <p:sp>
            <p:nvSpPr>
              <p:cNvPr id="50" name=""/>
              <p:cNvSpPr/>
              <p:nvPr/>
            </p:nvSpPr>
            <p:spPr>
              <a:xfrm>
                <a:off x="3301560" y="34740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26480" y="458640"/>
                <a:ext cx="156960" cy="15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424680" y="174600"/>
                <a:ext cx="156600" cy="157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89320" y="33624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6c6d7"/>
                  </a:gs>
                  <a:gs pos="100000">
                    <a:srgbClr val="3160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98040" y="152280"/>
                <a:ext cx="187920" cy="460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14640" y="5661000"/>
            <a:ext cx="1295640" cy="96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97160" y="1133640"/>
            <a:ext cx="7399080" cy="1752480"/>
          </a:xfrm>
          <a:prstGeom prst="roundRect">
            <a:avLst>
              <a:gd name="adj" fmla="val 26722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Intervention en </a:t>
            </a:r>
            <a:r>
              <a:rPr b="1" i="1" lang="fr-FR" sz="2400" spc="-1" strike="noStrike">
                <a:solidFill>
                  <a:srgbClr val="33ccff"/>
                </a:solidFill>
                <a:latin typeface="Arial"/>
              </a:rPr>
              <a:t>counseling</a:t>
            </a: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 sur 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l’observance thérapeutique :</a:t>
            </a:r>
            <a:r>
              <a:rPr b="0" lang="fr-FR" sz="3200" spc="-1" strike="noStrike">
                <a:solidFill>
                  <a:srgbClr val="33ccff"/>
                </a:solidFill>
                <a:latin typeface="Arial"/>
              </a:rPr>
              <a:t> </a:t>
            </a:r>
            <a:br>
              <a:rPr sz="32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Le modèle MOTHIV*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concept, stratégie, 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3495600"/>
            <a:ext cx="866772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therine Tourette-Turg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aître de conférences des universités en psychologie de la sant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yline Rébill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sychologue, Directrice de Comment D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88600" y="345600"/>
            <a:ext cx="704160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MOTHIV :</a:t>
            </a:r>
            <a:br>
              <a:rPr sz="2800"/>
            </a:b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Exemples d’applications et résultat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81040" y="2525760"/>
            <a:ext cx="7337520" cy="18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 consultation observance de N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 consultation de Fort de 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 consultation de Saint Martin des Caraï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17680" y="250560"/>
            <a:ext cx="756288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e Ni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un essai clinique randomisé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63400" y="2222640"/>
            <a:ext cx="7265880" cy="31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tients éligibles : patients traités par multithérapie depuis au moins 1 mois, non hospitalisés, non inclus dans un autre protoc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ervention randomisée contrôlée : Programme MOTHIV de counseling infirmier.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Personnel spécifique formé et supervis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valuation du succès virologique et de l’observance 6 mois après la random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2320" y="393840"/>
            <a:ext cx="23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aractéri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à l’i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0440" y="39384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6280" y="3938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60" y="1279440"/>
            <a:ext cx="2373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ge mé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exe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Infection par 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Bac ou 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on empl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tad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D4 Mé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indét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aïfs d’ARV à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Durée médiane T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ntérieure (mo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58400" y="39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80760" y="1300320"/>
            <a:ext cx="75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23880" y="1300320"/>
            <a:ext cx="7599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61920" y="1300320"/>
            <a:ext cx="6760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6680" y="1219320"/>
            <a:ext cx="8610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58200" y="32076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35960" y="320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903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200" y="1230480"/>
            <a:ext cx="3319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Baisse moyenne de charge vi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 indétec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à M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1920" y="1154160"/>
            <a:ext cx="56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0.22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0.1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p=0.01 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64 %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4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520" y="382104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963960"/>
            <a:ext cx="3048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6600"/>
                </a:solidFill>
                <a:latin typeface="Arial"/>
              </a:rPr>
              <a:t>Sous groupe des patients détectables  à l’inclu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 indétec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à M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6312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9220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6312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5404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58800" y="521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0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5720" y="6477120"/>
            <a:ext cx="3157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cc99"/>
                </a:solidFill>
                <a:latin typeface="Arial"/>
              </a:rPr>
              <a:t>Pradier, Hiv Clin Trial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10952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62280" y="368280"/>
            <a:ext cx="16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5000" y="0"/>
            <a:ext cx="887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Évolution de l'observance entre M0 et M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772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336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0600" y="5842080"/>
            <a:ext cx="2635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oupe interv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73280" y="5842080"/>
            <a:ext cx="2184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oupe contrô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49360" y="2944800"/>
            <a:ext cx="895320" cy="23828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62640" y="2732040"/>
            <a:ext cx="896760" cy="259560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44680" y="2236680"/>
            <a:ext cx="897120" cy="3090960"/>
            <a:chOff x="3244680" y="2236680"/>
            <a:chExt cx="897120" cy="3090960"/>
          </a:xfrm>
        </p:grpSpPr>
        <p:sp>
          <p:nvSpPr>
            <p:cNvPr id="184" name=""/>
            <p:cNvSpPr/>
            <p:nvPr/>
          </p:nvSpPr>
          <p:spPr>
            <a:xfrm>
              <a:off x="3244680" y="2236680"/>
              <a:ext cx="89712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44680" y="2307960"/>
              <a:ext cx="897120" cy="936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4680" y="2401560"/>
              <a:ext cx="897120" cy="7164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4680" y="2473200"/>
              <a:ext cx="897120" cy="7128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4680" y="2544480"/>
              <a:ext cx="897120" cy="6984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4680" y="2614320"/>
              <a:ext cx="897120" cy="9540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4680" y="2709720"/>
              <a:ext cx="897120" cy="6984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4680" y="2779560"/>
              <a:ext cx="897120" cy="7128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4680" y="2850840"/>
              <a:ext cx="897120" cy="6984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4680" y="2920680"/>
              <a:ext cx="897120" cy="9540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4680" y="3016080"/>
              <a:ext cx="897120" cy="6984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4680" y="3085920"/>
              <a:ext cx="897120" cy="7164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4680" y="3157560"/>
              <a:ext cx="897120" cy="9360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4680" y="3251160"/>
              <a:ext cx="897120" cy="7128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4680" y="3322440"/>
              <a:ext cx="897120" cy="7164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44680" y="3394080"/>
              <a:ext cx="897120" cy="6984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4680" y="3463920"/>
              <a:ext cx="897120" cy="9504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4680" y="3558960"/>
              <a:ext cx="897120" cy="6984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4680" y="3628800"/>
              <a:ext cx="897120" cy="7164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4680" y="3700440"/>
              <a:ext cx="897120" cy="9360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4680" y="3794040"/>
              <a:ext cx="897120" cy="7128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4680" y="3865320"/>
              <a:ext cx="897120" cy="7164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4680" y="3936960"/>
              <a:ext cx="897120" cy="6984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4680" y="4006800"/>
              <a:ext cx="897120" cy="9504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44680" y="4101840"/>
              <a:ext cx="897120" cy="6984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4680" y="4171680"/>
              <a:ext cx="897120" cy="7164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4680" y="4243320"/>
              <a:ext cx="897120" cy="6984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4680" y="4313160"/>
              <a:ext cx="897120" cy="9504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4680" y="4408200"/>
              <a:ext cx="897120" cy="6984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4680" y="4478040"/>
              <a:ext cx="897120" cy="7164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4549680"/>
              <a:ext cx="897120" cy="9360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4680" y="4643280"/>
              <a:ext cx="897120" cy="712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4680" y="4714560"/>
              <a:ext cx="897120" cy="7164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680" y="4786200"/>
              <a:ext cx="897120" cy="6984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4680" y="4856040"/>
              <a:ext cx="897120" cy="9540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680" y="4951440"/>
              <a:ext cx="897120" cy="6984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4680" y="5021280"/>
              <a:ext cx="897120" cy="712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44680" y="5092560"/>
              <a:ext cx="897120" cy="6984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4680" y="5162400"/>
              <a:ext cx="897120" cy="9540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4680" y="5257800"/>
              <a:ext cx="897120" cy="69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244680" y="2236680"/>
            <a:ext cx="897120" cy="3090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359400" y="2803680"/>
            <a:ext cx="873000" cy="2523600"/>
            <a:chOff x="6359400" y="2803680"/>
            <a:chExt cx="873000" cy="2523600"/>
          </a:xfrm>
        </p:grpSpPr>
        <p:sp>
          <p:nvSpPr>
            <p:cNvPr id="226" name=""/>
            <p:cNvSpPr/>
            <p:nvPr/>
          </p:nvSpPr>
          <p:spPr>
            <a:xfrm>
              <a:off x="6359400" y="2803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59400" y="2874960"/>
              <a:ext cx="873000" cy="4536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59400" y="2920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9400" y="2992320"/>
              <a:ext cx="873000" cy="709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59400" y="3063600"/>
              <a:ext cx="873000" cy="457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59400" y="3109680"/>
              <a:ext cx="873000" cy="7128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9400" y="3181320"/>
              <a:ext cx="873000" cy="6948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59400" y="3251160"/>
              <a:ext cx="873000" cy="4716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9400" y="3298680"/>
              <a:ext cx="873000" cy="7092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9400" y="3369960"/>
              <a:ext cx="873000" cy="6948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9400" y="3439800"/>
              <a:ext cx="873000" cy="4752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9400" y="3487680"/>
              <a:ext cx="873000" cy="7092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59400" y="3558960"/>
              <a:ext cx="873000" cy="6948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59400" y="3628800"/>
              <a:ext cx="873000" cy="4716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9400" y="3676320"/>
              <a:ext cx="873000" cy="7128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9400" y="3747960"/>
              <a:ext cx="873000" cy="6948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59400" y="3817800"/>
              <a:ext cx="873000" cy="4716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59400" y="3865320"/>
              <a:ext cx="873000" cy="7128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9400" y="3936960"/>
              <a:ext cx="873000" cy="6948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9400" y="4006800"/>
              <a:ext cx="873000" cy="7092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59400" y="4078080"/>
              <a:ext cx="873000" cy="4572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59400" y="4124160"/>
              <a:ext cx="873000" cy="7092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59400" y="4195440"/>
              <a:ext cx="873000" cy="7128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59400" y="4267080"/>
              <a:ext cx="873000" cy="4572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59400" y="4313160"/>
              <a:ext cx="873000" cy="7092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59400" y="4384440"/>
              <a:ext cx="873000" cy="6948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9400" y="4454280"/>
              <a:ext cx="873000" cy="4752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59400" y="4502160"/>
              <a:ext cx="873000" cy="7092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59400" y="4573440"/>
              <a:ext cx="873000" cy="6948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9400" y="4643280"/>
              <a:ext cx="873000" cy="4716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9400" y="4690800"/>
              <a:ext cx="873000" cy="7128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59400" y="4762440"/>
              <a:ext cx="873000" cy="694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59400" y="4832280"/>
              <a:ext cx="873000" cy="4716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59400" y="4879800"/>
              <a:ext cx="873000" cy="7128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59400" y="4951440"/>
              <a:ext cx="873000" cy="6948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59400" y="5021280"/>
              <a:ext cx="873000" cy="4716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59400" y="5068800"/>
              <a:ext cx="873000" cy="709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59400" y="5140080"/>
              <a:ext cx="873000" cy="694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59400" y="5209920"/>
              <a:ext cx="873000" cy="475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9400" y="5257800"/>
              <a:ext cx="873000" cy="69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359400" y="2803680"/>
            <a:ext cx="873360" cy="2523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87680" y="2025720"/>
            <a:ext cx="1440" cy="330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7840" y="532764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7840" y="4927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50216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7840" y="4102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17840" y="3676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327492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17840" y="2851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7840" y="244944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17840" y="202572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87680" y="5327640"/>
            <a:ext cx="62053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687680" y="5327280"/>
            <a:ext cx="144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80204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89300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1760" y="5162400"/>
            <a:ext cx="367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80280" y="4762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80280" y="433692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0280" y="3936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80280" y="3511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80280" y="31100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80280" y="2685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80280" y="22845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80280" y="186048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79800" y="5397480"/>
            <a:ext cx="3495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9840" y="5397480"/>
            <a:ext cx="497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-724320" y="3572640"/>
            <a:ext cx="2752920" cy="3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af5a3"/>
                </a:solidFill>
                <a:latin typeface="Arial"/>
              </a:rPr>
              <a:t>% patients observ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85080" y="3322800"/>
            <a:ext cx="189000" cy="1886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90720" y="322884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885080" y="3841920"/>
            <a:ext cx="189000" cy="188280"/>
            <a:chOff x="7885080" y="3841920"/>
            <a:chExt cx="189000" cy="188280"/>
          </a:xfrm>
        </p:grpSpPr>
        <p:sp>
          <p:nvSpPr>
            <p:cNvPr id="296" name=""/>
            <p:cNvSpPr/>
            <p:nvPr/>
          </p:nvSpPr>
          <p:spPr>
            <a:xfrm>
              <a:off x="7885080" y="3841920"/>
              <a:ext cx="189000" cy="234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85080" y="3865320"/>
              <a:ext cx="189000" cy="2340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85080" y="3889080"/>
              <a:ext cx="189000" cy="2376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85080" y="3913200"/>
              <a:ext cx="189000" cy="2340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85080" y="3936960"/>
              <a:ext cx="189000" cy="2160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5080" y="3958920"/>
              <a:ext cx="189000" cy="2376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85080" y="3983040"/>
              <a:ext cx="189000" cy="2340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85080" y="4006800"/>
              <a:ext cx="189000" cy="2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885080" y="3841920"/>
            <a:ext cx="189000" cy="1886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90720" y="374796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95080" y="152280"/>
            <a:ext cx="7419960" cy="12319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u CHU de Fort de Fran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préparation au traitement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9000" y="213984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Médecin </a:t>
            </a:r>
            <a:br>
              <a:rPr sz="2400"/>
            </a:b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-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08000" y="4052880"/>
            <a:ext cx="22352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tion thérapeu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angement de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position de la consultation d ’obser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73560" y="2022480"/>
            <a:ext cx="2641320" cy="19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Staff multidiscipli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Médecins, pharmacien, virologues, assistante sociale, conseiller thérapeut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30880" y="220968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onseillère thérapeu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76568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oix du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6280" y="4081320"/>
            <a:ext cx="22352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éparation au traitement (MOTH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&gt;&gt;&gt;Entret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&gt;&gt;&gt;Simulation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67120" y="2327400"/>
            <a:ext cx="339480" cy="304560"/>
          </a:xfrm>
          <a:prstGeom prst="rightArrow">
            <a:avLst>
              <a:gd name="adj1" fmla="val 50000"/>
              <a:gd name="adj2" fmla="val 27866"/>
            </a:avLst>
          </a:prstGeom>
          <a:solidFill>
            <a:srgbClr val="daf5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4880" y="2327400"/>
            <a:ext cx="339840" cy="304560"/>
          </a:xfrm>
          <a:prstGeom prst="rightArrow">
            <a:avLst>
              <a:gd name="adj1" fmla="val 50000"/>
              <a:gd name="adj2" fmla="val 27896"/>
            </a:avLst>
          </a:prstGeom>
          <a:solidFill>
            <a:srgbClr val="daf5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93720" y="308772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53240" y="308628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76640" y="25437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tien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89200" y="25437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tien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66120" y="25437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tien n°3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19000" y="37198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63200" y="33516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raitement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29120" y="3720960"/>
            <a:ext cx="4575240" cy="457200"/>
          </a:xfrm>
          <a:prstGeom prst="rightArrow">
            <a:avLst>
              <a:gd name="adj1" fmla="val 66667"/>
              <a:gd name="adj2" fmla="val 6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17960" y="308448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6440" y="4586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J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47320" y="4480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J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32120" y="449460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J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25760" y="3463920"/>
            <a:ext cx="23619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00840" y="250200"/>
            <a:ext cx="731628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u CHU de Fort de Fran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préparation au traitement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154240" y="2924280"/>
            <a:ext cx="5586480" cy="355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4680" y="152280"/>
            <a:ext cx="7380360" cy="12319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simulatio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34" name="161-6103_IMG" descr=""/>
          <p:cNvPicPr/>
          <p:nvPr/>
        </p:nvPicPr>
        <p:blipFill>
          <a:blip r:embed="rId1"/>
          <a:stretch/>
        </p:blipFill>
        <p:spPr>
          <a:xfrm>
            <a:off x="2187720" y="2946240"/>
            <a:ext cx="5527440" cy="3480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7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371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1905120"/>
            <a:ext cx="3409920" cy="17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iagnostic des besoins pour pouvoir prendre son tr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esure du degré d’adhé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apacité de l ’envir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30600" y="2166840"/>
            <a:ext cx="340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3b </a:t>
            </a: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(J</a:t>
            </a:r>
            <a:r>
              <a:rPr b="0" lang="fr-FR" sz="2000" spc="-1" strike="noStrike" baseline="-25000">
                <a:solidFill>
                  <a:srgbClr val="daf5a3"/>
                </a:solidFill>
                <a:latin typeface="Comic Sans MS"/>
              </a:rPr>
              <a:t>15</a:t>
            </a: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mpact du traitement sur la vie quotid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xploration des rout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nticipation des événements de non-obser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45080" y="3938760"/>
            <a:ext cx="27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Début du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 rot="18900000">
            <a:off x="5973840" y="502452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45080" y="47102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O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 rot="18900000">
            <a:off x="5230800" y="440532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3065400"/>
            <a:ext cx="205740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valuation du plan d 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utre plan d 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 rot="2700000">
            <a:off x="6934320" y="501804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05680" y="4637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979d9"/>
                </a:solidFill>
                <a:latin typeface="Comic Sans MS"/>
              </a:rPr>
              <a:t>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7791120" y="4741920"/>
            <a:ext cx="723960" cy="838080"/>
          </a:xfrm>
          <a:custGeom>
            <a:avLst/>
            <a:gdLst>
              <a:gd name="textAreaLeft" fmla="*/ 0 w 723960"/>
              <a:gd name="textAreaRight" fmla="*/ 724320 w 723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629240"/>
            <a:ext cx="34099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Reproduction du déroulement du tr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Une se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2600" y="419112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4480" y="4741920"/>
            <a:ext cx="246672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Vécu de la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dentifier et résoudre les difficul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lan d 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646360" y="530208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03800" y="550872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Patient prê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52280"/>
            <a:ext cx="8686800" cy="123192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prescription du traitement par le médecin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 et la consultation avec la conseillère thérapeutique</a:t>
            </a: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73320" y="152280"/>
            <a:ext cx="7642080" cy="10828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’observance 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de l’hôpital de Saint Martin des Caraïbe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20400" y="1801800"/>
            <a:ext cx="76280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Construction et définition du projet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18 mois.</a:t>
            </a:r>
            <a:r>
              <a:rPr b="0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Intervenants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 infirmières hospitalières consultantes à mi-temps, 1 médecin hospitalier prescripteu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Type d’interven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ntretiens individuels (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unseling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) prescrits par des médec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Supports d’interven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tilisation de guides d’entretien MOTHIV, fiches de suivi et d’é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Formation initiale des IDE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4 jours de formation aux techniques d’entretien et à la relation d’a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 jours de formation au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unseling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bservance pour le VI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4 jours de formation à la méthodologie des consultations (écriture des guides)                                                         …/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560" y="138240"/>
            <a:ext cx="7629480" cy="1000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MOTHIV : </a:t>
            </a:r>
            <a:br>
              <a:rPr sz="2800"/>
            </a:b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concept et stratégie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63400" y="1757160"/>
            <a:ext cx="694836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>
              <a:spcAft>
                <a:spcPts val="90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e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définition opérationnell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 l’observance thérapeu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Aft>
                <a:spcPts val="90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e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approche centrée sur la person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Aft>
                <a:spcPts val="90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e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intervention brève et structur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Aft>
                <a:spcPts val="75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Formation, suivi des équipes soign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5248440"/>
            <a:ext cx="86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2888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M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odèle de counseling appliqué à l’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servance 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Th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érapeutique</a:t>
            </a: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x traitements de  l’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I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nfection  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V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37760" y="829800"/>
            <a:ext cx="7473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Formation continue et suivi de l’intervention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Supervision sur site des IDE, et analyse 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tenus des entretiens (Assurance Qualité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Evalua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Impact sur la santé viro-clinique des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teurs : charge virale, CD4, renouvellement des ordonnances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Impact sur l’amélioration du comportement d’observance 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son main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teurs : planning thérapeutique, suivi des rendez-vous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Analyse des entretie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iches d’é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9360" y="219240"/>
            <a:ext cx="7748640" cy="12189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Données socio-démographiques 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et cliniques à l’inclusio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7480" y="1601280"/>
            <a:ext cx="752004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Nombre de personnes incluses dans la consultation à la date du 1er octobre :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 personn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Sexe 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28 femmes (dont  8 femmes enceintes vues à la 30ème semaine),et 12 hommes.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Age moyen 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40 an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Origine géographique :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ïti (28 personnes soit 70 % de la file active observance), France (4 pers. dont  3 de St Martin), Saint Domingue (3), Ste Lucie (3), Guyanna (1), Jamaïque (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Statut professionnel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68 % sont sans profession ou exercent des «jobs 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615080" cy="4762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Données socio-démographiques et cliniques à l’inclusion (suit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1720" y="1802880"/>
            <a:ext cx="69166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Mode de transmission :</a:t>
            </a:r>
            <a:r>
              <a:rPr b="0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étérosexuelle pour 39 patient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Charge virale à l’inclusion : </a:t>
            </a:r>
            <a:br>
              <a:rPr sz="2000"/>
            </a:br>
            <a:r>
              <a:rPr b="0" lang="fr-FR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V &gt; 50000 cop. : 21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50000 à 10000 cop. : 8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10000 à 1000 cop. : 5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1000 à 200 cop. : 2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&lt; 200 cop. : 2 patient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ngue de la consultation :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réole, Haïtien, Français, Angla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2120" y="304560"/>
            <a:ext cx="7792920" cy="10666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ésultats intermédiaires sur 6 moi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85560" y="2176560"/>
            <a:ext cx="7645320" cy="32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1- Nombre total d’entretiens MOTHIV :</a:t>
            </a:r>
            <a:r>
              <a:rPr b="1" lang="fr-FR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e la consultation d’observance (suivi)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1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’une réinitialisation de traitement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’une initialisation de traitement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e consultations PTME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e visites et/ou entretiens au cours de l’hospitalisation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04920" y="245880"/>
            <a:ext cx="7763040" cy="9903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ésultats intermédiaires sur 6 moi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5840" y="1653840"/>
            <a:ext cx="7755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 – Comparatif du renouvellement des ordonnances (Pharmacie du CH de St Martin) :</a:t>
            </a:r>
            <a:r>
              <a:rPr b="1" lang="fr-FR" sz="2000" spc="-1" strike="noStrike">
                <a:solidFill>
                  <a:srgbClr val="daf5a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échantillon de 10 patients en échec virologique (Cv &gt; 50000), suivis depuis plus d’un an avec traitement antirétroviral et dont le traitement est fourni par la pharmacie de l’hô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320920" y="3325680"/>
          <a:ext cx="5715000" cy="32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3325680"/>
                    <a:ext cx="57150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17720" y="257040"/>
            <a:ext cx="7921440" cy="9907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ésultats intermédiaires sur 6 moi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55320" y="1828800"/>
            <a:ext cx="7583400" cy="30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3 - Impact sur le partenariat pluridisciplinaire :</a:t>
            </a: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gmentation des recours des consultations spécialisées ainsi qu’auprès du service social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illeure connaissance partagée entre les IDE de l’observance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t les services de soins et de consul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8360" y="138240"/>
            <a:ext cx="7578720" cy="13017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 :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e définition opérationnelle 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de l’observance thérapeutiqu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55920" y="1916280"/>
            <a:ext cx="675288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 algn="just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observance thérapeutique désigne les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capaci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d’une person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à prendre un  traitement selon u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escription donnée. Ces capacités sont influenc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sitivement ou négativement par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des co-facte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i interagissent entre eux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03520" y="5289480"/>
            <a:ext cx="3349800" cy="649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comportement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08160" y="4755960"/>
            <a:ext cx="2687400" cy="649800"/>
          </a:xfrm>
          <a:prstGeom prst="ellipse">
            <a:avLst/>
          </a:prstGeom>
          <a:gradFill rotWithShape="0">
            <a:gsLst>
              <a:gs pos="0">
                <a:srgbClr val="1e1e7b"/>
              </a:gs>
              <a:gs pos="50000">
                <a:srgbClr val="3333cc"/>
              </a:gs>
              <a:gs pos="100000">
                <a:srgbClr val="1e1e7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émotio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108840" y="4754520"/>
            <a:ext cx="2536560" cy="649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552840" y="4222800"/>
            <a:ext cx="3197160" cy="649800"/>
          </a:xfrm>
          <a:prstGeom prst="ellipse">
            <a:avLst/>
          </a:prstGeom>
          <a:gradFill rotWithShape="0">
            <a:gsLst>
              <a:gs pos="0">
                <a:srgbClr val="1e1e7b"/>
              </a:gs>
              <a:gs pos="50000">
                <a:srgbClr val="3333cc"/>
              </a:gs>
              <a:gs pos="100000">
                <a:srgbClr val="1e1e7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gni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37520" y="437040"/>
            <a:ext cx="6927840" cy="5302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Les types de co-facteurs de l’observanc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9280" y="5535720"/>
            <a:ext cx="2590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06480" y="500220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60520" y="4329000"/>
            <a:ext cx="28702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Comportement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Rout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Compé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avoirs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8920" y="1598760"/>
            <a:ext cx="3047760" cy="19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Conditions de vie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Degré de soutien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tigmatisation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Qualité de la prise en charge sanitaire et 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3520" y="4237200"/>
            <a:ext cx="2743200" cy="167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Émotio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Anxié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Vie aff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État émotionnel nég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4920" y="1649520"/>
            <a:ext cx="3276720" cy="19530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gni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Repré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In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Moti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At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Vécu des effets second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694000">
            <a:off x="4500360" y="3244680"/>
            <a:ext cx="1563480" cy="146556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465560"/>
              <a:gd name="textAreaBottom" fmla="*/ 1465920 h 1465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5320" y="261360"/>
            <a:ext cx="75765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e approche fondée sur 4 postulat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90320" y="2068560"/>
            <a:ext cx="734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personne ne doit pas disparaître derrière son traitement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motiv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st un processus dynamique qui se génère et se maintient sous certaines condi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observance dépend des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stratégies d’ajust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a personne au traitement mais aussi à sa séropositivité et à son histoire thérapeutique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l faut anticiper avec la personne un ensemble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d’incidents critiqu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t la doter de compétences pour y faire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334520" y="250200"/>
            <a:ext cx="74829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e intervention brève et structuré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95200" y="2173320"/>
            <a:ext cx="7700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4 entretien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Des outil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planning thérapeuti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manuel d’entre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iche d’évaluation observ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iche de suivi et d’é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440" y="1847880"/>
            <a:ext cx="2527200" cy="3701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64200" y="1940040"/>
            <a:ext cx="29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Exemple du guid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e l’entret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06680" y="2422440"/>
            <a:ext cx="2524320" cy="368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952880" y="3108240"/>
            <a:ext cx="2330640" cy="340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90800" y="262080"/>
            <a:ext cx="6924600" cy="47916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Exemples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67320" y="1168560"/>
            <a:ext cx="3130560" cy="4408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427040" y="1138320"/>
            <a:ext cx="2943360" cy="4089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378160" y="2211480"/>
            <a:ext cx="2900160" cy="3800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25480" y="5983200"/>
            <a:ext cx="29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Diagnostic obser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7520" y="5864400"/>
            <a:ext cx="290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Evaluation des co-fact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de non observ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95560" y="152280"/>
            <a:ext cx="6819840" cy="59220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Exemples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371240" y="250200"/>
            <a:ext cx="744624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: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e formation spécifiqu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83760" y="2028600"/>
            <a:ext cx="75978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ormation à l’accompagnement thérapeutique (conduite d’entretien, utilisation d’outi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et appui méthodologique (analyse des difficultés rencontrées dans la pratique de la consultation et au niveau institutionnel, études de cas, gestion de crise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6:45:52Z</dcterms:created>
  <dc:creator>Comment Dire</dc:creator>
  <dc:description/>
  <dc:language>en-US</dc:language>
  <cp:lastModifiedBy>Maryline</cp:lastModifiedBy>
  <dcterms:modified xsi:type="dcterms:W3CDTF">2003-11-24T23:09:00Z</dcterms:modified>
  <cp:revision>220</cp:revision>
  <dc:subject>MOTHIV : concept, stratégie, résultats</dc:subject>
  <dc:title>MOTHIV - Modèle d'intervention en counseling sur l’observance thérapeutique aux traitements VIH/sida.</dc:title>
</cp:coreProperties>
</file>