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D43-63F5-4156-B94E-39AE754D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BF3-9932-46D7-8323-6A858BE0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C6C-3675-4CF5-83CA-4D132AB6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A82-4015-420A-AD23-2A059C27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099C-BD80-4F02-AAB8-4006DCA0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444B-3043-4B78-ACEC-3B00B114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848B-561C-47F0-A6CE-AE3D8A36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233E-1323-4085-8D20-0D9444CF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7986-BACD-467A-8F2D-7BBD3426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9679-EB4C-4DF9-AF36-D98D7ECE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CE87-CCF0-4C27-B134-55C025B2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AA2-0066-4B43-AA30-F95BDB4C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C08F-85B4-4EE4-A046-A81732E2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A1F5-B7EE-4096-A9D0-44DB8514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ED8B-7543-4DFA-8C69-AD8F89C9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4578-D1BC-4726-BCC8-F363E5F0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9914-F1C3-40A8-9310-0649DBE1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C8E-202F-4AA8-BF6C-63AB0048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1F7-0552-4159-81EF-F5CAA715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299-631C-4D85-91B3-A97D16A2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F71-F2F0-43F9-80F6-2957B3EA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918-AFC5-41D7-A1F6-7F81AC4B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644-13CB-417B-A37B-17F4757D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568-1B3B-405B-875E-1883238C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71480" y="117360"/>
            <a:ext cx="9513720" cy="6739200"/>
            <a:chOff x="771480" y="117360"/>
            <a:chExt cx="9513720" cy="6739200"/>
          </a:xfrm>
        </p:grpSpPr>
        <p:sp>
          <p:nvSpPr>
            <p:cNvPr id="1" name=""/>
            <p:cNvSpPr/>
            <p:nvPr/>
          </p:nvSpPr>
          <p:spPr>
            <a:xfrm>
              <a:off x="771480" y="6629400"/>
              <a:ext cx="394344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5105520" y="6746760"/>
              <a:ext cx="4873680" cy="65160"/>
              <a:chOff x="5105520" y="6746760"/>
              <a:chExt cx="487368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5105520" y="6746760"/>
                <a:ext cx="7524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791320" y="6746760"/>
                <a:ext cx="7488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477120" y="6746760"/>
                <a:ext cx="7308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162560" y="6746760"/>
                <a:ext cx="7308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848720" y="6746760"/>
                <a:ext cx="7488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34520" y="6746760"/>
                <a:ext cx="7488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9219960" y="6746760"/>
                <a:ext cx="7524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06120" y="6746760"/>
                <a:ext cx="7308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857160" y="762120"/>
              <a:ext cx="94280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05400" y="117360"/>
              <a:ext cx="7488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05400" y="347760"/>
              <a:ext cx="7488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05400" y="574560"/>
              <a:ext cx="7488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B2A7-46D3-40E7-A911-3C9AA7EA307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10285200" cy="6739200"/>
            <a:chOff x="0" y="117360"/>
            <a:chExt cx="10285200" cy="6739200"/>
          </a:xfrm>
        </p:grpSpPr>
        <p:sp>
          <p:nvSpPr>
            <p:cNvPr id="57" name=""/>
            <p:cNvSpPr/>
            <p:nvPr/>
          </p:nvSpPr>
          <p:spPr>
            <a:xfrm>
              <a:off x="771480" y="6529320"/>
              <a:ext cx="394344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1480" y="2438280"/>
              <a:ext cx="951372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117360"/>
              <a:ext cx="7524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347760"/>
              <a:ext cx="7524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574560"/>
              <a:ext cx="7524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033560"/>
              <a:ext cx="7524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90720" y="1260360"/>
              <a:ext cx="7524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90720" y="1490760"/>
              <a:ext cx="7524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0720" y="1717560"/>
              <a:ext cx="7524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720" y="1947960"/>
              <a:ext cx="7524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90720" y="2176560"/>
              <a:ext cx="7524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5105880" y="6670800"/>
              <a:ext cx="4873680" cy="64800"/>
              <a:chOff x="5105880" y="6670800"/>
              <a:chExt cx="487368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5105880" y="6670800"/>
                <a:ext cx="7524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91680" y="6670800"/>
                <a:ext cx="7488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477480" y="6670800"/>
                <a:ext cx="7308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62920" y="6670800"/>
                <a:ext cx="7308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849080" y="6670800"/>
                <a:ext cx="7488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534880" y="6670800"/>
                <a:ext cx="7488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220320" y="6670800"/>
                <a:ext cx="7524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906480" y="6670800"/>
                <a:ext cx="7308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90720" y="804960"/>
              <a:ext cx="7524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2148120" cy="1909800"/>
              <a:chOff x="0" y="3693960"/>
              <a:chExt cx="214812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9128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6440" y="3693960"/>
                <a:ext cx="147168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46440" y="4498920"/>
                <a:ext cx="11232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112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2A90-7ED4-4BFE-9882-4C7B10DF632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371600"/>
            <a:ext cx="9220320" cy="1523880"/>
          </a:xfrm>
          <a:prstGeom prst="rect">
            <a:avLst/>
          </a:prstGeom>
          <a:solidFill>
            <a:srgbClr val="003399"/>
          </a:solidFill>
          <a:ln cap="sq"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209680" y="29714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C. Tourette-Turgis*, M. Rébillon**, L. Bentz***, C. Pradier***, P. Asplanato****, M. Borghi****, J. Charlier****, G. Valentini****.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* Université de Rouen  et  COMMENT D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** COMMENT D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*** CISIH du CHU de N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****  Services d ’Hématologie Clinique, Médecine Interne, Maladies Infectieuses et Tropicales du CHU de N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771120" y="1523520"/>
            <a:ext cx="90867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LE COUNSELING VIH DANS L’OBSERVANCE THERAPEUTIQU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Nantes, FNLCS – 19 octbre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</a:rPr>
              <a:t>B – THEME EMOTIONEL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(suite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1120" y="1980720"/>
            <a:ext cx="874404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4) Avez-vous été confronté(e) à des événements particuliers dans les six derniers mois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5) Au niveau affectif, amoureux, sexuel, comment est-ce que cela se passe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6) Et pour la prévention 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5440" y="631044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F0F-A908-43F4-B805-BBE7D5ADA2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1120" y="-7668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SCRIPT ENTRETIEN N°1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9829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66ffff"/>
                </a:solidFill>
                <a:uFillTx/>
                <a:latin typeface="Times New Roman"/>
              </a:rPr>
              <a:t>C - THEME COGNIT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Qu’est-ce que vous savez sur votre charge virale 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2) Qu’est-ce que vous savez sur votre taux de CD4 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D’après vous, qu’est-ce qui fait que vous arrivez ou n ’arrivez pas à suivre les horaires et les contraintes des pris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4) Qu’est-ce que vous attendez de votre traitement 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066680"/>
            <a:ext cx="9982440" cy="0"/>
          </a:xfrm>
          <a:prstGeom prst="line">
            <a:avLst/>
          </a:prstGeom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5440" y="644508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547-D24E-4A7E-965A-0F47659757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1120" y="609480"/>
            <a:ext cx="87440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66ffff"/>
                </a:solidFill>
                <a:uFillTx/>
                <a:latin typeface="Times New Roman"/>
              </a:rPr>
              <a:t>C – THEME COGNITIF </a:t>
            </a:r>
            <a:r>
              <a:rPr b="0" lang="fr-FR" sz="2800" spc="-1" strike="noStrike">
                <a:solidFill>
                  <a:srgbClr val="66ffff"/>
                </a:solidFill>
                <a:latin typeface="Times New Roman"/>
              </a:rPr>
              <a:t>(suite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7534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5) Est-ce que vous avez des effets secondaires ?   </a:t>
            </a:r>
            <a:r>
              <a:rPr b="1" lang="fr-FR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Non   </a:t>
            </a:r>
            <a:r>
              <a:rPr b="1" lang="fr-FR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Oui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Si oui : 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- lesquels ?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- comment vivez-vous ces effets secondaires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6) Quels effets secondaires pourraient vous amener à sauter une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ou plusieurs prises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7) Quels effets secondaires vous ont déjà amené à sauter une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ou plusieurs prises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8) Que pensez-vous faire par rapport à cela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5440" y="631044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0FB-2966-4EC6-BB3F-E5FCE48BA5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71120" y="151920"/>
            <a:ext cx="8744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SCRIPT ENTRETIEN N°1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7436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66ffff"/>
                </a:solidFill>
                <a:uFillTx/>
                <a:latin typeface="Times New Roman"/>
              </a:rPr>
              <a:t>D - THEME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Qu’est-ce que vous faites dans la journée ? 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u  :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vez-vous une activité professionnelle ou autre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alarié(e)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rofession :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rrêt mala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En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hô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R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utres 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précis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9982440" cy="0"/>
          </a:xfrm>
          <a:prstGeom prst="line">
            <a:avLst/>
          </a:prstGeom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2640" y="644508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D1D-AE47-499D-B801-93DCE04FC7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66ffff"/>
                </a:solidFill>
                <a:uFillTx/>
                <a:latin typeface="Times New Roman"/>
              </a:rPr>
              <a:t>D – THEME SOCIAL </a:t>
            </a:r>
            <a:r>
              <a:rPr b="0" lang="fr-FR" sz="2800" spc="-1" strike="noStrike">
                <a:solidFill>
                  <a:srgbClr val="66ffff"/>
                </a:solidFill>
                <a:latin typeface="Times New Roman"/>
              </a:rPr>
              <a:t>(suite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71120" y="1980720"/>
            <a:ext cx="87440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2) Est-ce que vous avez des soucis matériels actuellement 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Est-ce que vous êtes soutenu(e), par une assistante sociale, une association ou autre 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3) Est-ce que le lieu où vous vivez vous pose problème pour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prendre votre traitement 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5440" y="631044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130-0A86-4E56-88ED-D144F8DCAA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66ffff"/>
                </a:solidFill>
                <a:uFillTx/>
                <a:latin typeface="Times New Roman"/>
              </a:rPr>
              <a:t>D – THEME SOCIAL </a:t>
            </a:r>
            <a:r>
              <a:rPr b="0" lang="fr-FR" sz="2800" spc="-1" strike="noStrike">
                <a:solidFill>
                  <a:srgbClr val="66ffff"/>
                </a:solidFill>
                <a:latin typeface="Times New Roman"/>
              </a:rPr>
              <a:t>(suite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4) Prenez-vous votre traitement seul(e) ou en présence de quelqu’un, où, quand, et le week end ... 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5) Avec qui parlez-vous de votre traitement ?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6) Qui vous aide à prendre votre traitement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7) Lorsque vous avez besoin d’informations sur votre traitement,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à qui vous adressez-vous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8)  Quels sont vos projets pour les mois qui viennent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5440" y="631044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414-78EB-43A4-A02C-C1DBC1D68A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9172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AUTO EVALUATION DE</a:t>
            </a:r>
            <a:br>
              <a:rPr sz="3200"/>
            </a:b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L ’ENTRETIEN PAR LE/LA PATIENT/E</a:t>
            </a:r>
            <a:br>
              <a:rPr sz="3200"/>
            </a:b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71120" y="2514600"/>
            <a:ext cx="87440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Comment avez-vous vécu cet entretien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371600"/>
            <a:ext cx="9982440" cy="0"/>
          </a:xfrm>
          <a:prstGeom prst="line">
            <a:avLst/>
          </a:prstGeom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5440" y="631044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91C-08E9-4E43-9F25-091137477B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829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FICHE SUIVI </a:t>
            </a:r>
            <a:br>
              <a:rPr sz="3200"/>
            </a:b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1120" y="1599840"/>
            <a:ext cx="87440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* Prochain rendez-vous proposé dans 2 mois :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Oui   </a:t>
            </a:r>
            <a:r>
              <a:rPr b="1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N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i  non, pourquoi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* Prochain rendez-vous proposé dans __mois. Date : __ / __  / __  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* Proposition de consultation d'orientation :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Non   </a:t>
            </a:r>
            <a:r>
              <a:rPr b="1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O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i oui :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Assistante sociale Psycholo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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sycholo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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iététicien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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utre (préciser)  ________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* E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*Actions à faire par la personne 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* Résultat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Ex : Est-ce qu’il/elle a pris une / des décisions pend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’entretien ? Laquelle ou lesquelles ?)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1219320"/>
            <a:ext cx="9982440" cy="0"/>
          </a:xfrm>
          <a:prstGeom prst="line">
            <a:avLst/>
          </a:prstGeom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8C9-EE65-453A-8648-274C23A12E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82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DEFINITION DE L’OBSERVANCE THERAPEUTIQU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1120" y="1980720"/>
            <a:ext cx="8829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L’observance thérapeutique peut être définie comme la capacité d’une personne à prendre un traitement selon une prescription donné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Plusieurs composantes concourent à l’observance thérapeutique et à son maintien :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gt;&gt;&gt; cognitive, émotionnelle, comportementale et sociale.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Ces composantes peuvent interagir les unes sur les autres de façon positive ou négativ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371600"/>
            <a:ext cx="9982440" cy="0"/>
          </a:xfrm>
          <a:prstGeom prst="line">
            <a:avLst/>
          </a:prstGeom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7DC-8282-4AD0-8200-906D546D92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151920"/>
            <a:ext cx="951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PRINCIPES DU COUNSELING VIH DANS L’OBSERVANCE THERAPEUTIQU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1480" y="1828440"/>
            <a:ext cx="8982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66ffff"/>
                </a:solidFill>
                <a:uFillTx/>
                <a:latin typeface="Times New Roman"/>
              </a:rPr>
              <a:t>Il s’agit d’un counseling 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40000"/>
              </a:lnSpc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se déroulant sur un temps bref (4 séances)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40000"/>
              </a:lnSpc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centré sur la personne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40000"/>
              </a:lnSpc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structuré (le praticien dispose d’un guide d’entretiens)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actif (le praticien participe à la résolution des problèmes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de la personne)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fondé sur l’écoute et l’acceptation de la diversité des styles de vie (orientation sexuelle, appartenance culturelle et religieuse, etc.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371600"/>
            <a:ext cx="9982440" cy="0"/>
          </a:xfrm>
          <a:prstGeom prst="line">
            <a:avLst/>
          </a:prstGeom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5440" y="631044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2A2-CFEF-4CDF-A46A-F8DE311DCE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080" y="759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OBJECTIFS DU COUNSELING VIH DANS L’OBSERVANCE THERAPEUTIQU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71120" y="1752120"/>
            <a:ext cx="8744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66ffff"/>
                </a:solidFill>
                <a:uFillTx/>
                <a:latin typeface="Times New Roman"/>
              </a:rPr>
              <a:t>Il s’agit d’aider chaque personne à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clarifier ses connaissances, ses croyances, ses valeurs liées à l’infection par le VIH et ses traitements,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identifier les réaménagements à introduire dans sa vie pour intégrer les traitements,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résoudre les problèmes ayant un impact sur sa qualité de vie,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explorer ses besoins et identifier son réseau de soutien,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ctr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…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/…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1371600"/>
            <a:ext cx="9982440" cy="0"/>
          </a:xfrm>
          <a:prstGeom prst="line">
            <a:avLst/>
          </a:prstGeom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5440" y="631044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DA2-2280-45E5-8503-DAD88819D7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1120" y="380880"/>
            <a:ext cx="8744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OBJECTIFS (suite)</a:t>
            </a:r>
            <a:br>
              <a:rPr sz="3200"/>
            </a:b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1120" y="1676160"/>
            <a:ext cx="8744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donner un sens à ce qui se passe autour de sa santé et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ses traitements,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anticiper les obstacles à l’observance et explorer des solutions,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mobiliser ses compétences à la gestion de crise,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continuer son développement personnel (scénario de vie et projets)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4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mobiliser les ressources existan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371600"/>
            <a:ext cx="9982440" cy="0"/>
          </a:xfrm>
          <a:prstGeom prst="line">
            <a:avLst/>
          </a:prstGeom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5440" y="631044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48C-F333-4DCC-B420-1D31563593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SCRIPT ENTRETIEN N°1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71120" y="1523880"/>
            <a:ext cx="8829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66ffff"/>
                </a:solidFill>
                <a:uFillTx/>
                <a:latin typeface="Times New Roman"/>
              </a:rPr>
              <a:t>A - THEME COMPORTE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1) Comment ça se passe, pour vous, vos traitements ?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2) Pouvez-vous me raconter comment vous avez pris  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médicaments hier 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3) Dans la journée, quelle est la prise la plus facile ?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4) Quelle est la prise la plus difficile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5) Comment faites-vous pour vous rappeler vos prises de médicaments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371600"/>
            <a:ext cx="9982440" cy="0"/>
          </a:xfrm>
          <a:prstGeom prst="line">
            <a:avLst/>
          </a:prstGeom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5440" y="631044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4A3-577B-4A70-A331-D34B120059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71120" y="45720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66ffff"/>
                </a:solidFill>
                <a:uFillTx/>
                <a:latin typeface="Times New Roman"/>
              </a:rPr>
              <a:t>A – THEME COMPORTEMENTAL </a:t>
            </a:r>
            <a:r>
              <a:rPr b="0" lang="fr-FR" sz="2800" spc="-1" strike="noStrike">
                <a:solidFill>
                  <a:srgbClr val="66ffff"/>
                </a:solidFill>
                <a:latin typeface="Times New Roman"/>
              </a:rPr>
              <a:t>(suite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71120" y="1219320"/>
            <a:ext cx="87440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6) Comment prenez-vous vos médicaments lorsque vous n’êtes pas chez vous 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6bis) </a:t>
            </a:r>
            <a:r>
              <a:rPr b="0" lang="fr-FR" sz="2500" spc="-1" strike="noStrike">
                <a:solidFill>
                  <a:srgbClr val="ffffff"/>
                </a:solidFill>
                <a:latin typeface="Times New Roman"/>
              </a:rPr>
              <a:t>(Facultatif) </a:t>
            </a:r>
            <a:r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Où les rangez-vous quand vous êtes chez vous 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dans la cuisine</a:t>
            </a:r>
            <a:r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dans la Salle de Bain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dans une armoire à pharmacie</a:t>
            </a:r>
            <a:r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dans la chambre</a:t>
            </a:r>
            <a:br>
              <a:rPr sz="2500"/>
            </a:br>
            <a:br>
              <a:rPr sz="2500"/>
            </a:br>
            <a:r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Où les rangez-vous quand vous êtes en déplacement ?</a:t>
            </a:r>
            <a:br>
              <a:rPr sz="2500"/>
            </a:br>
            <a:r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7) La dernière fois que vous n’avez pas pu  prendre votre traitement, comment avez-vous fait ? </a:t>
            </a:r>
            <a:r>
              <a:rPr b="0" lang="fr-FR" sz="2500" spc="-1" strike="noStrike">
                <a:solidFill>
                  <a:srgbClr val="ffffff"/>
                </a:solidFill>
                <a:latin typeface="Times New Roman"/>
              </a:rPr>
              <a:t>(Si il n’y a pas eu d’oublis ou autre, passer à la question 9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5440" y="631044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C2E-F44A-41FA-BC3E-CF4249DE0D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66ffff"/>
                </a:solidFill>
                <a:uFillTx/>
                <a:latin typeface="Times New Roman"/>
              </a:rPr>
              <a:t>A – THEME COMPORTEMENTAL </a:t>
            </a:r>
            <a:r>
              <a:rPr b="0" lang="fr-FR" sz="2800" spc="-1" strike="noStrike">
                <a:solidFill>
                  <a:srgbClr val="66ffff"/>
                </a:solidFill>
                <a:latin typeface="Times New Roman"/>
              </a:rPr>
              <a:t>(suite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9515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8) Qu’est-ce que vous vous êtes dit après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9)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Dans le cas de figure où il n’y a jamais eu d’oubli de traitement 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- Dans quelle(s) situation(s) cela pourrait-il vous   arriver ?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- Si cela vous arrivait, comment feriez-vous 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5440" y="631044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45B-C889-486E-AD3B-AA7FF515BF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112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SCRIPT ENTRETIEN N°1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1120" y="1447560"/>
            <a:ext cx="8744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66ffff"/>
                </a:solidFill>
                <a:uFillTx/>
                <a:latin typeface="Times New Roman"/>
              </a:rPr>
              <a:t>B - THEME EMOTI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1) Comment vous sentez-vous en ce moment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2) Qu’est-ce qui est le plus difficile pour vous actuellement ?</a:t>
            </a:r>
            <a:br>
              <a:rPr sz="2600"/>
            </a:b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(si le patient expose un problème, poursuivre avec la question 3, sinon passer à la question 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3) Qu’est-ce que vous comptez faire face à cela ?</a:t>
            </a:r>
            <a:br>
              <a:rPr sz="2600"/>
            </a:b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Ou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Qu’est-ce que vous pourriez faire pour résoudre ce problème 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143000"/>
            <a:ext cx="9982440" cy="0"/>
          </a:xfrm>
          <a:prstGeom prst="line">
            <a:avLst/>
          </a:prstGeom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5440" y="6310440"/>
            <a:ext cx="31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opyright 1998, COMMENT D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1998, COMMENT DI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8DB-06E5-4795-A948-C43E79F099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1T09:20:55Z</dcterms:created>
  <dc:creator>Catherine Tourette-Turgis, Maryline Rébillon</dc:creator>
  <dc:description/>
  <dc:language>en-US</dc:language>
  <cp:lastModifiedBy>Maryline</cp:lastModifiedBy>
  <cp:lastPrinted>2000-10-05T15:06:45Z</cp:lastPrinted>
  <dcterms:modified xsi:type="dcterms:W3CDTF">2003-11-28T10:14:59Z</dcterms:modified>
  <cp:revision>154</cp:revision>
  <dc:subject/>
  <dc:title>DEFINITION DE L’OBSERVANCE THERAPEUTIQUE</dc:title>
</cp:coreProperties>
</file>