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1028-B813-4B7C-9460-19789BA7A3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8A98-B4DC-416A-B2BD-2EDD9B3E8E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FC47-839B-4EDF-9CF2-0ACCA8E3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60B1-270B-44B0-8F0C-6EB04753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A5F2-FA18-4909-A087-B4600018CA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1C4C5-3B2C-4C5E-B5FF-6C827012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63523-378F-4FF1-856A-E98097A6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A433E-7DCC-4E2C-96C6-3D79CDB2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8C755-1C43-4A37-A503-CFC2B022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A3FF1-4B6E-4F70-AB9A-D90D2BDF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2F63D-F538-4187-95E4-62E330F4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C2D06-C665-4BC4-829B-FB7ED878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CB71-A399-45EE-88B4-A75D9A6A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037B5-1988-4386-A846-2B0FA289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F6E1E-A66B-4F07-9666-1FFB55E8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7D3BB-DF7E-4298-AD3A-31531C06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051C2-2B05-449A-AF41-EA3F7FF0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32CF0-5B82-4CBD-AC6B-43258DD6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117B-614E-4667-A548-5D7B1063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0BA0-269B-4046-8E1B-C1AECC98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26F3-76F6-400A-81A4-816E889B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3A46-AB2D-4243-87B3-3659D3A8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AEAC4-BC3F-443E-9951-254A9881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C9B2-5D95-4B77-82E0-410C83A8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359A3-30A9-49C2-BD5F-751C6689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BC7F-8E93-44F0-8A74-980549ABAE1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2704-9797-4637-9B50-50BCB1C40B6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66"/>
                </a:solidFill>
                <a:latin typeface="Arial"/>
              </a:rPr>
              <a:t>Dépistage, réduction des risques sexuels, prévention…</a:t>
            </a:r>
            <a:br>
              <a:rPr sz="4400"/>
            </a:br>
            <a:r>
              <a:rPr b="1" lang="fr-FR" sz="4400" spc="-1" strike="noStrike">
                <a:solidFill>
                  <a:srgbClr val="ffcc66"/>
                </a:solidFill>
                <a:latin typeface="Arial"/>
              </a:rPr>
              <a:t>Le counseling en actio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14800" y="4419360"/>
            <a:ext cx="449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Catherine Tourette-Turg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Maître de Conférences des Universités / Comment Di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Objectifs :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ider la personne à identifier les changements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 qu’elle a déjà effectués ou envisage d’effectu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Identifier et Renforcer ses inten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xplorer la perception du risque VIH de ses pairs,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de son entour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larifier les fausses croyances, donner les information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nécessaires complémentai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1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– Identifier les actions et les intentions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     de la personn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8954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8098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4956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4100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Scripts d’entretien et questions ouvertes suggérés 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’est-ce que vous faîtes en ce moment pour protéger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os relations sexuelles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’est-ce que vos amis, vos partenaires disent sur le VI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t le SIDA 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vec qui utilisez-vous des préservatifs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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/…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1 – Identifier les actions et les intentions </a:t>
            </a:r>
            <a:br>
              <a:rPr sz="1800"/>
            </a:b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      de la personn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8954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38098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80060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  <a:ea typeface="Arial"/>
              </a:rPr>
              <a:t>Scripts d’entretien et questions ouvertes suggérés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Quelle est la fréquence d’utilisation des préservatifs av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votre partenaire habituel 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Quelle est la fréquence d’utilisation des préservatifs av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les partenaires que vous ne connaissez pas très bien 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Quand avez-vous commencé à réduire vos risques 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Qu’est-ce qui s’est passé à ce moment là qui a fait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vous ayez pu le faire ?</a:t>
            </a: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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1 – Identifier les actions et les intentions </a:t>
            </a:r>
            <a:br>
              <a:rPr sz="1800"/>
            </a:b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      de la personn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40384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31240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87692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548640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205704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Objectifs :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ider la personne à identifier les obstacles rencontré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ans sa préventio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xplorer en détail ses tentatives en l’aidant à décrire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ans ses propres mots ses difficulté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nticiper d’autres obstac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2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– Identifier les obstacles rencontrés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       par la personn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0481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411480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51055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09120" y="19810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Scripts d’entretien et questions ouvertes suggérés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lle est  la partie la plus difficile à changer dans votre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ortement ?… votre attitude ?… vos croyances 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ls obstacles avez-vous rencontré chaque fois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vous avez essayé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ls obstacles allez-vous rencontrer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ment vous vous en êtes sorti(e) la dernière fois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…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2 – Identifier les obstacles rencontrés </a:t>
            </a:r>
            <a:br>
              <a:rPr sz="1800"/>
            </a:b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        par la personn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48769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55627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8195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61760" y="205704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Scripts d’entretien et questions ouvertes suggéré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ment allez-vous faire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’est-ce qui va se passer si vous renoncez à vo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ortement habituel ?  à vos croyances ?  à vo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pinion antérieure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i d’après vous, va tenter de saboter vos intentions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219320" y="289548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2 – Identifier les obstacles rencontrés </a:t>
            </a:r>
            <a:br>
              <a:rPr sz="1800"/>
            </a:b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        par la personn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365760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1055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7720" y="18288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Objectifs :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ider la personne à construire  les différentes éta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’un plan de réduction des risques en y intégrant le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bstacles anticipé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alider son initiative, rester centré(e) sur son senti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 compétence personnelle essentielle à la réuss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 l’action.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3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– Aider la personne à établir un plan personnalisé de réduction des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281952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426708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80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Scripts d’entretien et questions ouvertes suggérés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elle est la chose que vous pourriez faire dè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aintenant 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st-ce que cela vous paraît réaliste ? Qu’est-ce q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ous fait dire que cela va marcher comme prévu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i va vous aider dans votre entourage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r quelle partie de vous, allez-vous vous appuyer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3 – Aider la personne à établir un plan personnalisé de réduction des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97180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411480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51814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594360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144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Scripts d’entretien et questions ouvertes suggéré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 quoi auriez-vous besoin pour être sûr(e) d’y arriver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n quoi ce changement va faciliter votre vie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t si vous commenciez par une chose très simple 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aire qui ne vous mettrait ni en difficulté, ni en échec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uction de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3 – Aider la personne à établir un plan personnalisé de réduction des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320040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396252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64832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66"/>
                </a:solidFill>
                <a:latin typeface="Arial"/>
              </a:rPr>
              <a:t>Remerciements aux partenair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DAG - Croix Rouge Française (Par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llule CDAG – Toulon / Conseil Général 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DAG – Hôpital F. Widal (AP-H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DAG Strasbourg (DDASS 67 et Hôpitaux Universitaires de Strasbour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DASS et COGES Guadeloupe (CDAG – Pointe à Pitre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t St Martin des Caraïb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RASS Midi-Pyrénées (Stages à Toulou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DAG – Rue du Jura, Paris – Médecins du Mo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’évaluation du risque sexuel nécessite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Arial"/>
              </a:rPr>
              <a:t>l’explorat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avec la personne des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Arial"/>
              </a:rPr>
              <a:t>situation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et des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Arial"/>
              </a:rPr>
              <a:t>comportement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’ayant exposée passivement ou activement à un risque de contamin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Formuler des questions préci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Favoriser l’express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Faire appel à l’histoire présente / passé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038480"/>
            <a:ext cx="30456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419720"/>
            <a:ext cx="30456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800600"/>
            <a:ext cx="30456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81280" y="13716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Conduire un bref historique </a:t>
            </a:r>
            <a:br>
              <a:rPr sz="2400"/>
            </a:b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du risque sexuel </a:t>
            </a:r>
            <a:br>
              <a:rPr sz="2400"/>
            </a:b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diagnostic 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    prévention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Expliquer à la personne pourquoi on lui pose des questions sur ses pratiques sexuelle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Parler de sexualité peut être accompagné d’émotions difficiles à gérer même si l’anonymat facilite le récit.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Poser les questions essentielles, ne pas laisser la personne nous en confier plus qu’elle ne le désire ou que l’on en a besoin.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bd04924_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380880" cy="515880"/>
          </a:xfrm>
          <a:prstGeom prst="rect">
            <a:avLst/>
          </a:prstGeom>
          <a:ln w="0">
            <a:noFill/>
          </a:ln>
        </p:spPr>
      </p:pic>
      <p:pic>
        <p:nvPicPr>
          <p:cNvPr id="104" name="bd04924_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81240" cy="515880"/>
          </a:xfrm>
          <a:prstGeom prst="rect">
            <a:avLst/>
          </a:prstGeom>
          <a:ln w="0">
            <a:noFill/>
          </a:ln>
        </p:spPr>
      </p:pic>
      <p:pic>
        <p:nvPicPr>
          <p:cNvPr id="105" name="bd04924_" descr=""/>
          <p:cNvPicPr/>
          <p:nvPr/>
        </p:nvPicPr>
        <p:blipFill>
          <a:blip r:embed="rId3"/>
          <a:stretch/>
        </p:blipFill>
        <p:spPr>
          <a:xfrm>
            <a:off x="762120" y="5334120"/>
            <a:ext cx="380880" cy="515880"/>
          </a:xfrm>
          <a:prstGeom prst="rect">
            <a:avLst/>
          </a:prstGeom>
          <a:ln w="0">
            <a:noFill/>
          </a:ln>
        </p:spPr>
      </p:pic>
      <p:pic>
        <p:nvPicPr>
          <p:cNvPr id="106" name="logoCommentDire" descr=""/>
          <p:cNvPicPr/>
          <p:nvPr/>
        </p:nvPicPr>
        <p:blipFill>
          <a:blip r:embed="rId4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1880" y="2743200"/>
            <a:ext cx="0" cy="3352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95880"/>
            <a:ext cx="7772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743200"/>
            <a:ext cx="0" cy="3352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609480"/>
            <a:ext cx="3353040" cy="990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Black"/>
              </a:rPr>
              <a:t>Évaluation du risque sexu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1337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971800" y="198072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’est-ce qui se passe ou qu’est-ce qui s’est passé qui fait que vous éprouvez des difficultés à avoir des relations sexuelles  protégées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  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s études montrent qu’il y a des personnes qui éprouvent le besoin d’utiliser l’alcool ou des drogues récréatives avant les rapports sexuels, en quoi ceci  s’applique-t-il à votre situation ? à celle de votre partenaire ? d’un de vos partenaires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9440" y="57150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…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905120"/>
            <a:ext cx="190512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2438280"/>
            <a:ext cx="8380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0574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Identification des difficul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886200"/>
            <a:ext cx="1905120" cy="1447920"/>
          </a:xfrm>
          <a:prstGeom prst="rect">
            <a:avLst/>
          </a:pr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572000"/>
            <a:ext cx="8380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03848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Exploration des contextes défavor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Exemples de questions starter sur 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      l’évaluation du risqu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valuation du risque sexu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971800" y="16761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vec quelle personne estimez-vous que vous n’avez pas besoin d’utiliser des préservatifs ? Que pense cette personne ?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l y a des fois, on désire se protéger mais on n’y arrive pas, y-a-t-il des personnes avec lesquelles cela vous est arrivé ? Dans quelles circonstances ?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écrivez moi une situation dans laquelle vous avez réussi à avoir une relation sexuelle protégée. Qu’est-ce qui s’est passé qui a fait que cela a été possible 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133720"/>
            <a:ext cx="152424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3505320"/>
            <a:ext cx="1524240" cy="761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029200"/>
            <a:ext cx="152424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1337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Straté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657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Capac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0292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Expérience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5410080"/>
            <a:ext cx="83844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886200"/>
            <a:ext cx="9144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438280"/>
            <a:ext cx="9903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52680" y="457200"/>
            <a:ext cx="2819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… </a:t>
            </a: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questions sta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valuation du risque sexu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33"/>
                </a:solidFill>
                <a:latin typeface="Arial"/>
              </a:rPr>
              <a:t>Piège 1 :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ez-vous une vie sexuelle en ce moment 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82880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819520"/>
            <a:ext cx="678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question est trop floue, pour certaines personnes « en ce moment  » signifie la semaine passée, pour d’autres le mois  passé, pour d’autres encore l’année passé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4267080"/>
            <a:ext cx="7315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ggestions :</a:t>
            </a:r>
            <a:r>
              <a:rPr b="0" i="1" lang="fr-FR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lle est la date de votre dernier rapport sexuel 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quand remonte votre dernier rapport sexuel 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5410080"/>
            <a:ext cx="4572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4952880"/>
            <a:ext cx="4572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352680" y="457200"/>
            <a:ext cx="5257800" cy="838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– Exemples de pièges à éviter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valuation du risque sexu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828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i="1" lang="fr-FR" sz="2400" spc="-1" strike="noStrike">
                <a:solidFill>
                  <a:srgbClr val="ff0033"/>
                </a:solidFill>
                <a:latin typeface="Arial"/>
              </a:rPr>
              <a:t>Piège 2 :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nsieur X, vous me dîtes que vous êtes marié mais vous est-il arrivé d’avoir des relations sexuelles avec d’autres femme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0200"/>
            <a:ext cx="8305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124080"/>
            <a:ext cx="69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question est trop précise. Mr X peut être bi-sexuel ou homosexuel, et comme vous suggérez qu’il est hétérosexuel, il n’osera pas vous en parler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267080"/>
            <a:ext cx="6705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ggestions :</a:t>
            </a:r>
            <a:r>
              <a:rPr b="0" i="1" lang="fr-FR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vez-vous des relations sexuelles au cours des derniers mois avec d’autres partenaires sexuels... des femmes... des hommes 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952880"/>
            <a:ext cx="3812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valuation du risque sexu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57200"/>
            <a:ext cx="2667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… 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pièges à évi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133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i="1" lang="fr-FR" sz="2400" spc="-1" strike="noStrike">
                <a:solidFill>
                  <a:srgbClr val="ff0033"/>
                </a:solidFill>
                <a:latin typeface="Arial"/>
              </a:rPr>
              <a:t>Piège 3 :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tilisez-vous des préservatif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5238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281952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question est trop précise. La personne peut répondre « oui » même si elle les utilise occasionnelle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3886200"/>
            <a:ext cx="71625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ggestions :</a:t>
            </a:r>
            <a:r>
              <a:rPr b="0" i="1" lang="fr-FR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ns quel type de rencontre et de situation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xuelle utilisez  vous des préservatifs ?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 vous n’en utilisez pas, comment faîtes-vous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525780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352680" y="457200"/>
            <a:ext cx="2667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… 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pièges à évi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228600"/>
            <a:ext cx="18288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valuation du risque sexu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32004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1 - identifier les actions et les intentions de la pers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2 - identifier les obstacles rencontrés par la perso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3 - Aider la personne à établir un plan personnalisé de réduction des risqu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971800"/>
            <a:ext cx="0" cy="3048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2971800"/>
            <a:ext cx="0" cy="3048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019920"/>
            <a:ext cx="7620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971800"/>
            <a:ext cx="7620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logoCommentDire" descr=""/>
          <p:cNvPicPr/>
          <p:nvPr/>
        </p:nvPicPr>
        <p:blipFill>
          <a:blip r:embed="rId1"/>
          <a:stretch/>
        </p:blipFill>
        <p:spPr>
          <a:xfrm>
            <a:off x="8458200" y="63482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280" y="609480"/>
            <a:ext cx="3124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Black"/>
              </a:rPr>
              <a:t>Réduction 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Arial Black"/>
              </a:rPr>
              <a:t>de ris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371600"/>
            <a:ext cx="556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Construire un plan de réduction  </a:t>
            </a:r>
            <a:br>
              <a:rPr sz="2400"/>
            </a:b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de risques sexuels </a:t>
            </a:r>
            <a:br>
              <a:rPr sz="2400"/>
            </a:b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réduction risques 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    préven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2209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mment Dire</dc:creator>
  <dc:description/>
  <cp:keywords>Dépistage CDAG prévention réduction de risques sexuels counseling</cp:keywords>
  <dc:language>en-US</dc:language>
  <cp:lastModifiedBy>Maryline</cp:lastModifiedBy>
  <dcterms:modified xsi:type="dcterms:W3CDTF">2003-06-14T11:00:00Z</dcterms:modified>
  <cp:revision>76</cp:revision>
  <dc:subject>Journée Réflexion DEPISTAGE</dc:subject>
  <dc:title>Colloque depistage VIH  - 16 juin 2003</dc:title>
</cp:coreProperties>
</file>