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9515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597480"/>
            <a:ext cx="9515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643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6720" y="1447920"/>
            <a:ext cx="4643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97480"/>
            <a:ext cx="4643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6720" y="3597480"/>
            <a:ext cx="4643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063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98200" y="1447920"/>
            <a:ext cx="3063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15160" y="1447920"/>
            <a:ext cx="3063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597480"/>
            <a:ext cx="3063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98200" y="3597480"/>
            <a:ext cx="3063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815160" y="3597480"/>
            <a:ext cx="3063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951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9515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64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6720" y="1447920"/>
            <a:ext cx="464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-36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643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6720" y="1447920"/>
            <a:ext cx="464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597480"/>
            <a:ext cx="4643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64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6720" y="1447920"/>
            <a:ext cx="4643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6720" y="3597480"/>
            <a:ext cx="4643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643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6720" y="1447920"/>
            <a:ext cx="4643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597480"/>
            <a:ext cx="9515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9515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52280"/>
            <a:ext cx="693720" cy="782640"/>
          </a:xfrm>
          <a:custGeom>
            <a:avLst/>
            <a:gdLst/>
            <a:ahLst/>
            <a:rect l="l" t="t" r="r" b="b"/>
            <a:pathLst>
              <a:path w="774" h="902">
                <a:moveTo>
                  <a:pt x="108" y="4"/>
                </a:moveTo>
                <a:lnTo>
                  <a:pt x="126" y="1"/>
                </a:lnTo>
                <a:lnTo>
                  <a:pt x="136" y="3"/>
                </a:lnTo>
                <a:lnTo>
                  <a:pt x="147" y="0"/>
                </a:lnTo>
                <a:lnTo>
                  <a:pt x="153" y="3"/>
                </a:lnTo>
                <a:lnTo>
                  <a:pt x="165" y="1"/>
                </a:lnTo>
                <a:lnTo>
                  <a:pt x="171" y="7"/>
                </a:lnTo>
                <a:lnTo>
                  <a:pt x="186" y="8"/>
                </a:lnTo>
                <a:lnTo>
                  <a:pt x="203" y="17"/>
                </a:lnTo>
                <a:lnTo>
                  <a:pt x="210" y="15"/>
                </a:lnTo>
                <a:lnTo>
                  <a:pt x="219" y="22"/>
                </a:lnTo>
                <a:lnTo>
                  <a:pt x="225" y="22"/>
                </a:lnTo>
                <a:lnTo>
                  <a:pt x="229" y="27"/>
                </a:lnTo>
                <a:lnTo>
                  <a:pt x="239" y="28"/>
                </a:lnTo>
                <a:lnTo>
                  <a:pt x="242" y="33"/>
                </a:lnTo>
                <a:lnTo>
                  <a:pt x="249" y="42"/>
                </a:lnTo>
                <a:lnTo>
                  <a:pt x="254" y="46"/>
                </a:lnTo>
                <a:lnTo>
                  <a:pt x="269" y="49"/>
                </a:lnTo>
                <a:lnTo>
                  <a:pt x="277" y="58"/>
                </a:lnTo>
                <a:lnTo>
                  <a:pt x="284" y="61"/>
                </a:lnTo>
                <a:lnTo>
                  <a:pt x="284" y="63"/>
                </a:lnTo>
                <a:lnTo>
                  <a:pt x="291" y="64"/>
                </a:lnTo>
                <a:lnTo>
                  <a:pt x="301" y="64"/>
                </a:lnTo>
                <a:lnTo>
                  <a:pt x="305" y="75"/>
                </a:lnTo>
                <a:lnTo>
                  <a:pt x="315" y="82"/>
                </a:lnTo>
                <a:lnTo>
                  <a:pt x="325" y="85"/>
                </a:lnTo>
                <a:lnTo>
                  <a:pt x="340" y="76"/>
                </a:lnTo>
                <a:lnTo>
                  <a:pt x="344" y="82"/>
                </a:lnTo>
                <a:lnTo>
                  <a:pt x="346" y="82"/>
                </a:lnTo>
                <a:lnTo>
                  <a:pt x="346" y="85"/>
                </a:lnTo>
                <a:lnTo>
                  <a:pt x="347" y="87"/>
                </a:lnTo>
                <a:lnTo>
                  <a:pt x="352" y="90"/>
                </a:lnTo>
                <a:lnTo>
                  <a:pt x="360" y="87"/>
                </a:lnTo>
                <a:lnTo>
                  <a:pt x="365" y="88"/>
                </a:lnTo>
                <a:lnTo>
                  <a:pt x="365" y="95"/>
                </a:lnTo>
                <a:lnTo>
                  <a:pt x="361" y="98"/>
                </a:lnTo>
                <a:lnTo>
                  <a:pt x="361" y="102"/>
                </a:lnTo>
                <a:lnTo>
                  <a:pt x="373" y="102"/>
                </a:lnTo>
                <a:lnTo>
                  <a:pt x="375" y="103"/>
                </a:lnTo>
                <a:lnTo>
                  <a:pt x="374" y="105"/>
                </a:lnTo>
                <a:lnTo>
                  <a:pt x="378" y="103"/>
                </a:lnTo>
                <a:lnTo>
                  <a:pt x="380" y="110"/>
                </a:lnTo>
                <a:lnTo>
                  <a:pt x="381" y="110"/>
                </a:lnTo>
                <a:lnTo>
                  <a:pt x="381" y="121"/>
                </a:lnTo>
                <a:lnTo>
                  <a:pt x="389" y="130"/>
                </a:lnTo>
                <a:lnTo>
                  <a:pt x="398" y="132"/>
                </a:lnTo>
                <a:lnTo>
                  <a:pt x="408" y="124"/>
                </a:lnTo>
                <a:lnTo>
                  <a:pt x="404" y="127"/>
                </a:lnTo>
                <a:lnTo>
                  <a:pt x="407" y="130"/>
                </a:lnTo>
                <a:lnTo>
                  <a:pt x="415" y="129"/>
                </a:lnTo>
                <a:lnTo>
                  <a:pt x="417" y="131"/>
                </a:lnTo>
                <a:lnTo>
                  <a:pt x="413" y="137"/>
                </a:lnTo>
                <a:lnTo>
                  <a:pt x="412" y="139"/>
                </a:lnTo>
                <a:lnTo>
                  <a:pt x="414" y="139"/>
                </a:lnTo>
                <a:lnTo>
                  <a:pt x="410" y="141"/>
                </a:lnTo>
                <a:lnTo>
                  <a:pt x="409" y="145"/>
                </a:lnTo>
                <a:lnTo>
                  <a:pt x="415" y="153"/>
                </a:lnTo>
                <a:lnTo>
                  <a:pt x="422" y="156"/>
                </a:lnTo>
                <a:lnTo>
                  <a:pt x="423" y="165"/>
                </a:lnTo>
                <a:lnTo>
                  <a:pt x="430" y="173"/>
                </a:lnTo>
                <a:lnTo>
                  <a:pt x="433" y="173"/>
                </a:lnTo>
                <a:lnTo>
                  <a:pt x="437" y="166"/>
                </a:lnTo>
                <a:lnTo>
                  <a:pt x="442" y="165"/>
                </a:lnTo>
                <a:lnTo>
                  <a:pt x="441" y="170"/>
                </a:lnTo>
                <a:lnTo>
                  <a:pt x="438" y="169"/>
                </a:lnTo>
                <a:lnTo>
                  <a:pt x="436" y="175"/>
                </a:lnTo>
                <a:lnTo>
                  <a:pt x="442" y="185"/>
                </a:lnTo>
                <a:lnTo>
                  <a:pt x="444" y="187"/>
                </a:lnTo>
                <a:lnTo>
                  <a:pt x="453" y="184"/>
                </a:lnTo>
                <a:lnTo>
                  <a:pt x="454" y="187"/>
                </a:lnTo>
                <a:lnTo>
                  <a:pt x="457" y="185"/>
                </a:lnTo>
                <a:lnTo>
                  <a:pt x="457" y="189"/>
                </a:lnTo>
                <a:lnTo>
                  <a:pt x="459" y="190"/>
                </a:lnTo>
                <a:lnTo>
                  <a:pt x="453" y="190"/>
                </a:lnTo>
                <a:lnTo>
                  <a:pt x="451" y="193"/>
                </a:lnTo>
                <a:lnTo>
                  <a:pt x="459" y="203"/>
                </a:lnTo>
                <a:lnTo>
                  <a:pt x="466" y="204"/>
                </a:lnTo>
                <a:lnTo>
                  <a:pt x="466" y="208"/>
                </a:lnTo>
                <a:lnTo>
                  <a:pt x="468" y="213"/>
                </a:lnTo>
                <a:lnTo>
                  <a:pt x="478" y="218"/>
                </a:lnTo>
                <a:lnTo>
                  <a:pt x="482" y="229"/>
                </a:lnTo>
                <a:lnTo>
                  <a:pt x="481" y="228"/>
                </a:lnTo>
                <a:lnTo>
                  <a:pt x="480" y="229"/>
                </a:lnTo>
                <a:lnTo>
                  <a:pt x="480" y="234"/>
                </a:lnTo>
                <a:lnTo>
                  <a:pt x="485" y="242"/>
                </a:lnTo>
                <a:lnTo>
                  <a:pt x="487" y="243"/>
                </a:lnTo>
                <a:lnTo>
                  <a:pt x="490" y="241"/>
                </a:lnTo>
                <a:lnTo>
                  <a:pt x="486" y="247"/>
                </a:lnTo>
                <a:lnTo>
                  <a:pt x="488" y="252"/>
                </a:lnTo>
                <a:lnTo>
                  <a:pt x="487" y="257"/>
                </a:lnTo>
                <a:lnTo>
                  <a:pt x="490" y="261"/>
                </a:lnTo>
                <a:lnTo>
                  <a:pt x="499" y="263"/>
                </a:lnTo>
                <a:lnTo>
                  <a:pt x="504" y="261"/>
                </a:lnTo>
                <a:lnTo>
                  <a:pt x="506" y="252"/>
                </a:lnTo>
                <a:lnTo>
                  <a:pt x="507" y="241"/>
                </a:lnTo>
                <a:lnTo>
                  <a:pt x="520" y="228"/>
                </a:lnTo>
                <a:lnTo>
                  <a:pt x="520" y="224"/>
                </a:lnTo>
                <a:lnTo>
                  <a:pt x="527" y="224"/>
                </a:lnTo>
                <a:lnTo>
                  <a:pt x="538" y="221"/>
                </a:lnTo>
                <a:lnTo>
                  <a:pt x="539" y="216"/>
                </a:lnTo>
                <a:lnTo>
                  <a:pt x="543" y="217"/>
                </a:lnTo>
                <a:lnTo>
                  <a:pt x="544" y="213"/>
                </a:lnTo>
                <a:lnTo>
                  <a:pt x="554" y="214"/>
                </a:lnTo>
                <a:lnTo>
                  <a:pt x="556" y="212"/>
                </a:lnTo>
                <a:lnTo>
                  <a:pt x="560" y="221"/>
                </a:lnTo>
                <a:lnTo>
                  <a:pt x="565" y="222"/>
                </a:lnTo>
                <a:lnTo>
                  <a:pt x="580" y="214"/>
                </a:lnTo>
                <a:lnTo>
                  <a:pt x="582" y="208"/>
                </a:lnTo>
                <a:lnTo>
                  <a:pt x="579" y="207"/>
                </a:lnTo>
                <a:lnTo>
                  <a:pt x="584" y="206"/>
                </a:lnTo>
                <a:lnTo>
                  <a:pt x="585" y="202"/>
                </a:lnTo>
                <a:lnTo>
                  <a:pt x="588" y="208"/>
                </a:lnTo>
                <a:lnTo>
                  <a:pt x="597" y="206"/>
                </a:lnTo>
                <a:lnTo>
                  <a:pt x="599" y="204"/>
                </a:lnTo>
                <a:lnTo>
                  <a:pt x="599" y="200"/>
                </a:lnTo>
                <a:lnTo>
                  <a:pt x="607" y="199"/>
                </a:lnTo>
                <a:lnTo>
                  <a:pt x="614" y="193"/>
                </a:lnTo>
                <a:lnTo>
                  <a:pt x="617" y="193"/>
                </a:lnTo>
                <a:lnTo>
                  <a:pt x="616" y="189"/>
                </a:lnTo>
                <a:lnTo>
                  <a:pt x="619" y="188"/>
                </a:lnTo>
                <a:lnTo>
                  <a:pt x="623" y="180"/>
                </a:lnTo>
                <a:lnTo>
                  <a:pt x="627" y="180"/>
                </a:lnTo>
                <a:lnTo>
                  <a:pt x="630" y="184"/>
                </a:lnTo>
                <a:lnTo>
                  <a:pt x="628" y="185"/>
                </a:lnTo>
                <a:lnTo>
                  <a:pt x="630" y="188"/>
                </a:lnTo>
                <a:lnTo>
                  <a:pt x="635" y="184"/>
                </a:lnTo>
                <a:lnTo>
                  <a:pt x="638" y="187"/>
                </a:lnTo>
                <a:lnTo>
                  <a:pt x="642" y="187"/>
                </a:lnTo>
                <a:lnTo>
                  <a:pt x="641" y="188"/>
                </a:lnTo>
                <a:lnTo>
                  <a:pt x="643" y="190"/>
                </a:lnTo>
                <a:lnTo>
                  <a:pt x="648" y="190"/>
                </a:lnTo>
                <a:lnTo>
                  <a:pt x="648" y="193"/>
                </a:lnTo>
                <a:lnTo>
                  <a:pt x="645" y="193"/>
                </a:lnTo>
                <a:lnTo>
                  <a:pt x="652" y="197"/>
                </a:lnTo>
                <a:lnTo>
                  <a:pt x="651" y="195"/>
                </a:lnTo>
                <a:lnTo>
                  <a:pt x="651" y="198"/>
                </a:lnTo>
                <a:lnTo>
                  <a:pt x="648" y="199"/>
                </a:lnTo>
                <a:lnTo>
                  <a:pt x="652" y="202"/>
                </a:lnTo>
                <a:lnTo>
                  <a:pt x="647" y="204"/>
                </a:lnTo>
                <a:lnTo>
                  <a:pt x="648" y="207"/>
                </a:lnTo>
                <a:lnTo>
                  <a:pt x="646" y="207"/>
                </a:lnTo>
                <a:lnTo>
                  <a:pt x="647" y="211"/>
                </a:lnTo>
                <a:lnTo>
                  <a:pt x="651" y="217"/>
                </a:lnTo>
                <a:lnTo>
                  <a:pt x="656" y="218"/>
                </a:lnTo>
                <a:lnTo>
                  <a:pt x="653" y="218"/>
                </a:lnTo>
                <a:lnTo>
                  <a:pt x="652" y="222"/>
                </a:lnTo>
                <a:lnTo>
                  <a:pt x="643" y="219"/>
                </a:lnTo>
                <a:lnTo>
                  <a:pt x="642" y="222"/>
                </a:lnTo>
                <a:lnTo>
                  <a:pt x="633" y="212"/>
                </a:lnTo>
                <a:lnTo>
                  <a:pt x="635" y="207"/>
                </a:lnTo>
                <a:lnTo>
                  <a:pt x="632" y="204"/>
                </a:lnTo>
                <a:lnTo>
                  <a:pt x="628" y="208"/>
                </a:lnTo>
                <a:lnTo>
                  <a:pt x="621" y="206"/>
                </a:lnTo>
                <a:lnTo>
                  <a:pt x="621" y="207"/>
                </a:lnTo>
                <a:lnTo>
                  <a:pt x="616" y="208"/>
                </a:lnTo>
                <a:lnTo>
                  <a:pt x="614" y="211"/>
                </a:lnTo>
                <a:lnTo>
                  <a:pt x="614" y="216"/>
                </a:lnTo>
                <a:lnTo>
                  <a:pt x="609" y="214"/>
                </a:lnTo>
                <a:lnTo>
                  <a:pt x="608" y="221"/>
                </a:lnTo>
                <a:lnTo>
                  <a:pt x="621" y="226"/>
                </a:lnTo>
                <a:lnTo>
                  <a:pt x="622" y="229"/>
                </a:lnTo>
                <a:lnTo>
                  <a:pt x="623" y="231"/>
                </a:lnTo>
                <a:lnTo>
                  <a:pt x="623" y="234"/>
                </a:lnTo>
                <a:lnTo>
                  <a:pt x="619" y="242"/>
                </a:lnTo>
                <a:lnTo>
                  <a:pt x="614" y="238"/>
                </a:lnTo>
                <a:lnTo>
                  <a:pt x="612" y="238"/>
                </a:lnTo>
                <a:lnTo>
                  <a:pt x="611" y="243"/>
                </a:lnTo>
                <a:lnTo>
                  <a:pt x="613" y="245"/>
                </a:lnTo>
                <a:lnTo>
                  <a:pt x="608" y="243"/>
                </a:lnTo>
                <a:lnTo>
                  <a:pt x="604" y="250"/>
                </a:lnTo>
                <a:lnTo>
                  <a:pt x="607" y="252"/>
                </a:lnTo>
                <a:lnTo>
                  <a:pt x="619" y="255"/>
                </a:lnTo>
                <a:lnTo>
                  <a:pt x="621" y="257"/>
                </a:lnTo>
                <a:lnTo>
                  <a:pt x="617" y="260"/>
                </a:lnTo>
                <a:lnTo>
                  <a:pt x="621" y="263"/>
                </a:lnTo>
                <a:lnTo>
                  <a:pt x="611" y="261"/>
                </a:lnTo>
                <a:lnTo>
                  <a:pt x="609" y="265"/>
                </a:lnTo>
                <a:lnTo>
                  <a:pt x="612" y="266"/>
                </a:lnTo>
                <a:lnTo>
                  <a:pt x="612" y="268"/>
                </a:lnTo>
                <a:lnTo>
                  <a:pt x="607" y="265"/>
                </a:lnTo>
                <a:lnTo>
                  <a:pt x="602" y="266"/>
                </a:lnTo>
                <a:lnTo>
                  <a:pt x="598" y="262"/>
                </a:lnTo>
                <a:lnTo>
                  <a:pt x="590" y="263"/>
                </a:lnTo>
                <a:lnTo>
                  <a:pt x="588" y="266"/>
                </a:lnTo>
                <a:lnTo>
                  <a:pt x="584" y="265"/>
                </a:lnTo>
                <a:lnTo>
                  <a:pt x="582" y="250"/>
                </a:lnTo>
                <a:lnTo>
                  <a:pt x="579" y="247"/>
                </a:lnTo>
                <a:lnTo>
                  <a:pt x="572" y="243"/>
                </a:lnTo>
                <a:lnTo>
                  <a:pt x="567" y="243"/>
                </a:lnTo>
                <a:lnTo>
                  <a:pt x="556" y="237"/>
                </a:lnTo>
                <a:lnTo>
                  <a:pt x="546" y="240"/>
                </a:lnTo>
                <a:lnTo>
                  <a:pt x="538" y="237"/>
                </a:lnTo>
                <a:lnTo>
                  <a:pt x="534" y="240"/>
                </a:lnTo>
                <a:lnTo>
                  <a:pt x="533" y="246"/>
                </a:lnTo>
                <a:lnTo>
                  <a:pt x="529" y="251"/>
                </a:lnTo>
                <a:lnTo>
                  <a:pt x="525" y="250"/>
                </a:lnTo>
                <a:lnTo>
                  <a:pt x="524" y="252"/>
                </a:lnTo>
                <a:lnTo>
                  <a:pt x="521" y="260"/>
                </a:lnTo>
                <a:lnTo>
                  <a:pt x="525" y="265"/>
                </a:lnTo>
                <a:lnTo>
                  <a:pt x="535" y="267"/>
                </a:lnTo>
                <a:lnTo>
                  <a:pt x="536" y="272"/>
                </a:lnTo>
                <a:lnTo>
                  <a:pt x="531" y="268"/>
                </a:lnTo>
                <a:lnTo>
                  <a:pt x="526" y="270"/>
                </a:lnTo>
                <a:lnTo>
                  <a:pt x="524" y="267"/>
                </a:lnTo>
                <a:lnTo>
                  <a:pt x="520" y="277"/>
                </a:lnTo>
                <a:lnTo>
                  <a:pt x="520" y="284"/>
                </a:lnTo>
                <a:lnTo>
                  <a:pt x="524" y="290"/>
                </a:lnTo>
                <a:lnTo>
                  <a:pt x="530" y="291"/>
                </a:lnTo>
                <a:lnTo>
                  <a:pt x="531" y="297"/>
                </a:lnTo>
                <a:lnTo>
                  <a:pt x="538" y="301"/>
                </a:lnTo>
                <a:lnTo>
                  <a:pt x="544" y="301"/>
                </a:lnTo>
                <a:lnTo>
                  <a:pt x="544" y="295"/>
                </a:lnTo>
                <a:lnTo>
                  <a:pt x="548" y="290"/>
                </a:lnTo>
                <a:lnTo>
                  <a:pt x="551" y="291"/>
                </a:lnTo>
                <a:lnTo>
                  <a:pt x="553" y="289"/>
                </a:lnTo>
                <a:lnTo>
                  <a:pt x="556" y="291"/>
                </a:lnTo>
                <a:lnTo>
                  <a:pt x="555" y="294"/>
                </a:lnTo>
                <a:lnTo>
                  <a:pt x="553" y="292"/>
                </a:lnTo>
                <a:lnTo>
                  <a:pt x="550" y="297"/>
                </a:lnTo>
                <a:lnTo>
                  <a:pt x="551" y="300"/>
                </a:lnTo>
                <a:lnTo>
                  <a:pt x="551" y="302"/>
                </a:lnTo>
                <a:lnTo>
                  <a:pt x="541" y="309"/>
                </a:lnTo>
                <a:lnTo>
                  <a:pt x="541" y="313"/>
                </a:lnTo>
                <a:lnTo>
                  <a:pt x="545" y="318"/>
                </a:lnTo>
                <a:lnTo>
                  <a:pt x="553" y="318"/>
                </a:lnTo>
                <a:lnTo>
                  <a:pt x="561" y="313"/>
                </a:lnTo>
                <a:lnTo>
                  <a:pt x="565" y="313"/>
                </a:lnTo>
                <a:lnTo>
                  <a:pt x="569" y="309"/>
                </a:lnTo>
                <a:lnTo>
                  <a:pt x="570" y="301"/>
                </a:lnTo>
                <a:lnTo>
                  <a:pt x="574" y="302"/>
                </a:lnTo>
                <a:lnTo>
                  <a:pt x="578" y="301"/>
                </a:lnTo>
                <a:lnTo>
                  <a:pt x="575" y="313"/>
                </a:lnTo>
                <a:lnTo>
                  <a:pt x="580" y="318"/>
                </a:lnTo>
                <a:lnTo>
                  <a:pt x="575" y="320"/>
                </a:lnTo>
                <a:lnTo>
                  <a:pt x="577" y="323"/>
                </a:lnTo>
                <a:lnTo>
                  <a:pt x="588" y="331"/>
                </a:lnTo>
                <a:lnTo>
                  <a:pt x="602" y="325"/>
                </a:lnTo>
                <a:lnTo>
                  <a:pt x="598" y="331"/>
                </a:lnTo>
                <a:lnTo>
                  <a:pt x="603" y="333"/>
                </a:lnTo>
                <a:lnTo>
                  <a:pt x="601" y="335"/>
                </a:lnTo>
                <a:lnTo>
                  <a:pt x="602" y="338"/>
                </a:lnTo>
                <a:lnTo>
                  <a:pt x="601" y="339"/>
                </a:lnTo>
                <a:lnTo>
                  <a:pt x="593" y="338"/>
                </a:lnTo>
                <a:lnTo>
                  <a:pt x="590" y="339"/>
                </a:lnTo>
                <a:lnTo>
                  <a:pt x="588" y="348"/>
                </a:lnTo>
                <a:lnTo>
                  <a:pt x="583" y="354"/>
                </a:lnTo>
                <a:lnTo>
                  <a:pt x="582" y="347"/>
                </a:lnTo>
                <a:lnTo>
                  <a:pt x="579" y="347"/>
                </a:lnTo>
                <a:lnTo>
                  <a:pt x="570" y="348"/>
                </a:lnTo>
                <a:lnTo>
                  <a:pt x="565" y="352"/>
                </a:lnTo>
                <a:lnTo>
                  <a:pt x="567" y="354"/>
                </a:lnTo>
                <a:lnTo>
                  <a:pt x="564" y="353"/>
                </a:lnTo>
                <a:lnTo>
                  <a:pt x="558" y="352"/>
                </a:lnTo>
                <a:lnTo>
                  <a:pt x="553" y="354"/>
                </a:lnTo>
                <a:lnTo>
                  <a:pt x="550" y="363"/>
                </a:lnTo>
                <a:lnTo>
                  <a:pt x="556" y="369"/>
                </a:lnTo>
                <a:lnTo>
                  <a:pt x="560" y="370"/>
                </a:lnTo>
                <a:lnTo>
                  <a:pt x="560" y="372"/>
                </a:lnTo>
                <a:lnTo>
                  <a:pt x="549" y="372"/>
                </a:lnTo>
                <a:lnTo>
                  <a:pt x="543" y="364"/>
                </a:lnTo>
                <a:lnTo>
                  <a:pt x="536" y="364"/>
                </a:lnTo>
                <a:lnTo>
                  <a:pt x="534" y="379"/>
                </a:lnTo>
                <a:lnTo>
                  <a:pt x="531" y="379"/>
                </a:lnTo>
                <a:lnTo>
                  <a:pt x="530" y="383"/>
                </a:lnTo>
                <a:lnTo>
                  <a:pt x="525" y="383"/>
                </a:lnTo>
                <a:lnTo>
                  <a:pt x="527" y="393"/>
                </a:lnTo>
                <a:lnTo>
                  <a:pt x="531" y="393"/>
                </a:lnTo>
                <a:lnTo>
                  <a:pt x="533" y="397"/>
                </a:lnTo>
                <a:lnTo>
                  <a:pt x="540" y="397"/>
                </a:lnTo>
                <a:lnTo>
                  <a:pt x="541" y="406"/>
                </a:lnTo>
                <a:lnTo>
                  <a:pt x="551" y="420"/>
                </a:lnTo>
                <a:lnTo>
                  <a:pt x="559" y="420"/>
                </a:lnTo>
                <a:lnTo>
                  <a:pt x="565" y="415"/>
                </a:lnTo>
                <a:lnTo>
                  <a:pt x="567" y="417"/>
                </a:lnTo>
                <a:lnTo>
                  <a:pt x="568" y="417"/>
                </a:lnTo>
                <a:lnTo>
                  <a:pt x="568" y="411"/>
                </a:lnTo>
                <a:lnTo>
                  <a:pt x="572" y="404"/>
                </a:lnTo>
                <a:lnTo>
                  <a:pt x="575" y="403"/>
                </a:lnTo>
                <a:lnTo>
                  <a:pt x="574" y="401"/>
                </a:lnTo>
                <a:lnTo>
                  <a:pt x="583" y="394"/>
                </a:lnTo>
                <a:lnTo>
                  <a:pt x="585" y="396"/>
                </a:lnTo>
                <a:lnTo>
                  <a:pt x="585" y="399"/>
                </a:lnTo>
                <a:lnTo>
                  <a:pt x="588" y="401"/>
                </a:lnTo>
                <a:lnTo>
                  <a:pt x="590" y="399"/>
                </a:lnTo>
                <a:lnTo>
                  <a:pt x="593" y="402"/>
                </a:lnTo>
                <a:lnTo>
                  <a:pt x="592" y="396"/>
                </a:lnTo>
                <a:lnTo>
                  <a:pt x="594" y="393"/>
                </a:lnTo>
                <a:lnTo>
                  <a:pt x="598" y="394"/>
                </a:lnTo>
                <a:lnTo>
                  <a:pt x="597" y="398"/>
                </a:lnTo>
                <a:lnTo>
                  <a:pt x="602" y="402"/>
                </a:lnTo>
                <a:lnTo>
                  <a:pt x="603" y="397"/>
                </a:lnTo>
                <a:lnTo>
                  <a:pt x="609" y="396"/>
                </a:lnTo>
                <a:lnTo>
                  <a:pt x="606" y="403"/>
                </a:lnTo>
                <a:lnTo>
                  <a:pt x="613" y="403"/>
                </a:lnTo>
                <a:lnTo>
                  <a:pt x="616" y="408"/>
                </a:lnTo>
                <a:lnTo>
                  <a:pt x="621" y="407"/>
                </a:lnTo>
                <a:lnTo>
                  <a:pt x="619" y="402"/>
                </a:lnTo>
                <a:lnTo>
                  <a:pt x="622" y="396"/>
                </a:lnTo>
                <a:lnTo>
                  <a:pt x="632" y="394"/>
                </a:lnTo>
                <a:lnTo>
                  <a:pt x="637" y="397"/>
                </a:lnTo>
                <a:lnTo>
                  <a:pt x="635" y="403"/>
                </a:lnTo>
                <a:lnTo>
                  <a:pt x="636" y="404"/>
                </a:lnTo>
                <a:lnTo>
                  <a:pt x="635" y="410"/>
                </a:lnTo>
                <a:lnTo>
                  <a:pt x="631" y="406"/>
                </a:lnTo>
                <a:lnTo>
                  <a:pt x="630" y="410"/>
                </a:lnTo>
                <a:lnTo>
                  <a:pt x="632" y="412"/>
                </a:lnTo>
                <a:lnTo>
                  <a:pt x="631" y="420"/>
                </a:lnTo>
                <a:lnTo>
                  <a:pt x="626" y="417"/>
                </a:lnTo>
                <a:lnTo>
                  <a:pt x="623" y="412"/>
                </a:lnTo>
                <a:lnTo>
                  <a:pt x="623" y="416"/>
                </a:lnTo>
                <a:lnTo>
                  <a:pt x="624" y="417"/>
                </a:lnTo>
                <a:lnTo>
                  <a:pt x="622" y="425"/>
                </a:lnTo>
                <a:lnTo>
                  <a:pt x="621" y="422"/>
                </a:lnTo>
                <a:lnTo>
                  <a:pt x="609" y="427"/>
                </a:lnTo>
                <a:lnTo>
                  <a:pt x="604" y="421"/>
                </a:lnTo>
                <a:lnTo>
                  <a:pt x="599" y="420"/>
                </a:lnTo>
                <a:lnTo>
                  <a:pt x="601" y="426"/>
                </a:lnTo>
                <a:lnTo>
                  <a:pt x="594" y="427"/>
                </a:lnTo>
                <a:lnTo>
                  <a:pt x="593" y="431"/>
                </a:lnTo>
                <a:lnTo>
                  <a:pt x="595" y="432"/>
                </a:lnTo>
                <a:lnTo>
                  <a:pt x="604" y="433"/>
                </a:lnTo>
                <a:lnTo>
                  <a:pt x="612" y="441"/>
                </a:lnTo>
                <a:lnTo>
                  <a:pt x="617" y="442"/>
                </a:lnTo>
                <a:lnTo>
                  <a:pt x="623" y="437"/>
                </a:lnTo>
                <a:lnTo>
                  <a:pt x="626" y="441"/>
                </a:lnTo>
                <a:lnTo>
                  <a:pt x="619" y="441"/>
                </a:lnTo>
                <a:lnTo>
                  <a:pt x="614" y="445"/>
                </a:lnTo>
                <a:lnTo>
                  <a:pt x="616" y="447"/>
                </a:lnTo>
                <a:lnTo>
                  <a:pt x="616" y="452"/>
                </a:lnTo>
                <a:lnTo>
                  <a:pt x="622" y="451"/>
                </a:lnTo>
                <a:lnTo>
                  <a:pt x="619" y="455"/>
                </a:lnTo>
                <a:lnTo>
                  <a:pt x="622" y="460"/>
                </a:lnTo>
                <a:lnTo>
                  <a:pt x="621" y="461"/>
                </a:lnTo>
                <a:lnTo>
                  <a:pt x="614" y="460"/>
                </a:lnTo>
                <a:lnTo>
                  <a:pt x="614" y="461"/>
                </a:lnTo>
                <a:lnTo>
                  <a:pt x="616" y="462"/>
                </a:lnTo>
                <a:lnTo>
                  <a:pt x="614" y="466"/>
                </a:lnTo>
                <a:lnTo>
                  <a:pt x="608" y="465"/>
                </a:lnTo>
                <a:lnTo>
                  <a:pt x="613" y="475"/>
                </a:lnTo>
                <a:lnTo>
                  <a:pt x="609" y="474"/>
                </a:lnTo>
                <a:lnTo>
                  <a:pt x="607" y="475"/>
                </a:lnTo>
                <a:lnTo>
                  <a:pt x="608" y="481"/>
                </a:lnTo>
                <a:lnTo>
                  <a:pt x="613" y="480"/>
                </a:lnTo>
                <a:lnTo>
                  <a:pt x="616" y="483"/>
                </a:lnTo>
                <a:lnTo>
                  <a:pt x="626" y="483"/>
                </a:lnTo>
                <a:lnTo>
                  <a:pt x="624" y="479"/>
                </a:lnTo>
                <a:lnTo>
                  <a:pt x="627" y="478"/>
                </a:lnTo>
                <a:lnTo>
                  <a:pt x="630" y="483"/>
                </a:lnTo>
                <a:lnTo>
                  <a:pt x="628" y="488"/>
                </a:lnTo>
                <a:lnTo>
                  <a:pt x="631" y="489"/>
                </a:lnTo>
                <a:lnTo>
                  <a:pt x="633" y="483"/>
                </a:lnTo>
                <a:lnTo>
                  <a:pt x="636" y="481"/>
                </a:lnTo>
                <a:lnTo>
                  <a:pt x="641" y="485"/>
                </a:lnTo>
                <a:lnTo>
                  <a:pt x="641" y="481"/>
                </a:lnTo>
                <a:lnTo>
                  <a:pt x="648" y="478"/>
                </a:lnTo>
                <a:lnTo>
                  <a:pt x="651" y="483"/>
                </a:lnTo>
                <a:lnTo>
                  <a:pt x="660" y="481"/>
                </a:lnTo>
                <a:lnTo>
                  <a:pt x="661" y="485"/>
                </a:lnTo>
                <a:lnTo>
                  <a:pt x="658" y="485"/>
                </a:lnTo>
                <a:lnTo>
                  <a:pt x="652" y="489"/>
                </a:lnTo>
                <a:lnTo>
                  <a:pt x="648" y="488"/>
                </a:lnTo>
                <a:lnTo>
                  <a:pt x="648" y="493"/>
                </a:lnTo>
                <a:lnTo>
                  <a:pt x="643" y="495"/>
                </a:lnTo>
                <a:lnTo>
                  <a:pt x="647" y="496"/>
                </a:lnTo>
                <a:lnTo>
                  <a:pt x="646" y="499"/>
                </a:lnTo>
                <a:lnTo>
                  <a:pt x="652" y="500"/>
                </a:lnTo>
                <a:lnTo>
                  <a:pt x="650" y="504"/>
                </a:lnTo>
                <a:lnTo>
                  <a:pt x="660" y="506"/>
                </a:lnTo>
                <a:lnTo>
                  <a:pt x="662" y="509"/>
                </a:lnTo>
                <a:lnTo>
                  <a:pt x="662" y="514"/>
                </a:lnTo>
                <a:lnTo>
                  <a:pt x="665" y="517"/>
                </a:lnTo>
                <a:lnTo>
                  <a:pt x="664" y="518"/>
                </a:lnTo>
                <a:lnTo>
                  <a:pt x="656" y="518"/>
                </a:lnTo>
                <a:lnTo>
                  <a:pt x="655" y="525"/>
                </a:lnTo>
                <a:lnTo>
                  <a:pt x="664" y="530"/>
                </a:lnTo>
                <a:lnTo>
                  <a:pt x="664" y="537"/>
                </a:lnTo>
                <a:lnTo>
                  <a:pt x="671" y="534"/>
                </a:lnTo>
                <a:lnTo>
                  <a:pt x="681" y="538"/>
                </a:lnTo>
                <a:lnTo>
                  <a:pt x="694" y="527"/>
                </a:lnTo>
                <a:lnTo>
                  <a:pt x="692" y="530"/>
                </a:lnTo>
                <a:lnTo>
                  <a:pt x="695" y="534"/>
                </a:lnTo>
                <a:lnTo>
                  <a:pt x="694" y="537"/>
                </a:lnTo>
                <a:lnTo>
                  <a:pt x="695" y="538"/>
                </a:lnTo>
                <a:lnTo>
                  <a:pt x="699" y="537"/>
                </a:lnTo>
                <a:lnTo>
                  <a:pt x="700" y="540"/>
                </a:lnTo>
                <a:lnTo>
                  <a:pt x="696" y="543"/>
                </a:lnTo>
                <a:lnTo>
                  <a:pt x="696" y="546"/>
                </a:lnTo>
                <a:lnTo>
                  <a:pt x="705" y="548"/>
                </a:lnTo>
                <a:lnTo>
                  <a:pt x="704" y="551"/>
                </a:lnTo>
                <a:lnTo>
                  <a:pt x="694" y="551"/>
                </a:lnTo>
                <a:lnTo>
                  <a:pt x="692" y="554"/>
                </a:lnTo>
                <a:lnTo>
                  <a:pt x="708" y="558"/>
                </a:lnTo>
                <a:lnTo>
                  <a:pt x="711" y="557"/>
                </a:lnTo>
                <a:lnTo>
                  <a:pt x="711" y="559"/>
                </a:lnTo>
                <a:lnTo>
                  <a:pt x="705" y="559"/>
                </a:lnTo>
                <a:lnTo>
                  <a:pt x="703" y="562"/>
                </a:lnTo>
                <a:lnTo>
                  <a:pt x="690" y="563"/>
                </a:lnTo>
                <a:lnTo>
                  <a:pt x="694" y="577"/>
                </a:lnTo>
                <a:lnTo>
                  <a:pt x="701" y="573"/>
                </a:lnTo>
                <a:lnTo>
                  <a:pt x="704" y="576"/>
                </a:lnTo>
                <a:lnTo>
                  <a:pt x="706" y="571"/>
                </a:lnTo>
                <a:lnTo>
                  <a:pt x="711" y="572"/>
                </a:lnTo>
                <a:lnTo>
                  <a:pt x="706" y="578"/>
                </a:lnTo>
                <a:lnTo>
                  <a:pt x="700" y="581"/>
                </a:lnTo>
                <a:lnTo>
                  <a:pt x="701" y="585"/>
                </a:lnTo>
                <a:lnTo>
                  <a:pt x="715" y="581"/>
                </a:lnTo>
                <a:lnTo>
                  <a:pt x="714" y="586"/>
                </a:lnTo>
                <a:lnTo>
                  <a:pt x="706" y="595"/>
                </a:lnTo>
                <a:lnTo>
                  <a:pt x="714" y="595"/>
                </a:lnTo>
                <a:lnTo>
                  <a:pt x="720" y="587"/>
                </a:lnTo>
                <a:lnTo>
                  <a:pt x="730" y="580"/>
                </a:lnTo>
                <a:lnTo>
                  <a:pt x="728" y="578"/>
                </a:lnTo>
                <a:lnTo>
                  <a:pt x="734" y="574"/>
                </a:lnTo>
                <a:lnTo>
                  <a:pt x="743" y="578"/>
                </a:lnTo>
                <a:lnTo>
                  <a:pt x="739" y="578"/>
                </a:lnTo>
                <a:lnTo>
                  <a:pt x="735" y="582"/>
                </a:lnTo>
                <a:lnTo>
                  <a:pt x="734" y="592"/>
                </a:lnTo>
                <a:lnTo>
                  <a:pt x="728" y="600"/>
                </a:lnTo>
                <a:lnTo>
                  <a:pt x="724" y="598"/>
                </a:lnTo>
                <a:lnTo>
                  <a:pt x="724" y="608"/>
                </a:lnTo>
                <a:lnTo>
                  <a:pt x="719" y="612"/>
                </a:lnTo>
                <a:lnTo>
                  <a:pt x="724" y="619"/>
                </a:lnTo>
                <a:lnTo>
                  <a:pt x="726" y="621"/>
                </a:lnTo>
                <a:lnTo>
                  <a:pt x="729" y="619"/>
                </a:lnTo>
                <a:lnTo>
                  <a:pt x="734" y="625"/>
                </a:lnTo>
                <a:lnTo>
                  <a:pt x="737" y="625"/>
                </a:lnTo>
                <a:lnTo>
                  <a:pt x="740" y="635"/>
                </a:lnTo>
                <a:lnTo>
                  <a:pt x="738" y="637"/>
                </a:lnTo>
                <a:lnTo>
                  <a:pt x="738" y="641"/>
                </a:lnTo>
                <a:lnTo>
                  <a:pt x="735" y="639"/>
                </a:lnTo>
                <a:lnTo>
                  <a:pt x="725" y="639"/>
                </a:lnTo>
                <a:lnTo>
                  <a:pt x="721" y="642"/>
                </a:lnTo>
                <a:lnTo>
                  <a:pt x="724" y="644"/>
                </a:lnTo>
                <a:lnTo>
                  <a:pt x="730" y="644"/>
                </a:lnTo>
                <a:lnTo>
                  <a:pt x="729" y="646"/>
                </a:lnTo>
                <a:lnTo>
                  <a:pt x="742" y="642"/>
                </a:lnTo>
                <a:lnTo>
                  <a:pt x="744" y="644"/>
                </a:lnTo>
                <a:lnTo>
                  <a:pt x="745" y="650"/>
                </a:lnTo>
                <a:lnTo>
                  <a:pt x="743" y="654"/>
                </a:lnTo>
                <a:lnTo>
                  <a:pt x="742" y="665"/>
                </a:lnTo>
                <a:lnTo>
                  <a:pt x="737" y="660"/>
                </a:lnTo>
                <a:lnTo>
                  <a:pt x="726" y="663"/>
                </a:lnTo>
                <a:lnTo>
                  <a:pt x="725" y="666"/>
                </a:lnTo>
                <a:lnTo>
                  <a:pt x="730" y="668"/>
                </a:lnTo>
                <a:lnTo>
                  <a:pt x="729" y="669"/>
                </a:lnTo>
                <a:lnTo>
                  <a:pt x="729" y="673"/>
                </a:lnTo>
                <a:lnTo>
                  <a:pt x="724" y="674"/>
                </a:lnTo>
                <a:lnTo>
                  <a:pt x="725" y="677"/>
                </a:lnTo>
                <a:lnTo>
                  <a:pt x="723" y="680"/>
                </a:lnTo>
                <a:lnTo>
                  <a:pt x="723" y="683"/>
                </a:lnTo>
                <a:lnTo>
                  <a:pt x="726" y="687"/>
                </a:lnTo>
                <a:lnTo>
                  <a:pt x="735" y="678"/>
                </a:lnTo>
                <a:lnTo>
                  <a:pt x="739" y="677"/>
                </a:lnTo>
                <a:lnTo>
                  <a:pt x="744" y="677"/>
                </a:lnTo>
                <a:lnTo>
                  <a:pt x="747" y="682"/>
                </a:lnTo>
                <a:lnTo>
                  <a:pt x="749" y="689"/>
                </a:lnTo>
                <a:lnTo>
                  <a:pt x="747" y="697"/>
                </a:lnTo>
                <a:lnTo>
                  <a:pt x="749" y="699"/>
                </a:lnTo>
                <a:lnTo>
                  <a:pt x="748" y="704"/>
                </a:lnTo>
                <a:lnTo>
                  <a:pt x="747" y="712"/>
                </a:lnTo>
                <a:lnTo>
                  <a:pt x="749" y="717"/>
                </a:lnTo>
                <a:lnTo>
                  <a:pt x="753" y="718"/>
                </a:lnTo>
                <a:lnTo>
                  <a:pt x="755" y="718"/>
                </a:lnTo>
                <a:lnTo>
                  <a:pt x="755" y="716"/>
                </a:lnTo>
                <a:lnTo>
                  <a:pt x="758" y="714"/>
                </a:lnTo>
                <a:lnTo>
                  <a:pt x="758" y="718"/>
                </a:lnTo>
                <a:lnTo>
                  <a:pt x="762" y="718"/>
                </a:lnTo>
                <a:lnTo>
                  <a:pt x="766" y="734"/>
                </a:lnTo>
                <a:lnTo>
                  <a:pt x="772" y="741"/>
                </a:lnTo>
                <a:lnTo>
                  <a:pt x="767" y="748"/>
                </a:lnTo>
                <a:lnTo>
                  <a:pt x="766" y="755"/>
                </a:lnTo>
                <a:lnTo>
                  <a:pt x="755" y="758"/>
                </a:lnTo>
                <a:lnTo>
                  <a:pt x="755" y="752"/>
                </a:lnTo>
                <a:lnTo>
                  <a:pt x="754" y="750"/>
                </a:lnTo>
                <a:lnTo>
                  <a:pt x="752" y="751"/>
                </a:lnTo>
                <a:lnTo>
                  <a:pt x="752" y="756"/>
                </a:lnTo>
                <a:lnTo>
                  <a:pt x="748" y="757"/>
                </a:lnTo>
                <a:lnTo>
                  <a:pt x="750" y="760"/>
                </a:lnTo>
                <a:lnTo>
                  <a:pt x="757" y="761"/>
                </a:lnTo>
                <a:lnTo>
                  <a:pt x="757" y="767"/>
                </a:lnTo>
                <a:lnTo>
                  <a:pt x="759" y="768"/>
                </a:lnTo>
                <a:lnTo>
                  <a:pt x="766" y="779"/>
                </a:lnTo>
                <a:lnTo>
                  <a:pt x="774" y="780"/>
                </a:lnTo>
                <a:lnTo>
                  <a:pt x="771" y="781"/>
                </a:lnTo>
                <a:lnTo>
                  <a:pt x="762" y="780"/>
                </a:lnTo>
                <a:lnTo>
                  <a:pt x="762" y="784"/>
                </a:lnTo>
                <a:lnTo>
                  <a:pt x="759" y="782"/>
                </a:lnTo>
                <a:lnTo>
                  <a:pt x="753" y="786"/>
                </a:lnTo>
                <a:lnTo>
                  <a:pt x="750" y="794"/>
                </a:lnTo>
                <a:lnTo>
                  <a:pt x="748" y="796"/>
                </a:lnTo>
                <a:lnTo>
                  <a:pt x="750" y="806"/>
                </a:lnTo>
                <a:lnTo>
                  <a:pt x="749" y="809"/>
                </a:lnTo>
                <a:lnTo>
                  <a:pt x="745" y="823"/>
                </a:lnTo>
                <a:lnTo>
                  <a:pt x="743" y="826"/>
                </a:lnTo>
                <a:lnTo>
                  <a:pt x="737" y="826"/>
                </a:lnTo>
                <a:lnTo>
                  <a:pt x="734" y="830"/>
                </a:lnTo>
                <a:lnTo>
                  <a:pt x="729" y="831"/>
                </a:lnTo>
                <a:lnTo>
                  <a:pt x="733" y="836"/>
                </a:lnTo>
                <a:lnTo>
                  <a:pt x="730" y="843"/>
                </a:lnTo>
                <a:lnTo>
                  <a:pt x="726" y="843"/>
                </a:lnTo>
                <a:lnTo>
                  <a:pt x="730" y="849"/>
                </a:lnTo>
                <a:lnTo>
                  <a:pt x="718" y="852"/>
                </a:lnTo>
                <a:lnTo>
                  <a:pt x="716" y="845"/>
                </a:lnTo>
                <a:lnTo>
                  <a:pt x="714" y="841"/>
                </a:lnTo>
                <a:lnTo>
                  <a:pt x="704" y="840"/>
                </a:lnTo>
                <a:lnTo>
                  <a:pt x="703" y="843"/>
                </a:lnTo>
                <a:lnTo>
                  <a:pt x="701" y="853"/>
                </a:lnTo>
                <a:lnTo>
                  <a:pt x="705" y="850"/>
                </a:lnTo>
                <a:lnTo>
                  <a:pt x="705" y="857"/>
                </a:lnTo>
                <a:lnTo>
                  <a:pt x="710" y="854"/>
                </a:lnTo>
                <a:lnTo>
                  <a:pt x="713" y="854"/>
                </a:lnTo>
                <a:lnTo>
                  <a:pt x="709" y="863"/>
                </a:lnTo>
                <a:lnTo>
                  <a:pt x="723" y="865"/>
                </a:lnTo>
                <a:lnTo>
                  <a:pt x="721" y="873"/>
                </a:lnTo>
                <a:lnTo>
                  <a:pt x="718" y="873"/>
                </a:lnTo>
                <a:lnTo>
                  <a:pt x="711" y="868"/>
                </a:lnTo>
                <a:lnTo>
                  <a:pt x="706" y="869"/>
                </a:lnTo>
                <a:lnTo>
                  <a:pt x="700" y="879"/>
                </a:lnTo>
                <a:lnTo>
                  <a:pt x="695" y="881"/>
                </a:lnTo>
                <a:lnTo>
                  <a:pt x="694" y="884"/>
                </a:lnTo>
                <a:lnTo>
                  <a:pt x="692" y="886"/>
                </a:lnTo>
                <a:lnTo>
                  <a:pt x="691" y="891"/>
                </a:lnTo>
                <a:lnTo>
                  <a:pt x="690" y="891"/>
                </a:lnTo>
                <a:lnTo>
                  <a:pt x="691" y="896"/>
                </a:lnTo>
                <a:lnTo>
                  <a:pt x="690" y="897"/>
                </a:lnTo>
                <a:lnTo>
                  <a:pt x="686" y="896"/>
                </a:lnTo>
                <a:lnTo>
                  <a:pt x="682" y="897"/>
                </a:lnTo>
                <a:lnTo>
                  <a:pt x="684" y="899"/>
                </a:lnTo>
                <a:lnTo>
                  <a:pt x="680" y="898"/>
                </a:lnTo>
                <a:lnTo>
                  <a:pt x="676" y="901"/>
                </a:lnTo>
                <a:lnTo>
                  <a:pt x="671" y="898"/>
                </a:lnTo>
                <a:lnTo>
                  <a:pt x="667" y="902"/>
                </a:lnTo>
                <a:lnTo>
                  <a:pt x="660" y="899"/>
                </a:lnTo>
                <a:lnTo>
                  <a:pt x="650" y="898"/>
                </a:lnTo>
                <a:lnTo>
                  <a:pt x="650" y="897"/>
                </a:lnTo>
                <a:lnTo>
                  <a:pt x="652" y="896"/>
                </a:lnTo>
                <a:lnTo>
                  <a:pt x="651" y="891"/>
                </a:lnTo>
                <a:lnTo>
                  <a:pt x="636" y="883"/>
                </a:lnTo>
                <a:lnTo>
                  <a:pt x="636" y="878"/>
                </a:lnTo>
                <a:lnTo>
                  <a:pt x="632" y="877"/>
                </a:lnTo>
                <a:lnTo>
                  <a:pt x="632" y="874"/>
                </a:lnTo>
                <a:lnTo>
                  <a:pt x="636" y="872"/>
                </a:lnTo>
                <a:lnTo>
                  <a:pt x="635" y="868"/>
                </a:lnTo>
                <a:lnTo>
                  <a:pt x="621" y="858"/>
                </a:lnTo>
                <a:lnTo>
                  <a:pt x="622" y="854"/>
                </a:lnTo>
                <a:lnTo>
                  <a:pt x="626" y="853"/>
                </a:lnTo>
                <a:lnTo>
                  <a:pt x="633" y="844"/>
                </a:lnTo>
                <a:lnTo>
                  <a:pt x="637" y="834"/>
                </a:lnTo>
                <a:lnTo>
                  <a:pt x="641" y="831"/>
                </a:lnTo>
                <a:lnTo>
                  <a:pt x="645" y="821"/>
                </a:lnTo>
                <a:lnTo>
                  <a:pt x="642" y="814"/>
                </a:lnTo>
                <a:lnTo>
                  <a:pt x="636" y="805"/>
                </a:lnTo>
                <a:lnTo>
                  <a:pt x="638" y="800"/>
                </a:lnTo>
                <a:lnTo>
                  <a:pt x="636" y="797"/>
                </a:lnTo>
                <a:lnTo>
                  <a:pt x="640" y="796"/>
                </a:lnTo>
                <a:lnTo>
                  <a:pt x="645" y="806"/>
                </a:lnTo>
                <a:lnTo>
                  <a:pt x="647" y="805"/>
                </a:lnTo>
                <a:lnTo>
                  <a:pt x="648" y="807"/>
                </a:lnTo>
                <a:lnTo>
                  <a:pt x="651" y="806"/>
                </a:lnTo>
                <a:lnTo>
                  <a:pt x="651" y="802"/>
                </a:lnTo>
                <a:lnTo>
                  <a:pt x="658" y="804"/>
                </a:lnTo>
                <a:lnTo>
                  <a:pt x="655" y="795"/>
                </a:lnTo>
                <a:lnTo>
                  <a:pt x="657" y="786"/>
                </a:lnTo>
                <a:lnTo>
                  <a:pt x="660" y="785"/>
                </a:lnTo>
                <a:lnTo>
                  <a:pt x="660" y="790"/>
                </a:lnTo>
                <a:lnTo>
                  <a:pt x="662" y="789"/>
                </a:lnTo>
                <a:lnTo>
                  <a:pt x="666" y="790"/>
                </a:lnTo>
                <a:lnTo>
                  <a:pt x="672" y="790"/>
                </a:lnTo>
                <a:lnTo>
                  <a:pt x="674" y="789"/>
                </a:lnTo>
                <a:lnTo>
                  <a:pt x="667" y="785"/>
                </a:lnTo>
                <a:lnTo>
                  <a:pt x="676" y="777"/>
                </a:lnTo>
                <a:lnTo>
                  <a:pt x="675" y="773"/>
                </a:lnTo>
                <a:lnTo>
                  <a:pt x="672" y="772"/>
                </a:lnTo>
                <a:lnTo>
                  <a:pt x="675" y="770"/>
                </a:lnTo>
                <a:lnTo>
                  <a:pt x="670" y="761"/>
                </a:lnTo>
                <a:lnTo>
                  <a:pt x="657" y="766"/>
                </a:lnTo>
                <a:lnTo>
                  <a:pt x="655" y="760"/>
                </a:lnTo>
                <a:lnTo>
                  <a:pt x="651" y="758"/>
                </a:lnTo>
                <a:lnTo>
                  <a:pt x="648" y="761"/>
                </a:lnTo>
                <a:lnTo>
                  <a:pt x="650" y="763"/>
                </a:lnTo>
                <a:lnTo>
                  <a:pt x="648" y="767"/>
                </a:lnTo>
                <a:lnTo>
                  <a:pt x="643" y="766"/>
                </a:lnTo>
                <a:lnTo>
                  <a:pt x="640" y="772"/>
                </a:lnTo>
                <a:lnTo>
                  <a:pt x="638" y="770"/>
                </a:lnTo>
                <a:lnTo>
                  <a:pt x="628" y="784"/>
                </a:lnTo>
                <a:lnTo>
                  <a:pt x="624" y="784"/>
                </a:lnTo>
                <a:lnTo>
                  <a:pt x="621" y="790"/>
                </a:lnTo>
                <a:lnTo>
                  <a:pt x="622" y="795"/>
                </a:lnTo>
                <a:lnTo>
                  <a:pt x="609" y="805"/>
                </a:lnTo>
                <a:lnTo>
                  <a:pt x="607" y="804"/>
                </a:lnTo>
                <a:lnTo>
                  <a:pt x="608" y="797"/>
                </a:lnTo>
                <a:lnTo>
                  <a:pt x="598" y="791"/>
                </a:lnTo>
                <a:lnTo>
                  <a:pt x="585" y="779"/>
                </a:lnTo>
                <a:lnTo>
                  <a:pt x="590" y="755"/>
                </a:lnTo>
                <a:lnTo>
                  <a:pt x="597" y="755"/>
                </a:lnTo>
                <a:lnTo>
                  <a:pt x="603" y="743"/>
                </a:lnTo>
                <a:lnTo>
                  <a:pt x="604" y="741"/>
                </a:lnTo>
                <a:lnTo>
                  <a:pt x="601" y="739"/>
                </a:lnTo>
                <a:lnTo>
                  <a:pt x="603" y="741"/>
                </a:lnTo>
                <a:lnTo>
                  <a:pt x="595" y="755"/>
                </a:lnTo>
                <a:lnTo>
                  <a:pt x="590" y="753"/>
                </a:lnTo>
                <a:lnTo>
                  <a:pt x="589" y="756"/>
                </a:lnTo>
                <a:lnTo>
                  <a:pt x="588" y="765"/>
                </a:lnTo>
                <a:lnTo>
                  <a:pt x="577" y="766"/>
                </a:lnTo>
                <a:lnTo>
                  <a:pt x="575" y="760"/>
                </a:lnTo>
                <a:lnTo>
                  <a:pt x="573" y="768"/>
                </a:lnTo>
                <a:lnTo>
                  <a:pt x="570" y="767"/>
                </a:lnTo>
                <a:lnTo>
                  <a:pt x="545" y="777"/>
                </a:lnTo>
                <a:lnTo>
                  <a:pt x="544" y="777"/>
                </a:lnTo>
                <a:lnTo>
                  <a:pt x="543" y="773"/>
                </a:lnTo>
                <a:lnTo>
                  <a:pt x="531" y="775"/>
                </a:lnTo>
                <a:lnTo>
                  <a:pt x="527" y="771"/>
                </a:lnTo>
                <a:lnTo>
                  <a:pt x="524" y="770"/>
                </a:lnTo>
                <a:lnTo>
                  <a:pt x="512" y="770"/>
                </a:lnTo>
                <a:lnTo>
                  <a:pt x="506" y="772"/>
                </a:lnTo>
                <a:lnTo>
                  <a:pt x="504" y="772"/>
                </a:lnTo>
                <a:lnTo>
                  <a:pt x="504" y="768"/>
                </a:lnTo>
                <a:lnTo>
                  <a:pt x="495" y="766"/>
                </a:lnTo>
                <a:lnTo>
                  <a:pt x="492" y="760"/>
                </a:lnTo>
                <a:lnTo>
                  <a:pt x="487" y="758"/>
                </a:lnTo>
                <a:lnTo>
                  <a:pt x="480" y="760"/>
                </a:lnTo>
                <a:lnTo>
                  <a:pt x="481" y="763"/>
                </a:lnTo>
                <a:lnTo>
                  <a:pt x="473" y="767"/>
                </a:lnTo>
                <a:lnTo>
                  <a:pt x="467" y="766"/>
                </a:lnTo>
                <a:lnTo>
                  <a:pt x="465" y="762"/>
                </a:lnTo>
                <a:lnTo>
                  <a:pt x="468" y="753"/>
                </a:lnTo>
                <a:lnTo>
                  <a:pt x="466" y="752"/>
                </a:lnTo>
                <a:lnTo>
                  <a:pt x="461" y="741"/>
                </a:lnTo>
                <a:lnTo>
                  <a:pt x="458" y="739"/>
                </a:lnTo>
                <a:lnTo>
                  <a:pt x="458" y="743"/>
                </a:lnTo>
                <a:lnTo>
                  <a:pt x="457" y="741"/>
                </a:lnTo>
                <a:lnTo>
                  <a:pt x="453" y="747"/>
                </a:lnTo>
                <a:lnTo>
                  <a:pt x="456" y="750"/>
                </a:lnTo>
                <a:lnTo>
                  <a:pt x="453" y="750"/>
                </a:lnTo>
                <a:lnTo>
                  <a:pt x="453" y="756"/>
                </a:lnTo>
                <a:lnTo>
                  <a:pt x="451" y="760"/>
                </a:lnTo>
                <a:lnTo>
                  <a:pt x="442" y="748"/>
                </a:lnTo>
                <a:lnTo>
                  <a:pt x="443" y="746"/>
                </a:lnTo>
                <a:lnTo>
                  <a:pt x="439" y="743"/>
                </a:lnTo>
                <a:lnTo>
                  <a:pt x="441" y="741"/>
                </a:lnTo>
                <a:lnTo>
                  <a:pt x="439" y="742"/>
                </a:lnTo>
                <a:lnTo>
                  <a:pt x="442" y="746"/>
                </a:lnTo>
                <a:lnTo>
                  <a:pt x="441" y="747"/>
                </a:lnTo>
                <a:lnTo>
                  <a:pt x="439" y="752"/>
                </a:lnTo>
                <a:lnTo>
                  <a:pt x="443" y="755"/>
                </a:lnTo>
                <a:lnTo>
                  <a:pt x="441" y="763"/>
                </a:lnTo>
                <a:lnTo>
                  <a:pt x="444" y="767"/>
                </a:lnTo>
                <a:lnTo>
                  <a:pt x="441" y="771"/>
                </a:lnTo>
                <a:lnTo>
                  <a:pt x="437" y="767"/>
                </a:lnTo>
                <a:lnTo>
                  <a:pt x="429" y="768"/>
                </a:lnTo>
                <a:lnTo>
                  <a:pt x="428" y="766"/>
                </a:lnTo>
                <a:lnTo>
                  <a:pt x="427" y="767"/>
                </a:lnTo>
                <a:lnTo>
                  <a:pt x="424" y="757"/>
                </a:lnTo>
                <a:lnTo>
                  <a:pt x="418" y="748"/>
                </a:lnTo>
                <a:lnTo>
                  <a:pt x="414" y="751"/>
                </a:lnTo>
                <a:lnTo>
                  <a:pt x="410" y="757"/>
                </a:lnTo>
                <a:lnTo>
                  <a:pt x="414" y="762"/>
                </a:lnTo>
                <a:lnTo>
                  <a:pt x="398" y="752"/>
                </a:lnTo>
                <a:lnTo>
                  <a:pt x="391" y="746"/>
                </a:lnTo>
                <a:lnTo>
                  <a:pt x="383" y="746"/>
                </a:lnTo>
                <a:lnTo>
                  <a:pt x="349" y="760"/>
                </a:lnTo>
                <a:lnTo>
                  <a:pt x="340" y="770"/>
                </a:lnTo>
                <a:lnTo>
                  <a:pt x="341" y="776"/>
                </a:lnTo>
                <a:lnTo>
                  <a:pt x="337" y="785"/>
                </a:lnTo>
                <a:lnTo>
                  <a:pt x="326" y="795"/>
                </a:lnTo>
                <a:lnTo>
                  <a:pt x="320" y="795"/>
                </a:lnTo>
                <a:lnTo>
                  <a:pt x="306" y="789"/>
                </a:lnTo>
                <a:lnTo>
                  <a:pt x="302" y="784"/>
                </a:lnTo>
                <a:lnTo>
                  <a:pt x="301" y="772"/>
                </a:lnTo>
                <a:lnTo>
                  <a:pt x="297" y="770"/>
                </a:lnTo>
                <a:lnTo>
                  <a:pt x="292" y="767"/>
                </a:lnTo>
                <a:lnTo>
                  <a:pt x="286" y="771"/>
                </a:lnTo>
                <a:lnTo>
                  <a:pt x="276" y="765"/>
                </a:lnTo>
                <a:lnTo>
                  <a:pt x="273" y="760"/>
                </a:lnTo>
                <a:lnTo>
                  <a:pt x="276" y="757"/>
                </a:lnTo>
                <a:lnTo>
                  <a:pt x="273" y="753"/>
                </a:lnTo>
                <a:lnTo>
                  <a:pt x="279" y="751"/>
                </a:lnTo>
                <a:lnTo>
                  <a:pt x="279" y="748"/>
                </a:lnTo>
                <a:lnTo>
                  <a:pt x="278" y="729"/>
                </a:lnTo>
                <a:lnTo>
                  <a:pt x="273" y="724"/>
                </a:lnTo>
                <a:lnTo>
                  <a:pt x="268" y="727"/>
                </a:lnTo>
                <a:lnTo>
                  <a:pt x="259" y="723"/>
                </a:lnTo>
                <a:lnTo>
                  <a:pt x="260" y="719"/>
                </a:lnTo>
                <a:lnTo>
                  <a:pt x="260" y="714"/>
                </a:lnTo>
                <a:lnTo>
                  <a:pt x="269" y="713"/>
                </a:lnTo>
                <a:lnTo>
                  <a:pt x="271" y="709"/>
                </a:lnTo>
                <a:lnTo>
                  <a:pt x="268" y="699"/>
                </a:lnTo>
                <a:lnTo>
                  <a:pt x="259" y="695"/>
                </a:lnTo>
                <a:lnTo>
                  <a:pt x="248" y="698"/>
                </a:lnTo>
                <a:lnTo>
                  <a:pt x="240" y="697"/>
                </a:lnTo>
                <a:lnTo>
                  <a:pt x="239" y="694"/>
                </a:lnTo>
                <a:lnTo>
                  <a:pt x="248" y="684"/>
                </a:lnTo>
                <a:lnTo>
                  <a:pt x="245" y="675"/>
                </a:lnTo>
                <a:lnTo>
                  <a:pt x="252" y="669"/>
                </a:lnTo>
                <a:lnTo>
                  <a:pt x="252" y="664"/>
                </a:lnTo>
                <a:lnTo>
                  <a:pt x="259" y="661"/>
                </a:lnTo>
                <a:lnTo>
                  <a:pt x="259" y="656"/>
                </a:lnTo>
                <a:lnTo>
                  <a:pt x="264" y="658"/>
                </a:lnTo>
                <a:lnTo>
                  <a:pt x="260" y="651"/>
                </a:lnTo>
                <a:lnTo>
                  <a:pt x="263" y="649"/>
                </a:lnTo>
                <a:lnTo>
                  <a:pt x="263" y="645"/>
                </a:lnTo>
                <a:lnTo>
                  <a:pt x="269" y="645"/>
                </a:lnTo>
                <a:lnTo>
                  <a:pt x="269" y="644"/>
                </a:lnTo>
                <a:lnTo>
                  <a:pt x="272" y="640"/>
                </a:lnTo>
                <a:lnTo>
                  <a:pt x="276" y="640"/>
                </a:lnTo>
                <a:lnTo>
                  <a:pt x="279" y="632"/>
                </a:lnTo>
                <a:lnTo>
                  <a:pt x="286" y="630"/>
                </a:lnTo>
                <a:lnTo>
                  <a:pt x="287" y="632"/>
                </a:lnTo>
                <a:lnTo>
                  <a:pt x="298" y="635"/>
                </a:lnTo>
                <a:lnTo>
                  <a:pt x="305" y="631"/>
                </a:lnTo>
                <a:lnTo>
                  <a:pt x="306" y="630"/>
                </a:lnTo>
                <a:lnTo>
                  <a:pt x="305" y="626"/>
                </a:lnTo>
                <a:lnTo>
                  <a:pt x="312" y="616"/>
                </a:lnTo>
                <a:lnTo>
                  <a:pt x="312" y="612"/>
                </a:lnTo>
                <a:lnTo>
                  <a:pt x="316" y="612"/>
                </a:lnTo>
                <a:lnTo>
                  <a:pt x="321" y="615"/>
                </a:lnTo>
                <a:lnTo>
                  <a:pt x="327" y="608"/>
                </a:lnTo>
                <a:lnTo>
                  <a:pt x="323" y="602"/>
                </a:lnTo>
                <a:lnTo>
                  <a:pt x="326" y="600"/>
                </a:lnTo>
                <a:lnTo>
                  <a:pt x="328" y="592"/>
                </a:lnTo>
                <a:lnTo>
                  <a:pt x="330" y="602"/>
                </a:lnTo>
                <a:lnTo>
                  <a:pt x="332" y="597"/>
                </a:lnTo>
                <a:lnTo>
                  <a:pt x="334" y="597"/>
                </a:lnTo>
                <a:lnTo>
                  <a:pt x="330" y="612"/>
                </a:lnTo>
                <a:lnTo>
                  <a:pt x="341" y="611"/>
                </a:lnTo>
                <a:lnTo>
                  <a:pt x="351" y="602"/>
                </a:lnTo>
                <a:lnTo>
                  <a:pt x="355" y="605"/>
                </a:lnTo>
                <a:lnTo>
                  <a:pt x="354" y="614"/>
                </a:lnTo>
                <a:lnTo>
                  <a:pt x="356" y="615"/>
                </a:lnTo>
                <a:lnTo>
                  <a:pt x="350" y="620"/>
                </a:lnTo>
                <a:lnTo>
                  <a:pt x="344" y="620"/>
                </a:lnTo>
                <a:lnTo>
                  <a:pt x="342" y="622"/>
                </a:lnTo>
                <a:lnTo>
                  <a:pt x="345" y="622"/>
                </a:lnTo>
                <a:lnTo>
                  <a:pt x="349" y="631"/>
                </a:lnTo>
                <a:lnTo>
                  <a:pt x="356" y="630"/>
                </a:lnTo>
                <a:lnTo>
                  <a:pt x="357" y="634"/>
                </a:lnTo>
                <a:lnTo>
                  <a:pt x="361" y="630"/>
                </a:lnTo>
                <a:lnTo>
                  <a:pt x="369" y="632"/>
                </a:lnTo>
                <a:lnTo>
                  <a:pt x="364" y="639"/>
                </a:lnTo>
                <a:lnTo>
                  <a:pt x="365" y="640"/>
                </a:lnTo>
                <a:lnTo>
                  <a:pt x="373" y="639"/>
                </a:lnTo>
                <a:lnTo>
                  <a:pt x="374" y="642"/>
                </a:lnTo>
                <a:lnTo>
                  <a:pt x="381" y="634"/>
                </a:lnTo>
                <a:lnTo>
                  <a:pt x="384" y="637"/>
                </a:lnTo>
                <a:lnTo>
                  <a:pt x="386" y="637"/>
                </a:lnTo>
                <a:lnTo>
                  <a:pt x="386" y="634"/>
                </a:lnTo>
                <a:lnTo>
                  <a:pt x="389" y="635"/>
                </a:lnTo>
                <a:lnTo>
                  <a:pt x="391" y="636"/>
                </a:lnTo>
                <a:lnTo>
                  <a:pt x="393" y="644"/>
                </a:lnTo>
                <a:lnTo>
                  <a:pt x="400" y="641"/>
                </a:lnTo>
                <a:lnTo>
                  <a:pt x="400" y="637"/>
                </a:lnTo>
                <a:lnTo>
                  <a:pt x="404" y="637"/>
                </a:lnTo>
                <a:lnTo>
                  <a:pt x="405" y="630"/>
                </a:lnTo>
                <a:lnTo>
                  <a:pt x="409" y="630"/>
                </a:lnTo>
                <a:lnTo>
                  <a:pt x="414" y="634"/>
                </a:lnTo>
                <a:lnTo>
                  <a:pt x="408" y="641"/>
                </a:lnTo>
                <a:lnTo>
                  <a:pt x="410" y="640"/>
                </a:lnTo>
                <a:lnTo>
                  <a:pt x="423" y="625"/>
                </a:lnTo>
                <a:lnTo>
                  <a:pt x="436" y="621"/>
                </a:lnTo>
                <a:lnTo>
                  <a:pt x="434" y="616"/>
                </a:lnTo>
                <a:lnTo>
                  <a:pt x="424" y="611"/>
                </a:lnTo>
                <a:lnTo>
                  <a:pt x="437" y="612"/>
                </a:lnTo>
                <a:lnTo>
                  <a:pt x="438" y="616"/>
                </a:lnTo>
                <a:lnTo>
                  <a:pt x="441" y="620"/>
                </a:lnTo>
                <a:lnTo>
                  <a:pt x="442" y="615"/>
                </a:lnTo>
                <a:lnTo>
                  <a:pt x="438" y="607"/>
                </a:lnTo>
                <a:lnTo>
                  <a:pt x="434" y="605"/>
                </a:lnTo>
                <a:lnTo>
                  <a:pt x="432" y="606"/>
                </a:lnTo>
                <a:lnTo>
                  <a:pt x="429" y="603"/>
                </a:lnTo>
                <a:lnTo>
                  <a:pt x="433" y="600"/>
                </a:lnTo>
                <a:lnTo>
                  <a:pt x="428" y="593"/>
                </a:lnTo>
                <a:lnTo>
                  <a:pt x="420" y="596"/>
                </a:lnTo>
                <a:lnTo>
                  <a:pt x="418" y="593"/>
                </a:lnTo>
                <a:lnTo>
                  <a:pt x="412" y="593"/>
                </a:lnTo>
                <a:lnTo>
                  <a:pt x="408" y="597"/>
                </a:lnTo>
                <a:lnTo>
                  <a:pt x="404" y="596"/>
                </a:lnTo>
                <a:lnTo>
                  <a:pt x="405" y="590"/>
                </a:lnTo>
                <a:lnTo>
                  <a:pt x="404" y="587"/>
                </a:lnTo>
                <a:lnTo>
                  <a:pt x="404" y="582"/>
                </a:lnTo>
                <a:lnTo>
                  <a:pt x="398" y="582"/>
                </a:lnTo>
                <a:lnTo>
                  <a:pt x="398" y="578"/>
                </a:lnTo>
                <a:lnTo>
                  <a:pt x="405" y="568"/>
                </a:lnTo>
                <a:lnTo>
                  <a:pt x="405" y="563"/>
                </a:lnTo>
                <a:lnTo>
                  <a:pt x="396" y="562"/>
                </a:lnTo>
                <a:lnTo>
                  <a:pt x="396" y="556"/>
                </a:lnTo>
                <a:lnTo>
                  <a:pt x="394" y="553"/>
                </a:lnTo>
                <a:lnTo>
                  <a:pt x="391" y="554"/>
                </a:lnTo>
                <a:lnTo>
                  <a:pt x="388" y="552"/>
                </a:lnTo>
                <a:lnTo>
                  <a:pt x="388" y="549"/>
                </a:lnTo>
                <a:lnTo>
                  <a:pt x="384" y="553"/>
                </a:lnTo>
                <a:lnTo>
                  <a:pt x="380" y="552"/>
                </a:lnTo>
                <a:lnTo>
                  <a:pt x="378" y="551"/>
                </a:lnTo>
                <a:lnTo>
                  <a:pt x="380" y="547"/>
                </a:lnTo>
                <a:lnTo>
                  <a:pt x="379" y="537"/>
                </a:lnTo>
                <a:lnTo>
                  <a:pt x="385" y="537"/>
                </a:lnTo>
                <a:lnTo>
                  <a:pt x="389" y="535"/>
                </a:lnTo>
                <a:lnTo>
                  <a:pt x="386" y="535"/>
                </a:lnTo>
                <a:lnTo>
                  <a:pt x="388" y="533"/>
                </a:lnTo>
                <a:lnTo>
                  <a:pt x="395" y="533"/>
                </a:lnTo>
                <a:lnTo>
                  <a:pt x="390" y="532"/>
                </a:lnTo>
                <a:lnTo>
                  <a:pt x="391" y="527"/>
                </a:lnTo>
                <a:lnTo>
                  <a:pt x="388" y="524"/>
                </a:lnTo>
                <a:lnTo>
                  <a:pt x="390" y="523"/>
                </a:lnTo>
                <a:lnTo>
                  <a:pt x="389" y="520"/>
                </a:lnTo>
                <a:lnTo>
                  <a:pt x="381" y="520"/>
                </a:lnTo>
                <a:lnTo>
                  <a:pt x="386" y="518"/>
                </a:lnTo>
                <a:lnTo>
                  <a:pt x="386" y="515"/>
                </a:lnTo>
                <a:lnTo>
                  <a:pt x="384" y="515"/>
                </a:lnTo>
                <a:lnTo>
                  <a:pt x="383" y="509"/>
                </a:lnTo>
                <a:lnTo>
                  <a:pt x="386" y="506"/>
                </a:lnTo>
                <a:lnTo>
                  <a:pt x="384" y="504"/>
                </a:lnTo>
                <a:lnTo>
                  <a:pt x="388" y="501"/>
                </a:lnTo>
                <a:lnTo>
                  <a:pt x="388" y="499"/>
                </a:lnTo>
                <a:lnTo>
                  <a:pt x="385" y="498"/>
                </a:lnTo>
                <a:lnTo>
                  <a:pt x="380" y="503"/>
                </a:lnTo>
                <a:lnTo>
                  <a:pt x="381" y="499"/>
                </a:lnTo>
                <a:lnTo>
                  <a:pt x="379" y="496"/>
                </a:lnTo>
                <a:lnTo>
                  <a:pt x="374" y="499"/>
                </a:lnTo>
                <a:lnTo>
                  <a:pt x="374" y="504"/>
                </a:lnTo>
                <a:lnTo>
                  <a:pt x="369" y="505"/>
                </a:lnTo>
                <a:lnTo>
                  <a:pt x="365" y="510"/>
                </a:lnTo>
                <a:lnTo>
                  <a:pt x="364" y="508"/>
                </a:lnTo>
                <a:lnTo>
                  <a:pt x="360" y="509"/>
                </a:lnTo>
                <a:lnTo>
                  <a:pt x="357" y="508"/>
                </a:lnTo>
                <a:lnTo>
                  <a:pt x="356" y="510"/>
                </a:lnTo>
                <a:lnTo>
                  <a:pt x="350" y="508"/>
                </a:lnTo>
                <a:lnTo>
                  <a:pt x="349" y="514"/>
                </a:lnTo>
                <a:lnTo>
                  <a:pt x="351" y="515"/>
                </a:lnTo>
                <a:lnTo>
                  <a:pt x="351" y="520"/>
                </a:lnTo>
                <a:lnTo>
                  <a:pt x="356" y="532"/>
                </a:lnTo>
                <a:lnTo>
                  <a:pt x="354" y="533"/>
                </a:lnTo>
                <a:lnTo>
                  <a:pt x="347" y="529"/>
                </a:lnTo>
                <a:lnTo>
                  <a:pt x="339" y="532"/>
                </a:lnTo>
                <a:lnTo>
                  <a:pt x="337" y="535"/>
                </a:lnTo>
                <a:lnTo>
                  <a:pt x="334" y="535"/>
                </a:lnTo>
                <a:lnTo>
                  <a:pt x="335" y="528"/>
                </a:lnTo>
                <a:lnTo>
                  <a:pt x="326" y="524"/>
                </a:lnTo>
                <a:lnTo>
                  <a:pt x="321" y="530"/>
                </a:lnTo>
                <a:lnTo>
                  <a:pt x="316" y="532"/>
                </a:lnTo>
                <a:lnTo>
                  <a:pt x="316" y="534"/>
                </a:lnTo>
                <a:lnTo>
                  <a:pt x="312" y="532"/>
                </a:lnTo>
                <a:lnTo>
                  <a:pt x="313" y="528"/>
                </a:lnTo>
                <a:lnTo>
                  <a:pt x="311" y="527"/>
                </a:lnTo>
                <a:lnTo>
                  <a:pt x="316" y="517"/>
                </a:lnTo>
                <a:lnTo>
                  <a:pt x="315" y="513"/>
                </a:lnTo>
                <a:lnTo>
                  <a:pt x="313" y="515"/>
                </a:lnTo>
                <a:lnTo>
                  <a:pt x="315" y="517"/>
                </a:lnTo>
                <a:lnTo>
                  <a:pt x="311" y="522"/>
                </a:lnTo>
                <a:lnTo>
                  <a:pt x="310" y="520"/>
                </a:lnTo>
                <a:lnTo>
                  <a:pt x="312" y="518"/>
                </a:lnTo>
                <a:lnTo>
                  <a:pt x="305" y="519"/>
                </a:lnTo>
                <a:lnTo>
                  <a:pt x="303" y="515"/>
                </a:lnTo>
                <a:lnTo>
                  <a:pt x="302" y="517"/>
                </a:lnTo>
                <a:lnTo>
                  <a:pt x="305" y="523"/>
                </a:lnTo>
                <a:lnTo>
                  <a:pt x="302" y="527"/>
                </a:lnTo>
                <a:lnTo>
                  <a:pt x="299" y="519"/>
                </a:lnTo>
                <a:lnTo>
                  <a:pt x="293" y="517"/>
                </a:lnTo>
                <a:lnTo>
                  <a:pt x="289" y="520"/>
                </a:lnTo>
                <a:lnTo>
                  <a:pt x="287" y="518"/>
                </a:lnTo>
                <a:lnTo>
                  <a:pt x="286" y="519"/>
                </a:lnTo>
                <a:lnTo>
                  <a:pt x="284" y="518"/>
                </a:lnTo>
                <a:lnTo>
                  <a:pt x="273" y="520"/>
                </a:lnTo>
                <a:lnTo>
                  <a:pt x="268" y="524"/>
                </a:lnTo>
                <a:lnTo>
                  <a:pt x="260" y="522"/>
                </a:lnTo>
                <a:lnTo>
                  <a:pt x="254" y="525"/>
                </a:lnTo>
                <a:lnTo>
                  <a:pt x="258" y="522"/>
                </a:lnTo>
                <a:lnTo>
                  <a:pt x="254" y="522"/>
                </a:lnTo>
                <a:lnTo>
                  <a:pt x="248" y="513"/>
                </a:lnTo>
                <a:lnTo>
                  <a:pt x="248" y="509"/>
                </a:lnTo>
                <a:lnTo>
                  <a:pt x="245" y="509"/>
                </a:lnTo>
                <a:lnTo>
                  <a:pt x="243" y="505"/>
                </a:lnTo>
                <a:lnTo>
                  <a:pt x="243" y="499"/>
                </a:lnTo>
                <a:lnTo>
                  <a:pt x="240" y="498"/>
                </a:lnTo>
                <a:lnTo>
                  <a:pt x="238" y="494"/>
                </a:lnTo>
                <a:lnTo>
                  <a:pt x="233" y="491"/>
                </a:lnTo>
                <a:lnTo>
                  <a:pt x="233" y="489"/>
                </a:lnTo>
                <a:lnTo>
                  <a:pt x="228" y="481"/>
                </a:lnTo>
                <a:lnTo>
                  <a:pt x="220" y="478"/>
                </a:lnTo>
                <a:lnTo>
                  <a:pt x="219" y="474"/>
                </a:lnTo>
                <a:lnTo>
                  <a:pt x="208" y="470"/>
                </a:lnTo>
                <a:lnTo>
                  <a:pt x="201" y="466"/>
                </a:lnTo>
                <a:lnTo>
                  <a:pt x="197" y="467"/>
                </a:lnTo>
                <a:lnTo>
                  <a:pt x="190" y="462"/>
                </a:lnTo>
                <a:lnTo>
                  <a:pt x="186" y="464"/>
                </a:lnTo>
                <a:lnTo>
                  <a:pt x="184" y="460"/>
                </a:lnTo>
                <a:lnTo>
                  <a:pt x="180" y="460"/>
                </a:lnTo>
                <a:lnTo>
                  <a:pt x="177" y="462"/>
                </a:lnTo>
                <a:lnTo>
                  <a:pt x="174" y="460"/>
                </a:lnTo>
                <a:lnTo>
                  <a:pt x="174" y="457"/>
                </a:lnTo>
                <a:lnTo>
                  <a:pt x="169" y="451"/>
                </a:lnTo>
                <a:lnTo>
                  <a:pt x="167" y="446"/>
                </a:lnTo>
                <a:lnTo>
                  <a:pt x="169" y="447"/>
                </a:lnTo>
                <a:lnTo>
                  <a:pt x="170" y="445"/>
                </a:lnTo>
                <a:lnTo>
                  <a:pt x="162" y="441"/>
                </a:lnTo>
                <a:lnTo>
                  <a:pt x="163" y="438"/>
                </a:lnTo>
                <a:lnTo>
                  <a:pt x="157" y="435"/>
                </a:lnTo>
                <a:lnTo>
                  <a:pt x="150" y="433"/>
                </a:lnTo>
                <a:lnTo>
                  <a:pt x="150" y="431"/>
                </a:lnTo>
                <a:lnTo>
                  <a:pt x="143" y="430"/>
                </a:lnTo>
                <a:lnTo>
                  <a:pt x="142" y="418"/>
                </a:lnTo>
                <a:lnTo>
                  <a:pt x="134" y="416"/>
                </a:lnTo>
                <a:lnTo>
                  <a:pt x="131" y="407"/>
                </a:lnTo>
                <a:lnTo>
                  <a:pt x="132" y="404"/>
                </a:lnTo>
                <a:lnTo>
                  <a:pt x="129" y="402"/>
                </a:lnTo>
                <a:lnTo>
                  <a:pt x="128" y="402"/>
                </a:lnTo>
                <a:lnTo>
                  <a:pt x="129" y="401"/>
                </a:lnTo>
                <a:lnTo>
                  <a:pt x="122" y="388"/>
                </a:lnTo>
                <a:lnTo>
                  <a:pt x="117" y="384"/>
                </a:lnTo>
                <a:lnTo>
                  <a:pt x="104" y="364"/>
                </a:lnTo>
                <a:lnTo>
                  <a:pt x="100" y="360"/>
                </a:lnTo>
                <a:lnTo>
                  <a:pt x="95" y="350"/>
                </a:lnTo>
                <a:lnTo>
                  <a:pt x="93" y="349"/>
                </a:lnTo>
                <a:lnTo>
                  <a:pt x="94" y="347"/>
                </a:lnTo>
                <a:lnTo>
                  <a:pt x="92" y="345"/>
                </a:lnTo>
                <a:lnTo>
                  <a:pt x="93" y="344"/>
                </a:lnTo>
                <a:lnTo>
                  <a:pt x="83" y="320"/>
                </a:lnTo>
                <a:lnTo>
                  <a:pt x="92" y="277"/>
                </a:lnTo>
                <a:lnTo>
                  <a:pt x="97" y="266"/>
                </a:lnTo>
                <a:lnTo>
                  <a:pt x="97" y="248"/>
                </a:lnTo>
                <a:lnTo>
                  <a:pt x="79" y="227"/>
                </a:lnTo>
                <a:lnTo>
                  <a:pt x="69" y="217"/>
                </a:lnTo>
                <a:lnTo>
                  <a:pt x="58" y="211"/>
                </a:lnTo>
                <a:lnTo>
                  <a:pt x="45" y="187"/>
                </a:lnTo>
                <a:lnTo>
                  <a:pt x="27" y="183"/>
                </a:lnTo>
                <a:lnTo>
                  <a:pt x="17" y="165"/>
                </a:lnTo>
                <a:lnTo>
                  <a:pt x="15" y="155"/>
                </a:lnTo>
                <a:lnTo>
                  <a:pt x="5" y="144"/>
                </a:lnTo>
                <a:lnTo>
                  <a:pt x="6" y="136"/>
                </a:lnTo>
                <a:lnTo>
                  <a:pt x="1" y="126"/>
                </a:lnTo>
                <a:lnTo>
                  <a:pt x="0" y="107"/>
                </a:lnTo>
                <a:lnTo>
                  <a:pt x="5" y="96"/>
                </a:lnTo>
                <a:lnTo>
                  <a:pt x="5" y="90"/>
                </a:lnTo>
                <a:lnTo>
                  <a:pt x="10" y="85"/>
                </a:lnTo>
                <a:lnTo>
                  <a:pt x="11" y="76"/>
                </a:lnTo>
                <a:lnTo>
                  <a:pt x="19" y="68"/>
                </a:lnTo>
                <a:lnTo>
                  <a:pt x="19" y="63"/>
                </a:lnTo>
                <a:lnTo>
                  <a:pt x="27" y="57"/>
                </a:lnTo>
                <a:lnTo>
                  <a:pt x="27" y="52"/>
                </a:lnTo>
                <a:lnTo>
                  <a:pt x="29" y="52"/>
                </a:lnTo>
                <a:lnTo>
                  <a:pt x="30" y="47"/>
                </a:lnTo>
                <a:lnTo>
                  <a:pt x="34" y="39"/>
                </a:lnTo>
                <a:lnTo>
                  <a:pt x="41" y="33"/>
                </a:lnTo>
                <a:lnTo>
                  <a:pt x="61" y="27"/>
                </a:lnTo>
                <a:lnTo>
                  <a:pt x="65" y="22"/>
                </a:lnTo>
                <a:lnTo>
                  <a:pt x="66" y="23"/>
                </a:lnTo>
                <a:lnTo>
                  <a:pt x="75" y="20"/>
                </a:lnTo>
                <a:lnTo>
                  <a:pt x="78" y="17"/>
                </a:lnTo>
                <a:lnTo>
                  <a:pt x="84" y="14"/>
                </a:lnTo>
                <a:lnTo>
                  <a:pt x="88" y="8"/>
                </a:lnTo>
                <a:lnTo>
                  <a:pt x="94" y="9"/>
                </a:lnTo>
                <a:lnTo>
                  <a:pt x="108" y="4"/>
                </a:lnTo>
                <a:close/>
                <a:moveTo>
                  <a:pt x="672" y="772"/>
                </a:moveTo>
                <a:lnTo>
                  <a:pt x="687" y="767"/>
                </a:lnTo>
                <a:lnTo>
                  <a:pt x="690" y="762"/>
                </a:lnTo>
                <a:lnTo>
                  <a:pt x="687" y="766"/>
                </a:lnTo>
                <a:lnTo>
                  <a:pt x="672" y="772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775800" y="384120"/>
            <a:ext cx="826920" cy="708120"/>
            <a:chOff x="775800" y="384120"/>
            <a:chExt cx="826920" cy="708120"/>
          </a:xfrm>
        </p:grpSpPr>
        <p:sp>
          <p:nvSpPr>
            <p:cNvPr id="4" name=""/>
            <p:cNvSpPr/>
            <p:nvPr/>
          </p:nvSpPr>
          <p:spPr>
            <a:xfrm flipH="1">
              <a:off x="775440" y="384120"/>
              <a:ext cx="191160" cy="190440"/>
            </a:xfrm>
            <a:custGeom>
              <a:avLst/>
              <a:gdLst/>
              <a:ahLst/>
              <a:rect l="l" t="t" r="r" b="b"/>
              <a:pathLst>
                <a:path w="883" h="1266">
                  <a:moveTo>
                    <a:pt x="0" y="1173"/>
                  </a:moveTo>
                  <a:cubicBezTo>
                    <a:pt x="105" y="1127"/>
                    <a:pt x="215" y="1090"/>
                    <a:pt x="316" y="1035"/>
                  </a:cubicBezTo>
                  <a:cubicBezTo>
                    <a:pt x="544" y="911"/>
                    <a:pt x="789" y="587"/>
                    <a:pt x="883" y="349"/>
                  </a:cubicBezTo>
                  <a:cubicBezTo>
                    <a:pt x="881" y="270"/>
                    <a:pt x="881" y="191"/>
                    <a:pt x="877" y="112"/>
                  </a:cubicBezTo>
                  <a:cubicBezTo>
                    <a:pt x="876" y="93"/>
                    <a:pt x="873" y="16"/>
                    <a:pt x="844" y="6"/>
                  </a:cubicBezTo>
                  <a:cubicBezTo>
                    <a:pt x="829" y="1"/>
                    <a:pt x="813" y="2"/>
                    <a:pt x="798" y="0"/>
                  </a:cubicBezTo>
                  <a:cubicBezTo>
                    <a:pt x="731" y="16"/>
                    <a:pt x="700" y="50"/>
                    <a:pt x="653" y="99"/>
                  </a:cubicBezTo>
                  <a:cubicBezTo>
                    <a:pt x="617" y="208"/>
                    <a:pt x="677" y="51"/>
                    <a:pt x="587" y="178"/>
                  </a:cubicBezTo>
                  <a:cubicBezTo>
                    <a:pt x="577" y="192"/>
                    <a:pt x="552" y="303"/>
                    <a:pt x="547" y="323"/>
                  </a:cubicBezTo>
                  <a:cubicBezTo>
                    <a:pt x="545" y="341"/>
                    <a:pt x="544" y="358"/>
                    <a:pt x="541" y="376"/>
                  </a:cubicBezTo>
                  <a:cubicBezTo>
                    <a:pt x="537" y="398"/>
                    <a:pt x="530" y="420"/>
                    <a:pt x="527" y="442"/>
                  </a:cubicBezTo>
                  <a:cubicBezTo>
                    <a:pt x="521" y="490"/>
                    <a:pt x="514" y="587"/>
                    <a:pt x="514" y="587"/>
                  </a:cubicBezTo>
                  <a:cubicBezTo>
                    <a:pt x="525" y="878"/>
                    <a:pt x="508" y="835"/>
                    <a:pt x="541" y="1009"/>
                  </a:cubicBezTo>
                  <a:cubicBezTo>
                    <a:pt x="553" y="1075"/>
                    <a:pt x="564" y="1141"/>
                    <a:pt x="580" y="1206"/>
                  </a:cubicBezTo>
                  <a:cubicBezTo>
                    <a:pt x="594" y="1262"/>
                    <a:pt x="605" y="1245"/>
                    <a:pt x="587" y="1266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" name=""/>
            <p:cNvGraphicFramePr/>
            <p:nvPr/>
          </p:nvGraphicFramePr>
          <p:xfrm>
            <a:off x="956520" y="547560"/>
            <a:ext cx="646200" cy="544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56520" y="547560"/>
                      <a:ext cx="64620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1523520"/>
            <a:ext cx="97534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ffff"/>
                </a:solidFill>
                <a:latin typeface="Arial"/>
              </a:rPr>
              <a:t>MODELE DE PROGRAMMES D ’INTERVENTION </a:t>
            </a:r>
            <a:br>
              <a:rPr sz="2800"/>
            </a:br>
            <a:r>
              <a:rPr b="0" lang="en-US" sz="2800" spc="-1" strike="noStrike">
                <a:solidFill>
                  <a:srgbClr val="2bffff"/>
                </a:solidFill>
                <a:latin typeface="Arial"/>
              </a:rPr>
              <a:t>SUR L ’OBSERVANCE AUX ANTIRÉTROVIRAUX </a:t>
            </a:r>
            <a:br>
              <a:rPr sz="2800"/>
            </a:b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342900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atherine Tourette-Turgis,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ryline Rébillon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MMENT DIRE, P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7520" y="5205240"/>
            <a:ext cx="17733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159840"/>
            <a:ext cx="9753480" cy="8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ffff"/>
                </a:solidFill>
                <a:latin typeface="Arial"/>
              </a:rPr>
              <a:t>Exemples de programmes</a:t>
            </a: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14160" y="1362240"/>
            <a:ext cx="835020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onsultation d’observance du CH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N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04800" y="2629080"/>
            <a:ext cx="836316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12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consultation de préparation au traitement du CHU de Fort de France (Martiniqu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69960" y="3932280"/>
            <a:ext cx="837576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12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consultation d’observance et de prévention de l’association Kiosque Info Sida (Pari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72440" y="6280200"/>
            <a:ext cx="1838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3960"/>
            <a:ext cx="9753480" cy="83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ffff"/>
                </a:solidFill>
                <a:latin typeface="Arial"/>
              </a:rPr>
              <a:t>1. Consultation « Observance » de Nice</a:t>
            </a: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64920" y="1587600"/>
            <a:ext cx="851076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cibl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06600" y="3643200"/>
            <a:ext cx="854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équence des entretien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84280" y="4135320"/>
            <a:ext cx="8559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4 entretiens (40 mns) sur 6 mois (1 entretien / 2 mois calés sur la fréquence des consultations médical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46200" y="2633760"/>
            <a:ext cx="854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venant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12720" y="3073320"/>
            <a:ext cx="8548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infirmières des 3 services, 1 médecin coordinat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84360" y="2044800"/>
            <a:ext cx="854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ients en traitement suivis dans 3 services du CHU N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87520" y="4924440"/>
            <a:ext cx="854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il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35040" y="5477040"/>
            <a:ext cx="8548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61960" y="5494320"/>
            <a:ext cx="8561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uide d’entretien, fiche diagnostic infirmier, fiche de suivi insérée dans le dossier médic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72440" y="6280200"/>
            <a:ext cx="1838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83680"/>
            <a:ext cx="9753480" cy="8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ffff"/>
                </a:solidFill>
                <a:latin typeface="Arial"/>
                <a:ea typeface="Times New Roman"/>
              </a:rPr>
              <a:t>2. Consultation de préparation au traitement du CHU de Fort de France (Martinique)</a:t>
            </a: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14000" y="1198080"/>
            <a:ext cx="8350200" cy="43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cible 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20560" y="1803240"/>
            <a:ext cx="56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ndication à un traitement antirétrovi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04720" y="2295360"/>
            <a:ext cx="36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ients jamais trait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1120" y="2771640"/>
            <a:ext cx="72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ients déjà traités et en arrêt de traitement depuis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au moins 1 mo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53320" y="34844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venant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54760" y="4064040"/>
            <a:ext cx="37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decins prescripteu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58720" y="4481640"/>
            <a:ext cx="561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conseillère thérapeutique (infirmiè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4898880"/>
            <a:ext cx="15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il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37840" y="5398920"/>
            <a:ext cx="69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uide d’entretien, Fiche diagnostic, Fiche de suiv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72440" y="6280200"/>
            <a:ext cx="1838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96360"/>
            <a:ext cx="9753480" cy="8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ffff"/>
                </a:solidFill>
                <a:latin typeface="Arial"/>
                <a:ea typeface="Times New Roman"/>
              </a:rPr>
              <a:t>2. Consultation de préparation au traitement </a:t>
            </a:r>
            <a:br>
              <a:rPr sz="2000"/>
            </a:br>
            <a:r>
              <a:rPr b="0" lang="en-US" sz="2000" spc="-1" strike="noStrike">
                <a:solidFill>
                  <a:srgbClr val="2bffff"/>
                </a:solidFill>
                <a:latin typeface="Arial"/>
                <a:ea typeface="Times New Roman"/>
              </a:rPr>
              <a:t>du CHU de Fort de France (Martinique)</a:t>
            </a:r>
            <a:br>
              <a:rPr sz="2000"/>
            </a:b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14000" y="1436760"/>
            <a:ext cx="8350200" cy="71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équence des entretiens 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8560" y="3629160"/>
            <a:ext cx="2362320" cy="30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8560" y="3286080"/>
            <a:ext cx="0" cy="1371600"/>
          </a:xfrm>
          <a:prstGeom prst="line">
            <a:avLst/>
          </a:prstGeom>
          <a:ln w="57240">
            <a:solidFill>
              <a:srgbClr val="ff0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885160" y="3286080"/>
            <a:ext cx="0" cy="1371600"/>
          </a:xfrm>
          <a:prstGeom prst="line">
            <a:avLst/>
          </a:prstGeom>
          <a:ln w="57240">
            <a:solidFill>
              <a:srgbClr val="ff0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1440" y="271368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tretien n°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7400" y="272772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tretien n°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13440" y="271368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tretien n°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79360" y="39326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1600" y="35517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aitement ré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35320" y="3895560"/>
            <a:ext cx="5867640" cy="457200"/>
          </a:xfrm>
          <a:prstGeom prst="rightArrow">
            <a:avLst>
              <a:gd name="adj1" fmla="val 66667"/>
              <a:gd name="adj2" fmla="val 83361"/>
            </a:avLst>
          </a:prstGeom>
          <a:solidFill>
            <a:srgbClr val="66ffff"/>
          </a:solidFill>
          <a:ln w="1260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60880" y="3286080"/>
            <a:ext cx="0" cy="1371600"/>
          </a:xfrm>
          <a:prstGeom prst="line">
            <a:avLst/>
          </a:prstGeom>
          <a:ln w="57240">
            <a:solidFill>
              <a:srgbClr val="ff0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4960" y="46947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-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10680" y="46947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60800" y="469476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72440" y="6280200"/>
            <a:ext cx="1838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396360"/>
            <a:ext cx="9753480" cy="8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ffff"/>
                </a:solidFill>
                <a:latin typeface="Arial"/>
                <a:ea typeface="Times New Roman"/>
              </a:rPr>
              <a:t>2. Consultation de préparation au traitement </a:t>
            </a:r>
            <a:br>
              <a:rPr sz="2000"/>
            </a:br>
            <a:r>
              <a:rPr b="0" lang="en-US" sz="2000" spc="-1" strike="noStrike">
                <a:solidFill>
                  <a:srgbClr val="2bffff"/>
                </a:solidFill>
                <a:latin typeface="Arial"/>
                <a:ea typeface="Times New Roman"/>
              </a:rPr>
              <a:t>du CHU de Fort de France (Martinique)</a:t>
            </a:r>
            <a:br>
              <a:rPr sz="2000"/>
            </a:b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72440" y="6280200"/>
            <a:ext cx="1838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760" y="2705040"/>
            <a:ext cx="3409920" cy="17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Entretien n°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iagnostic des besoins pour pouvoir prendre son trait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esure du degré d’adhé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pacité de l ’environn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28600" y="4514760"/>
            <a:ext cx="3409920" cy="1698480"/>
            <a:chOff x="228600" y="4514760"/>
            <a:chExt cx="3409920" cy="1698480"/>
          </a:xfrm>
        </p:grpSpPr>
        <p:sp>
          <p:nvSpPr>
            <p:cNvPr id="142" name=""/>
            <p:cNvSpPr/>
            <p:nvPr/>
          </p:nvSpPr>
          <p:spPr>
            <a:xfrm>
              <a:off x="228600" y="4952880"/>
              <a:ext cx="3409920" cy="12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Sim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eproduction du déroulement du trait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ne sema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1200" y="4514760"/>
              <a:ext cx="419040" cy="438120"/>
            </a:xfrm>
            <a:prstGeom prst="downArrow">
              <a:avLst>
                <a:gd name="adj1" fmla="val 50000"/>
                <a:gd name="adj2" fmla="val 26138"/>
              </a:avLst>
            </a:prstGeom>
            <a:solidFill>
              <a:srgbClr val="1278de"/>
            </a:solidFill>
            <a:ln w="12600">
              <a:solidFill>
                <a:srgbClr val="7dff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476600" y="2590920"/>
            <a:ext cx="3410280" cy="3379680"/>
            <a:chOff x="4476600" y="2590920"/>
            <a:chExt cx="3410280" cy="3379680"/>
          </a:xfrm>
        </p:grpSpPr>
        <p:sp>
          <p:nvSpPr>
            <p:cNvPr id="145" name=""/>
            <p:cNvSpPr/>
            <p:nvPr/>
          </p:nvSpPr>
          <p:spPr>
            <a:xfrm>
              <a:off x="4476600" y="2590920"/>
              <a:ext cx="34102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Entretien n°3 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(J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5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) ou 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mpact du traitement sur la vie quotidien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loration des routi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nticipation des événements de non-observan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91080" y="4362480"/>
              <a:ext cx="27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dfffc"/>
                  </a:solidFill>
                  <a:latin typeface="Tahoma"/>
                </a:rPr>
                <a:t>Début du traite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 rot="18900000">
              <a:off x="6819840" y="5448240"/>
              <a:ext cx="419040" cy="438120"/>
            </a:xfrm>
            <a:prstGeom prst="downArrow">
              <a:avLst>
                <a:gd name="adj1" fmla="val 50000"/>
                <a:gd name="adj2" fmla="val 26138"/>
              </a:avLst>
            </a:prstGeom>
            <a:solidFill>
              <a:srgbClr val="1278de"/>
            </a:solidFill>
            <a:ln w="12600">
              <a:solidFill>
                <a:srgbClr val="7dff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91440" y="5133960"/>
              <a:ext cx="78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fffc"/>
                  </a:solidFill>
                  <a:latin typeface="Comic Sans MS"/>
                </a:rPr>
                <a:t>OU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 rot="18900000">
              <a:off x="6076800" y="4827960"/>
              <a:ext cx="419400" cy="438120"/>
            </a:xfrm>
            <a:prstGeom prst="downArrow">
              <a:avLst>
                <a:gd name="adj1" fmla="val 50000"/>
                <a:gd name="adj2" fmla="val 26116"/>
              </a:avLst>
            </a:prstGeom>
            <a:solidFill>
              <a:srgbClr val="1278de"/>
            </a:solidFill>
            <a:ln w="12600">
              <a:solidFill>
                <a:srgbClr val="7dff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05160" y="5272200"/>
            <a:ext cx="3552840" cy="1595160"/>
            <a:chOff x="3305160" y="5272200"/>
            <a:chExt cx="3552840" cy="1595160"/>
          </a:xfrm>
        </p:grpSpPr>
        <p:sp>
          <p:nvSpPr>
            <p:cNvPr id="151" name=""/>
            <p:cNvSpPr/>
            <p:nvPr/>
          </p:nvSpPr>
          <p:spPr>
            <a:xfrm>
              <a:off x="4076640" y="5272200"/>
              <a:ext cx="2781360" cy="15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Entretien n°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Vécu de la simul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dentifier et résoudre les difficulté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Plan d ’a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3314880" y="5803200"/>
              <a:ext cx="418680" cy="438120"/>
            </a:xfrm>
            <a:prstGeom prst="downArrow">
              <a:avLst>
                <a:gd name="adj1" fmla="val 50000"/>
                <a:gd name="adj2" fmla="val 26161"/>
              </a:avLst>
            </a:prstGeom>
            <a:solidFill>
              <a:srgbClr val="1278de"/>
            </a:solidFill>
            <a:ln w="12600">
              <a:solidFill>
                <a:srgbClr val="7dff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980840" y="3562200"/>
            <a:ext cx="2302920" cy="2514600"/>
            <a:chOff x="7980840" y="3562200"/>
            <a:chExt cx="2302920" cy="2514600"/>
          </a:xfrm>
        </p:grpSpPr>
        <p:sp>
          <p:nvSpPr>
            <p:cNvPr id="154" name=""/>
            <p:cNvSpPr/>
            <p:nvPr/>
          </p:nvSpPr>
          <p:spPr>
            <a:xfrm>
              <a:off x="8226360" y="3562200"/>
              <a:ext cx="2057400" cy="14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Entretien n°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omic Sans MS"/>
                </a:rPr>
                <a:t>Evaluation du plan d ’a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omic Sans MS"/>
                </a:rPr>
                <a:t>Autre plan d ’a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 rot="2700000">
              <a:off x="8074080" y="5514840"/>
              <a:ext cx="419040" cy="438120"/>
            </a:xfrm>
            <a:prstGeom prst="downArrow">
              <a:avLst>
                <a:gd name="adj1" fmla="val 50000"/>
                <a:gd name="adj2" fmla="val 26138"/>
              </a:avLst>
            </a:prstGeom>
            <a:solidFill>
              <a:srgbClr val="1278de"/>
            </a:solidFill>
            <a:ln w="12600">
              <a:solidFill>
                <a:srgbClr val="7dff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45440" y="513396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979d9"/>
                  </a:solidFill>
                  <a:latin typeface="Comic Sans MS"/>
                </a:rPr>
                <a:t>N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0800000">
              <a:off x="8930880" y="5238720"/>
              <a:ext cx="723960" cy="8380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1278de"/>
            </a:solidFill>
            <a:ln w="12600">
              <a:solidFill>
                <a:srgbClr val="7dff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843120" y="1222200"/>
            <a:ext cx="8211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cription du traitement par le médec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ultation avec le conseiller thérapeu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283680"/>
            <a:ext cx="9753480" cy="8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ffff"/>
                </a:solidFill>
                <a:latin typeface="Arial"/>
              </a:rPr>
              <a:t>3. Consultation « Observance et prévention» de l’association KIOSQUE INFO SIDA (Paris)</a:t>
            </a: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52160" y="1536840"/>
            <a:ext cx="8350200" cy="43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cible 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32080" y="2027160"/>
            <a:ext cx="68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nes en traitement ou en arrêt de trait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91400" y="25574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venant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29920" y="3125880"/>
            <a:ext cx="44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5 counselors (psychologu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01840" y="3570120"/>
            <a:ext cx="15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il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14800" y="4159080"/>
            <a:ext cx="54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Guide d’entretien ; Autoquestionna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272440" y="6280200"/>
            <a:ext cx="1838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07320" y="4600440"/>
            <a:ext cx="43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équence des entretien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0720" y="5213520"/>
            <a:ext cx="54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entretiens à intervalle de 15/20 jou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396360"/>
            <a:ext cx="9753480" cy="8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ffff"/>
                </a:solidFill>
                <a:latin typeface="Arial"/>
              </a:rPr>
              <a:t>3. Consultation «Observance et prévention» </a:t>
            </a:r>
            <a:br>
              <a:rPr sz="2000"/>
            </a:br>
            <a:r>
              <a:rPr b="0" lang="en-US" sz="2000" spc="-1" strike="noStrike">
                <a:solidFill>
                  <a:srgbClr val="2bffff"/>
                </a:solidFill>
                <a:latin typeface="Arial"/>
              </a:rPr>
              <a:t>de l’association KIOSQUE INFO SIDA (Paris)</a:t>
            </a:r>
            <a:endParaRPr b="0" lang="en-US" sz="2000" spc="-1" strike="noStrike">
              <a:solidFill>
                <a:srgbClr val="2b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820880" y="187488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796000" y="1874880"/>
            <a:ext cx="3013200" cy="4343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272440" y="6280200"/>
            <a:ext cx="1838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171000"/>
            <a:ext cx="975348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ffff"/>
                </a:solidFill>
                <a:latin typeface="Arial"/>
              </a:rPr>
              <a:t>Leçons apprises</a:t>
            </a: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515600" y="3265560"/>
            <a:ext cx="8350200" cy="138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xistence d’un consensus mais persistance d’un dissensus sur l’intérêt et la pertinence de consultations d’observanc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67000" y="1638360"/>
            <a:ext cx="835020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naissances produites par la recherche scientifique non facilement transférables dans les pratiqu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72440" y="6280200"/>
            <a:ext cx="1838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171000"/>
            <a:ext cx="975348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ffff"/>
                </a:solidFill>
                <a:latin typeface="Arial"/>
              </a:rPr>
              <a:t>Leçons apprises</a:t>
            </a: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14000" y="1211040"/>
            <a:ext cx="8350200" cy="141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xistence de facilitateurs à la mise en place, 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roulement et à la pérennisation de consultations 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es initiatives « observance »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24080" y="2714760"/>
            <a:ext cx="802476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naissance partagée d’un problème à résoudr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dhésion moyenne ou haute des équipes au proje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yens en ressources humaine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ngagement fort de l’institution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tolérance au dérangement institutionnel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erception des bénéfices de l’action (par et pour les patients, les soignants, les institutions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ccompagnement et soutien des équipes par des intervenants extérieur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tilisation d’outils de traçabilité et de lisibilité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72440" y="6280200"/>
            <a:ext cx="1838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171000"/>
            <a:ext cx="975348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ffff"/>
                </a:solidFill>
                <a:latin typeface="Arial"/>
              </a:rPr>
              <a:t>Leçons apprises</a:t>
            </a: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276200" y="1625400"/>
            <a:ext cx="8350560" cy="170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s pratiques émergentes autour de l’obser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érapeutique ont une capacité à générer de modè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éoriques innovants dans le domaine de la sant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72440" y="6280200"/>
            <a:ext cx="1838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96360"/>
            <a:ext cx="9753480" cy="8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ffff"/>
                </a:solidFill>
                <a:latin typeface="Arial"/>
              </a:rPr>
              <a:t>Préalables à l’intervention</a:t>
            </a: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26960" y="1662120"/>
            <a:ext cx="833724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’efficacité thérapeutique des ARV nécessite un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observance haute à plus de 95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9520" y="2565360"/>
            <a:ext cx="8337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2bffff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f2f2"/>
                </a:solidFill>
                <a:latin typeface="Arial"/>
              </a:rPr>
              <a:t>Comment aider un patient à parvenir à ce résultat ?</a:t>
            </a:r>
            <a:r>
              <a:rPr b="0" lang="en-US" sz="2000" spc="-1" strike="noStrike">
                <a:solidFill>
                  <a:srgbClr val="7af2f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60440" y="4235400"/>
            <a:ext cx="8261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2bffff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f2f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af2f2"/>
                </a:solidFill>
                <a:latin typeface="Arial"/>
              </a:rPr>
              <a:t>A quels moments intervenir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2bffff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f2f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af2f2"/>
                </a:solidFill>
                <a:latin typeface="Arial"/>
              </a:rPr>
              <a:t>Y-a-t-il des moments clé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28760" y="3305160"/>
            <a:ext cx="83376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’observance est une variable dynamique qui fluctue tout au long du sui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72440" y="6280200"/>
            <a:ext cx="1838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22720" y="297000"/>
            <a:ext cx="4262400" cy="6297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799160" y="5653080"/>
            <a:ext cx="12157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231920" y="825480"/>
            <a:ext cx="8078760" cy="4557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333440" y="6280200"/>
            <a:ext cx="8777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ttp://counselingvih.org</a:t>
            </a:r>
            <a:r>
              <a:rPr b="0" lang="fr-FR" sz="1400" spc="-1" strike="noStrike">
                <a:solidFill>
                  <a:srgbClr val="000020"/>
                </a:solidFill>
                <a:latin typeface="Arial"/>
              </a:rPr>
              <a:t>         Un projet </a:t>
            </a:r>
            <a:r>
              <a:rPr b="0" i="1" lang="fr-FR" sz="1400" spc="-1" strike="noStrike">
                <a:solidFill>
                  <a:srgbClr val="000020"/>
                </a:solidFill>
                <a:latin typeface="Arial"/>
              </a:rPr>
              <a:t>Counseling, Santé et Développement</a:t>
            </a:r>
            <a:r>
              <a:rPr b="0" lang="fr-FR" sz="1400" spc="-1" strike="noStrike">
                <a:solidFill>
                  <a:srgbClr val="000020"/>
                </a:solidFill>
                <a:latin typeface="Arial"/>
              </a:rPr>
              <a:t> &amp; </a:t>
            </a:r>
            <a:r>
              <a:rPr b="0" i="1" lang="fr-FR" sz="14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i="1" lang="fr-FR" sz="14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i="1" lang="fr-FR" sz="14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560520"/>
            <a:ext cx="9753480" cy="82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ffff"/>
                </a:solidFill>
                <a:latin typeface="Arial"/>
              </a:rPr>
              <a:t>Préalables à l’interven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9920" y="1750680"/>
            <a:ext cx="8399520" cy="128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’observance est associée à des facteurs liés au vécu des traitements et aux événements survenant dans la vie du pat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90680" y="3168720"/>
            <a:ext cx="83995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2bffff"/>
              </a:buClr>
              <a:buSzPct val="12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ffff"/>
                </a:solidFill>
                <a:latin typeface="Arial"/>
              </a:rPr>
              <a:t>Comment aider le patient à réduire les obstacles rencontrés dans son suivi de soin et dans la prise de son traitement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72440" y="6280200"/>
            <a:ext cx="1838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96360"/>
            <a:ext cx="9753480" cy="8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ffff"/>
                </a:solidFill>
                <a:latin typeface="Arial"/>
              </a:rPr>
              <a:t>Principes d’orientation pour  </a:t>
            </a:r>
            <a:br>
              <a:rPr sz="2800"/>
            </a:br>
            <a:r>
              <a:rPr b="1" lang="en-US" sz="2800" spc="-1" strike="noStrike">
                <a:solidFill>
                  <a:srgbClr val="2bffff"/>
                </a:solidFill>
                <a:latin typeface="Arial"/>
              </a:rPr>
              <a:t>l’ élaboration d’un modèle d’interven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39560" y="1750680"/>
            <a:ext cx="835020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truction d’un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éfinition opérationnel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 l’observance thérapeu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51080" y="2903400"/>
            <a:ext cx="8137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ix d’un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pproche centrée sur la person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79440" y="3919680"/>
            <a:ext cx="815040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ion d’un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tervention brève et structur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85920" y="4842000"/>
            <a:ext cx="8286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se en œuvre de l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mation et du suivi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 équip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72440" y="6280200"/>
            <a:ext cx="1838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184320"/>
            <a:ext cx="975348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ffff"/>
                </a:solidFill>
                <a:latin typeface="Arial"/>
              </a:rPr>
              <a:t>1. une définition opérationnelle</a:t>
            </a: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75840" y="1287000"/>
            <a:ext cx="8388360" cy="134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’observance thérapeutique désigne le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aci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’une personne à prendre un traitement selon u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cription donné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98960" y="5571720"/>
            <a:ext cx="2987640" cy="9086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comportementau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771560" y="4927320"/>
            <a:ext cx="2368800" cy="52092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émotionne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259760" y="4897440"/>
            <a:ext cx="1968480" cy="52020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ciau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013280" y="4424400"/>
            <a:ext cx="3078000" cy="52020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cognitif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28760" y="2830680"/>
            <a:ext cx="8388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s capacités sont influencées positivement 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égativement pa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s co-facteu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qui interagiss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re eux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72440" y="6280200"/>
            <a:ext cx="1838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08760" y="4516560"/>
            <a:ext cx="248904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Émotionn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Vécu de la séropositivi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Vie affective, amoureuse et sexuel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certitude, dépression, stress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43120" y="4527720"/>
            <a:ext cx="2870280" cy="18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mportement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ratégies mises en place pour la prise des trait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Routi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Compétences et savoirs-fa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25600" y="1427040"/>
            <a:ext cx="208440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gniti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tiv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Att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Croyances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21360" y="1487520"/>
            <a:ext cx="22096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ci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outien de l’entour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Communication sur la séropositivité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Conditions sociales d’existenc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72440" y="6280200"/>
            <a:ext cx="1838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97000"/>
            <a:ext cx="975348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ffff"/>
                </a:solidFill>
                <a:latin typeface="Arial"/>
              </a:rPr>
              <a:t>2. Une approche centrée sur la personne</a:t>
            </a: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01480" y="1525680"/>
            <a:ext cx="83502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5335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 counseling spécifique fondé sur 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ostulat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90680" y="2654280"/>
            <a:ext cx="83502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personne ne doit pas disparaître derrière son trait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05080" y="3282840"/>
            <a:ext cx="840096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motivation est un processus dynamique qui se génère et s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ient sous certaines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92120" y="4125960"/>
            <a:ext cx="84632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’observance dépend des stratégies d’ajustement de la personne au traitement mais aussi à la séropositiv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95360" y="4903920"/>
            <a:ext cx="84502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 faut anticiper avec la personne un ensemble d’incidents critiques et le doter de compétences pour y faire f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72440" y="6280200"/>
            <a:ext cx="1838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96360"/>
            <a:ext cx="9753480" cy="8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ffff"/>
                </a:solidFill>
                <a:latin typeface="Arial"/>
              </a:rPr>
              <a:t>3. Une intervention brève et structurée</a:t>
            </a: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14000" y="1987560"/>
            <a:ext cx="835020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4 entretiens de couns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92120" y="2905200"/>
            <a:ext cx="83502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’intervenant dispose d’outil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07960" y="3722760"/>
            <a:ext cx="83505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guide d’entre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95360" y="4276800"/>
            <a:ext cx="83502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 fiche diagnostic observ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98600" y="4826160"/>
            <a:ext cx="83502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 fiche de suivi et d’é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72440" y="6280200"/>
            <a:ext cx="1838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20400"/>
            <a:ext cx="9753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ffff"/>
                </a:solidFill>
                <a:latin typeface="Arial"/>
              </a:rPr>
              <a:t>4. Formation et suivi des intervenants</a:t>
            </a:r>
            <a:endParaRPr b="0" lang="en-US" sz="2800" spc="-1" strike="noStrike">
              <a:solidFill>
                <a:srgbClr val="2b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14360" y="1336320"/>
            <a:ext cx="8972640" cy="88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 initiale des équipes et des intervenants de 5 à 8 jou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14360" y="3807000"/>
            <a:ext cx="8972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ivi et appui méthodologique (2 jours/trimestre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14360" y="4344840"/>
            <a:ext cx="835524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e des difficultés rencontrées dans la pratiqu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et au niveau institutionne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tudes de ca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stion de crise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14360" y="2290680"/>
            <a:ext cx="834408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bservance thérapeut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uns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à l’utilisation des outils de la consul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72440" y="6280200"/>
            <a:ext cx="1838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71742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20"/>
                </a:solidFill>
                <a:latin typeface="Arial"/>
              </a:rPr>
              <a:t>mment D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03:11:06Z</dcterms:created>
  <dc:creator>Papageno</dc:creator>
  <dc:description/>
  <dc:language>en-US</dc:language>
  <cp:lastModifiedBy>Maryline</cp:lastModifiedBy>
  <dcterms:modified xsi:type="dcterms:W3CDTF">2003-02-20T09:07:09Z</dcterms:modified>
  <cp:revision>159</cp:revision>
  <dc:subject/>
  <dc:title>Présentation PowerPoint</dc:title>
</cp:coreProperties>
</file>